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713-561D-4739-BDE5-1A94477E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E0E-5920-4740-AF9E-D4204FEF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D65-91D4-4BBA-A0D2-5202AA73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EA1-A425-4030-BBA6-5BC4E549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9370-883F-4C9B-9533-593D3596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7918-3816-41DB-B9F0-AD4DB6F2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AF8-88F9-49E5-B952-53007EB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96C-3E3A-40CB-A8EE-A3D7E618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23B-2871-4DE0-818E-A3FAF219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334F-E1B7-42A0-92C2-2498139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BDF-B92F-4EA8-9BAF-BFBC905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AFB-213A-421B-AA46-816EA457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068B-BC0B-4E18-9B2C-64DEB05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9E9A-23B7-4AA0-AF9A-026FB624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C630-DD67-4AF4-A385-A31A725E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AFA-B92C-4D79-B1D5-1FA5A8DD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C2B2-87F7-4A8B-BBC3-F7ED510B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1F2-14AA-4FC8-8CB6-3A42DA3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C50-F904-4E27-9727-AFE9C90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51D-2C05-4CAD-A7C5-2F4B080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54B-2EFC-4E62-B670-BA134414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8C4-1D82-4090-BB61-BE824D3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BC8-5DCE-45BE-96F8-36DF934B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126-668C-4F69-9F6F-F90F7E4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502-F860-4447-B927-9319CBD8C72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D436-AF21-46C6-A646-3DB74C910A1A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lay and splash in or as if in water, especially with the hand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682560" y="378000"/>
            <a:ext cx="7785000" cy="2047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uneasy or fearful about something that might happen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anxious, suspiciou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84120" y="225360"/>
            <a:ext cx="8570880" cy="2048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tering deeply into subjects of thought or knowledge; having deep insight or understand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eep, discern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2120" cy="1427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leased, especially with oneself or one's merits, advantages, situation, etc., often without awareness of some potential danger or defec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ynonyms: self-satisfied, unconcerne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51800" cy="190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illing or inclined to receive suggestions with favo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 hospitable, responsive, open. </a:t>
            </a:r>
            <a:br>
              <a:rPr sz="2600"/>
            </a:b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Ridicule or mockery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sdain, disparagement, scoffing, scorn, sneering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run with quick, hasty steps; scurry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hasten, hurry, scamper, scramble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eserving of reproof, rebuke, or censur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lameworthy, discreditabl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o crouch, as in fear or sha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cringe, recoil, flinc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ost in thought; preoccupi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Synonyms: bewildered or confused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loomily or sullenly ill-humored, as a person or m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make a dull, continued, low, monotonous sound; hum; buzz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rt or technique of conveying emotions, actions, feelings, etc., by gestures without speech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74680" y="1365120"/>
            <a:ext cx="8723160" cy="2054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ked by intricate and often excessive detail; complicate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consider thoroughly; think fully or deeply abo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01760" y="2432160"/>
            <a:ext cx="806580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hapter 2 Vocabulary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731880" y="378000"/>
            <a:ext cx="8034120" cy="2047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To indicate in advance or signify evil or har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nonyms: foreboding; threatening; inauspiciou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205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nding to lessen the merit or reputation of a person or th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ynonyms: disparaging; depreciator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5:20:15Z</dcterms:created>
  <dc:creator>setupuser</dc:creator>
  <dc:description/>
  <dc:language>en-US</dc:language>
  <cp:lastModifiedBy>jillstahl</cp:lastModifiedBy>
  <dcterms:modified xsi:type="dcterms:W3CDTF">2016-02-04T12:29:55Z</dcterms:modified>
  <cp:revision>438</cp:revision>
  <dc:subject/>
  <dc:title>Receptive (adjective)</dc:title>
</cp:coreProperties>
</file>