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0EB-2E61-4167-A1CF-DE746CCF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489-CF2D-46E8-81B2-483F94C0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559-C504-40F7-B229-EEC330E3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20C-CE56-4848-8CED-3A63B93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4FC-DDFB-44A5-B809-4B8BB56B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9122-64CD-4992-B212-A19CD3E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1409-3C00-4F6C-AC34-5F1688D2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9A6E-0881-412F-A5A5-59516E1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F95F-2F66-4C8C-B253-7494263A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547C-B773-4E66-9F94-0AB32D2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EBB4-9D8E-4E2D-B671-36428F6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38A-9E02-43CF-B438-71AEBC5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2869-5229-4A04-B3DE-FC78E25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87F-5DB6-4458-8E29-509F14E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910-413B-4E7D-A80D-28948BBE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058-4B99-42EA-BF42-71EF6184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6C0-5A6A-4140-82D8-3B4FEC3F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7A9-D9EC-4637-90A7-8950AA1B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4E7-6C4A-48BC-A2E6-DFBF534C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FF2-40EA-431C-91A5-DF0E3E9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AF1-8FEC-46F2-9522-004E575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D85-05E0-420F-B21F-FAFA6123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A77-14CE-4D1C-AEE5-8127ED3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A86-C152-4D57-8B5D-88B9C97F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DD8-184F-420C-B49C-BC13DE0DC24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D1B3-5AE4-4BDD-B887-F4399F6B709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lay and splash in or as if in water, especially with the hand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2047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uneasy or fearful about something that might happen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anxious, suspicio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84120" y="225360"/>
            <a:ext cx="857088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tering deeply into subjects of thought or knowledge; having deep insight or understand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eep, discern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2120" cy="142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leased, especially with oneself or one's merits, advantages, situation, etc., often without awareness of some potential danger or defec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ynonyms: self-satisfied, unconcerne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51800" cy="190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illing or inclined to receive suggestions with favo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 hospitable, responsive, open. </a:t>
            </a:r>
            <a:br>
              <a:rPr sz="2600"/>
            </a:b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idicule or mock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sdain, disparagement, scoffing, scorn, sneering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run with quick, hasty steps; scurry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hasten, hurry, scamper, scramb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eserving of reproof, rebuke, or censur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lameworthy, discreditabl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crouch, as in fear or sha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cringe, recoil, flinc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ost in thought; preoccupi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ewildered or confus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omily or sullenly ill-humored, as a person or m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make a dull, continued, low, monotonous sound; hum; buzz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rt or technique of conveying emotions, actions, feelings, etc., by gestures without speec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723160" cy="205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ed by intricate and often excessive detail; complicate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sider thoroughly; think fully or deeply abo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01760" y="2432160"/>
            <a:ext cx="806580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hapter 2 Vocabul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731880" y="378000"/>
            <a:ext cx="8034120" cy="204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To indicate in advance or signify evil or har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onyms: foreboding; threatening; inauspiciou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205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nding to lessen the merit or reputation of a person or th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isparaging; depreciator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0:15Z</dcterms:created>
  <dc:creator>setupuser</dc:creator>
  <dc:description/>
  <dc:language>en-US</dc:language>
  <cp:lastModifiedBy>jillstahl</cp:lastModifiedBy>
  <dcterms:modified xsi:type="dcterms:W3CDTF">2016-02-04T12:29:55Z</dcterms:modified>
  <cp:revision>438</cp:revision>
  <dc:subject/>
  <dc:title>Receptive (adjective)</dc:title>
</cp:coreProperties>
</file>