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C9E4-005B-4250-B9D1-2953FCA6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F9E-8D27-4F68-8079-4B65A8E3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189-CBE2-4E9B-8E6D-431EB156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989E-CFBA-409A-8190-5C34AED4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93E5-C2E1-4F6B-AC5F-375B302D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D381-F50B-482E-9122-256729AB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DE33-98A9-426B-94B3-40707F23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88DC-49FD-4921-99EE-CFE80006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250F-1DD2-4DB9-8FAE-D72F858A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7932-8863-4C08-9A49-F96DB751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2097-9B70-46ED-B23A-A92D33F8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32E3-B7B6-4F3E-B85B-2EAC2441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EB78-744F-449D-B364-F6E9DD2B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449C-183F-4DBA-81B0-EA076183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933F-8B05-460C-9C72-9C8E8986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CDEA-53B2-4BCE-ADAA-41DF10F2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FF15-FD60-4645-B0C3-18732396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6DB0-BB92-419B-B256-98D30A3D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D85-0D3E-417C-A671-EC371B8E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E39-E22F-4389-9C86-2DF2A4CE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1222-DC97-4C5B-A298-B1997D15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1D6-E0E6-4EE5-9EC3-0E3CC3F1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8AF-823E-4CD1-8409-17FFA958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D06-8BD0-4F0E-AED5-AB78B079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93DF-BD5C-48ED-885B-1752E3BA5D5B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9F96-CA30-47C6-A0DA-35ACE7199052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play and splash in or as if in water, especially with the hand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682560" y="378000"/>
            <a:ext cx="7785000" cy="2047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uneasy or fearful about something that might happen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anxious, suspiciou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384120" y="225360"/>
            <a:ext cx="8570880" cy="20480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entering deeply into subjects of thought or knowledge; having deep insight or understanding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ynonyms: deep, discerning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2120" cy="1427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leased, especially with oneself or one's merits, advantages, situation, etc., often without awareness of some potential danger or defec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Synonyms: self-satisfied, unconcerned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244440" y="974880"/>
            <a:ext cx="8551800" cy="190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447920" y="25905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willing or inclined to receive suggestions with favor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ynonyms:  hospitable, responsive, open. </a:t>
            </a:r>
            <a:br>
              <a:rPr sz="2600"/>
            </a:br>
            <a:br>
              <a:rPr sz="26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Ridicule or mockery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disdain, disparagement, scoffing, scorn, sneering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to run with quick, hasty steps; scurry.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hasten, hurry, scamper, scramble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deserving of reproof, rebuke, or censur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blameworthy, discreditabl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to crouch, as in fear or shame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cringe, recoil, flinch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Lost in thought; preoccupied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bewildered or confused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loomily or sullenly ill-humored, as a person or moo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make a dull, continued, low, monotonous sound; hum; buzz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art or technique of conveying emotions, actions, feelings, etc., by gestures without speech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723160" cy="2054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ked by intricate and often excessive detail; complicate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consider thoroughly; think fully or deeply abo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01760" y="2432160"/>
            <a:ext cx="8065800" cy="3498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Chapter 2 Vocabulary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731880" y="378000"/>
            <a:ext cx="8034120" cy="2047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22096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To indicate in advance or signify evil or harm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ynonyms: foreboding; threatening; inauspiciou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682560" y="450720"/>
            <a:ext cx="7785000" cy="2054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430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tending to lessen the merit or reputation of a person or thing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ynonyms: disparaging; depreciatory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5:20:15Z</dcterms:created>
  <dc:creator>setupuser</dc:creator>
  <dc:description/>
  <dc:language>en-US</dc:language>
  <cp:lastModifiedBy>jillstahl</cp:lastModifiedBy>
  <dcterms:modified xsi:type="dcterms:W3CDTF">2016-02-04T12:29:55Z</dcterms:modified>
  <cp:revision>438</cp:revision>
  <dc:subject/>
  <dc:title>Receptive (adjective)</dc:title>
</cp:coreProperties>
</file>