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C31-C998-45AC-8246-7F8AB6B7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74D-8B7F-40CD-B903-3B2DD7C0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F04-6791-4557-A85B-62D21209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954-8BF6-4CF3-9677-9F7D302D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5B3B-DBFB-47A1-BF79-FD4F9F1E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8136-92A0-4A3F-A4E4-F5C78E27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148D-C957-419D-AC74-976D0EA9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0B7B-EDBD-40E0-A00A-B72C72F1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BF9F-0B15-4624-98C6-807F9E95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A0C-2AFB-4370-A452-906078B9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F8F2-F16F-4164-90A1-792A32B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C8A-FDB5-4377-A62B-6083438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F994-7A20-4ED3-AE5D-548B01E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BFAE-C943-44ED-A327-0BB8110A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356B-8450-4862-9386-2C64ECBA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191F-F097-44B4-9D23-D4BA4304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475D-1949-4C2B-88A1-80F65B58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100-D4A5-45F6-BBA8-1E516EFA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7B6-D544-4A2D-80BB-DE075EE4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4EA-D1E3-4E6D-9F49-EB84EF31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D9A-7673-4EBA-9953-D1FA9990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41F-D19F-4FE2-9DF5-06632BC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395-7D30-4EAE-8AD7-7A7385B7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186-CA69-4ACC-BE8F-848F91B1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97BA-F888-4708-9CD3-F2A82B20455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5B3A-E76A-4D08-950E-19401545833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lay and splash in or as if in water, especially with the hand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682560" y="378000"/>
            <a:ext cx="7785000" cy="2047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uneasy or fearful about something that might happen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anxious, suspiciou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384120" y="225360"/>
            <a:ext cx="8570880" cy="2048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entering deeply into subjects of thought or knowledge; having deep insight or understand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eep, discern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2120" cy="1427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leased, especially with oneself or one's merits, advantages, situation, etc., often without awareness of some potential danger or defec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ynonyms: self-satisfied, unconcerne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44440" y="974880"/>
            <a:ext cx="8551800" cy="190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illing or inclined to receive suggestions with favor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 hospitable, responsive, open. </a:t>
            </a:r>
            <a:br>
              <a:rPr sz="2600"/>
            </a:br>
            <a:br>
              <a:rPr sz="26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idicule or mockery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isdain, disparagement, scoffing, scorn, sneering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run with quick, hasty steps; scurry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hasten, hurry, scamper, scramble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eserving of reproof, rebuke, or censur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lameworthy, discreditabl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crouch, as in fear or sha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cringe, recoil, flinc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Lost in thought; preoccupi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ewildered or confus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loomily or sullenly ill-humored, as a person or moo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make a dull, continued, low, monotonous sound; hum; buzz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rt or technique of conveying emotions, actions, feelings, etc., by gestures without speech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723160" cy="2054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ked by intricate and often excessive detail; complicate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consider thoroughly; think fully or deeply abo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01760" y="2432160"/>
            <a:ext cx="8065800" cy="349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hapter 2 Vocabulary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731880" y="378000"/>
            <a:ext cx="8034120" cy="204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To indicate in advance or signify evil or har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onyms: foreboding; threatening; inauspiciou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2054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ending to lessen the merit or reputation of a person or th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isparaging; depreciator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5:20:15Z</dcterms:created>
  <dc:creator>setupuser</dc:creator>
  <dc:description/>
  <dc:language>en-US</dc:language>
  <cp:lastModifiedBy>jillstahl</cp:lastModifiedBy>
  <dcterms:modified xsi:type="dcterms:W3CDTF">2016-02-04T12:29:55Z</dcterms:modified>
  <cp:revision>438</cp:revision>
  <dc:subject/>
  <dc:title>Receptive (adjective)</dc:title>
</cp:coreProperties>
</file>