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2498-0A01-48D9-90B4-7214AA313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619E-969F-4F80-BD01-C9DAE52004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786D-BA5A-463D-B9EF-9DD83B1433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B31F-8B5B-4328-A79D-C3B3473DD5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CE2A-4711-44F4-A69D-2B7B312F2F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DC7B-F118-4334-A399-40378CA1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6F29-7501-4C1D-AFD6-E3757D27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1A70-D2B2-47AA-9E68-BF369A00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0B5B-01D5-42FA-A2AA-EA3534AD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F02E-95AC-4CC5-89FF-591FF7E1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334C-5074-43D2-B348-31E977C4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9C55-2046-4A61-9144-E511BCF8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F893-79D6-4FAE-B717-6A6C945C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81E3-2A23-4578-A01F-FA88C326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92D4-6C70-4D94-87D5-8176DA83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1A00-6EA8-41CE-8EE0-36EB9DD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A112-7312-4891-8A69-853E331F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CCF5-332E-4763-A582-2300879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EABE-E660-41C7-BE91-A79180EB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DF50-D96B-4913-9977-4BC4F1BB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10B7-E1DE-4A6E-A7D0-8660783B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E639-0326-43E0-AD0E-1CE75647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2DFE-F800-4EFD-B4A6-D23B388C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5DAD-1EBE-427F-8C7C-295454F9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BBC9-E0CC-4C5A-AF75-F4271A69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EF22-6456-4B7C-A79D-AF258008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DEEEA-B15B-417B-B2A5-C7BA7ED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599A-802A-4466-8A45-4AE83631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51CC-B7FA-48CF-9826-05CAADB4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53C9-C005-4A4C-BF4E-56431E8AA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8009-C050-4849-841A-3A41F49BA0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36784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</a:t>
            </a:r>
            <a:endParaRPr b="1" lang="en-US" sz="9600" spc="-1" strike="noStrike">
              <a:solidFill>
                <a:srgbClr val="e5e5ff"/>
              </a:solidFill>
              <a:latin typeface="Lucida Sans"/>
            </a:endParaRPr>
          </a:p>
        </p:txBody>
      </p:sp>
      <p:pic>
        <p:nvPicPr>
          <p:cNvPr id="10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poetry-magnetic-pieces.jpg"/>
          <p:cNvPicPr/>
          <p:nvPr/>
        </p:nvPicPr>
        <p:blipFill>
          <a:blip r:embed="rId2"/>
          <a:stretch/>
        </p:blipFill>
        <p:spPr>
          <a:xfrm>
            <a:off x="533520" y="36576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 that cheek and o’er tha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d at peace with a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l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 Sche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attern of end rhymes in a po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ses are r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olets are B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am awes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so are y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o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Rhyme scheme =ABCB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oupl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pair of rhyming lines usually of the same meter and length.  It usually expresses a single idea and functions as a complete stanz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as men can breath, or eyes can s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lives this gives life to 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William Shakespeare, Sonnet 1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76360"/>
            <a:ext cx="7925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etition of consonant sounds at the beginnings of words.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,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 flew 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”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676520" y="3808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Assonance and Consonanc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Assonance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petition of vowel sounds within stresses syllables that end in different consonant sound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W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ly t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ged along th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y 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ne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Consonanc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Repetition of final consonant sounds in stressed syllables that have different vowel soun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the ne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s mo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 at 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y li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g sou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 eyes could </a:t>
            </a:r>
            <a:r>
              <a:rPr b="0" lang="en-US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laze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ke meteors”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066680" y="5335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3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peaker and Ton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Ton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the attitude projected toward the subject and audi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al tone features formal gramm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l tone may feature colloquial language (local idioms and slang expressions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Speak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serves the same function as the narrator in a stor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oetic Languag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ets combine literal and figurative language to generate layers of meaning or to invite a deeper understanding of a subje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irections: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py the definitions and examples from this presentation onto your “Elements of Poetry” pack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ite neatly, as you do not have a lot of space; feel free to shorten the longer definitions as long as you do not lose any essential informa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will need this packet to analyze poems and study for assessments in the future, so take good care of it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Lucida Sans"/>
              </a:rPr>
              <a:t>Denotation and Connotation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notation- a word’s dictionary defin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notations-the emotional associations a word evok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Car is a neutral word, however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unker” suggests an old, broken down vehic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assic” implies a car worthy of showing of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concrete details that appeal to the five sense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676520" y="609480"/>
            <a:ext cx="5943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105520" y="3124080"/>
            <a:ext cx="3504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d, wet leaves float on moss-colored water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676520" y="6094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5" descr="leaves"/>
          <p:cNvPicPr/>
          <p:nvPr/>
        </p:nvPicPr>
        <p:blipFill>
          <a:blip r:embed="rId1"/>
          <a:stretch/>
        </p:blipFill>
        <p:spPr>
          <a:xfrm>
            <a:off x="609480" y="3124080"/>
            <a:ext cx="403884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OND CREATURES 1.WAV" descr=""/>
          <p:cNvPicPr/>
          <p:nvPr/>
        </p:nvPicPr>
        <p:blipFill>
          <a:blip r:embed="rId2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7760" y="327672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hat departs from literal meaning in order to achieve a special effec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1447920" y="838080"/>
            <a:ext cx="6095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gura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2" name="Picture 3" descr="shakespeare-cartoon-225x300.jpg"/>
          <p:cNvPicPr/>
          <p:nvPr/>
        </p:nvPicPr>
        <p:blipFill>
          <a:blip r:embed="rId1"/>
          <a:stretch/>
        </p:blipFill>
        <p:spPr>
          <a:xfrm>
            <a:off x="533520" y="3276720"/>
            <a:ext cx="23428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rect comparison between two basically different things that is introduced by the words “like” or “as”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905120" y="685800"/>
            <a:ext cx="5333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14400" y="28954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love is like a 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d, red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se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1981080" y="4572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Object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2450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n implied comparison between two basically different things that is 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not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troduced with the words “like” or “as”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981080" y="838080"/>
            <a:ext cx="5334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 eyes were daggers that cut right through 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981080" y="7621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2" name="BACH - PHANTOM OF THE OPERA.WAV" descr=""/>
          <p:cNvPicPr/>
          <p:nvPr/>
        </p:nvPicPr>
        <p:blipFill>
          <a:blip r:embed="rId1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atBob_Av5"/>
          <p:cNvPicPr/>
          <p:nvPr/>
        </p:nvPicPr>
        <p:blipFill>
          <a:blip r:embed="rId2"/>
          <a:stretch/>
        </p:blipFill>
        <p:spPr>
          <a:xfrm>
            <a:off x="4876920" y="3048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uman characteristics are given to non-human animals, objects, or ideas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295280" y="7621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3581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n kissed the flower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1143000" y="30492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dictionary-plants-flowers.jpg"/>
          <p:cNvPicPr/>
          <p:nvPr/>
        </p:nvPicPr>
        <p:blipFill>
          <a:blip r:embed="rId2"/>
          <a:stretch/>
        </p:blipFill>
        <p:spPr>
          <a:xfrm>
            <a:off x="4648320" y="3200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tructure and Meter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oems consist of lines that may be organized into group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stanzas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Meter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s the rhythmic pattern establish by stresses or best within each line of a poem.  Meter is measured in unit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feet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eat exaggeration to emphasize strong feeling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2057400" y="685800"/>
            <a:ext cx="5105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876920" y="2971800"/>
            <a:ext cx="3200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backpack weighs a ton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752480" y="457200"/>
            <a:ext cx="5639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41ePo1WW5sL._AA280_.jpg"/>
          <p:cNvPicPr/>
          <p:nvPr/>
        </p:nvPicPr>
        <p:blipFill>
          <a:blip r:embed="rId2"/>
          <a:stretch/>
        </p:blipFill>
        <p:spPr>
          <a:xfrm>
            <a:off x="1219320" y="3048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idea or underlying meaning of a literary work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2286000" y="53352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504960" y="2590560"/>
            <a:ext cx="4800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judice is caused by people judging others without knowing them”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2209680" y="380880"/>
            <a:ext cx="4800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MYSTERIOUS 3.WAV" descr=""/>
          <p:cNvPicPr/>
          <p:nvPr/>
        </p:nvPicPr>
        <p:blipFill>
          <a:blip r:embed="rId1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n773.jpg"/>
          <p:cNvPicPr/>
          <p:nvPr/>
        </p:nvPicPr>
        <p:blipFill>
          <a:blip r:embed="rId2"/>
          <a:stretch/>
        </p:blipFill>
        <p:spPr>
          <a:xfrm>
            <a:off x="914400" y="2590920"/>
            <a:ext cx="2286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3160" y="3276360"/>
            <a:ext cx="4724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 without a regular pattern of meter (beat) or rhyme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828800" y="380880"/>
            <a:ext cx="5791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FREE VER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Picture 3" descr="journal.jpg"/>
          <p:cNvPicPr/>
          <p:nvPr/>
        </p:nvPicPr>
        <p:blipFill>
          <a:blip r:embed="rId1"/>
          <a:stretch/>
        </p:blipFill>
        <p:spPr>
          <a:xfrm>
            <a:off x="5410080" y="3505320"/>
            <a:ext cx="32432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Formal Vers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llows established patterns. Each standard poetic form has specific requirements regarding rhyme scheme, meter and line or stanza struct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Narrative Poem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and has a plot, characters, and a setting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common types of narrative poems are epic poems and balla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Epic Poem and Ballad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Epic Poem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long narrative poem about gods or heroes, such as “The Odyssey” by Hom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Ballad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shorter poem that describes a single event and may be set to music.  Most include short stanzas and a refrain that repeats several times, like a chorus in a so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ramat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using character’s own thoughts or spoken statements, is a component  of many classical play, in these plays noble characters may deliver rhythmic, poetic speeches, while lower-class characters speak in regular pro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so used to refer to poems in which one or more characters spea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Lyr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resses the feelings of a single speaker, using melodic language, imagery, rhythm, and sounds devices to express emotio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st common poetry in modern languag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the repetition of vowel and consonant sounds at the end of wor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proud and allow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rite down your own exampl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071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2209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ms of praise that often exhibit complex metrical patterns, specific rhyme schemes, and stanzas of ten or more lines each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Lucida Sans"/>
              </a:rPr>
              <a:t>Elegy</a:t>
            </a:r>
            <a:endParaRPr b="1" lang="en-US" sz="5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Poems of loss that express both praise for the dead and an element of consolat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Times New Roman"/>
                <a:ea typeface="Impact"/>
              </a:rPr>
              <a:t>SONNET</a:t>
            </a:r>
            <a:endParaRPr b="1" lang="en-US" sz="100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ourteen-line poem, that is divided into three quatrains (rhyming four-line stanzas) and a concluding couplet (pair of rhyming lines)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quatrain makes a point or gives an example, and the couplet sums it all up.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etrarch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 sonnet in which an eight-line stanza with an abbaabba rhyme scheme is followed by a six-line stanza with a cdecde rhyme schem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hakespeare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hree stanzas of four lines apiece have an abab/cdcd/efef rhyme scheme, followed by a two-line stanza with a gg rhyme scheme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Itali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other name for a Petrarchan sonn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Villanell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ineteen-line form with a pattern of repeated lines and a specific rhyme sche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nes are grouped in five, three-lined stanzas and one four line stanz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hyme scheme is aba, aba, aba, aba, aba, aba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ne 1 is repeated in lines 6, 12, and 18 and line 3 is repeated in likes 9, 15, and 1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Haiku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consists of three unrhymed lines of five, seven and five syllabl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heart aches with pa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I see you, I vom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, away from 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-Hyde, from That 70s Show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Tanka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has five unrhymed lines consisting of five, seven, five, seven, and seven syllab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un is blind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laring on the frozen lak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’s fire without warmt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neath the ice, the fish swim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blivious to seas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he repetition of  identical sounds at the ends of lines of poetry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120" y="2819160"/>
            <a:ext cx="4496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clasps the crag with crooked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ands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to the sun in lonely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nds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“The Eagle” by Alfred Lord Tennys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219320" y="457200"/>
            <a:ext cx="6933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Picture 5" descr="eagle"/>
          <p:cNvPicPr/>
          <p:nvPr/>
        </p:nvPicPr>
        <p:blipFill>
          <a:blip r:embed="rId1"/>
          <a:stretch/>
        </p:blipFill>
        <p:spPr>
          <a:xfrm>
            <a:off x="5715000" y="2971800"/>
            <a:ext cx="266688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90720" y="335268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The repetition of identical sounds </a:t>
            </a:r>
            <a:r>
              <a:rPr b="0" lang="en-US" sz="54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within</a:t>
            </a: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a line of poetry.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r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l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l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ros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taly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fi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palm of your han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er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an hour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42640" y="30477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lant rhyme or half rhyme occurs when the vowel sounds are not quite identical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1:56:49Z</dcterms:created>
  <dc:creator>NNTC</dc:creator>
  <dc:description/>
  <dc:language>en-US</dc:language>
  <cp:lastModifiedBy>jillstahl</cp:lastModifiedBy>
  <dcterms:modified xsi:type="dcterms:W3CDTF">2015-01-06T17:43:07Z</dcterms:modified>
  <cp:revision>137</cp:revision>
  <dc:subject/>
  <dc:title>POETIC TERMS</dc:title>
</cp:coreProperties>
</file>