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5D48-759C-4143-97FB-F8506486A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2F2A-3F09-4EC2-8D54-C57E3C9900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5F06-9DCF-45D0-BF31-8DF295D5F5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5244-0A04-4C37-AB0A-8DCC0BF9F4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19C4-26EA-4226-8184-9F058FE7B6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A2BF9-29DC-442A-9A94-82F3159D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0B1E2-C3CF-4A2A-A660-7D1EF93B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DC06B-45F1-4E83-B60A-9B9A9B34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3D24-F16D-4776-98BC-1878244B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0F60-4507-4548-AE3E-A0D31887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8734-8CDA-4732-8216-EE294B66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0150-0EE3-43E3-B541-305B88EA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D4D8-26B8-4337-B92D-10C9F6EE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8C48-1BB6-4641-A553-34C228A5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6A78-FA34-465D-A1A6-0379EFA4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1260-5620-4ACA-9920-B7201EEC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76A95-00D0-4D28-9B5E-A5C7BBCE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04D7-3CDB-43C5-8429-4ED283A6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DDB2-0D10-4C85-819A-22F6C793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22FE-1ECF-4D0F-B44A-7BDECB34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976D-ED89-4E88-AF87-9D43E0C4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1E47-7DF8-4D95-8D5B-22535529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0C47-2F37-4FA7-92F6-69479DDA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CAC6-CA9C-4DBB-B3DF-FE04325E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AF43-A17B-47F9-93CA-D792BF5E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6ACA3-0D11-4AC1-A6FA-C634B0B5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0321-ADFA-4C7D-9FCB-97C44DB1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C4C2-A7F2-44D8-B993-D35C9FED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EB5B1-0A0D-4F38-9A99-68BA0945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8A87-7440-4488-BFDD-8D0A164FD0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40E0-197C-43C4-AD9C-06A4A473FA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36784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TRY</a:t>
            </a:r>
            <a:endParaRPr b="1" lang="en-US" sz="9600" spc="-1" strike="noStrike">
              <a:solidFill>
                <a:srgbClr val="e5e5ff"/>
              </a:solidFill>
              <a:latin typeface="Lucida Sans"/>
            </a:endParaRPr>
          </a:p>
        </p:txBody>
      </p:sp>
      <p:pic>
        <p:nvPicPr>
          <p:cNvPr id="108" name="FOREBODING 2.WAV" descr=""/>
          <p:cNvPicPr/>
          <p:nvPr/>
        </p:nvPicPr>
        <p:blipFill>
          <a:blip r:embed="rId1"/>
          <a:stretch/>
        </p:blipFill>
        <p:spPr>
          <a:xfrm>
            <a:off x="4876920" y="7162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poetry-magnetic-pieces.jpg"/>
          <p:cNvPicPr/>
          <p:nvPr/>
        </p:nvPicPr>
        <p:blipFill>
          <a:blip r:embed="rId2"/>
          <a:stretch/>
        </p:blipFill>
        <p:spPr>
          <a:xfrm>
            <a:off x="533520" y="36576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on that cheek and o’er that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ow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nd at peace with all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low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523880" y="762120"/>
            <a:ext cx="6400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SLANT RHYME</a:t>
            </a:r>
            <a:endParaRPr b="0" i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Rhyme Schem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attern of end rhymes in a poe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ses are r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olets are Bl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am aweso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so are y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o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Rhyme scheme =ABCB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oupl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pair of rhyming lines usually of the same meter and length.  It usually expresses a single idea and functions as a complete stanz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 long as men can breath, or eyes can s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 long lives this gives life to 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William Shakespeare, Sonnet 18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76360"/>
            <a:ext cx="79250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petition of consonant sounds at the beginnings of words.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IT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ship"/>
          <p:cNvPicPr/>
          <p:nvPr/>
        </p:nvPicPr>
        <p:blipFill>
          <a:blip r:embed="rId1"/>
          <a:stretch/>
        </p:blipFill>
        <p:spPr>
          <a:xfrm>
            <a:off x="4495680" y="3002040"/>
            <a:ext cx="4267440" cy="2789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" y="3047760"/>
            <a:ext cx="4191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ftly,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ftly flew the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p”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676520" y="380880"/>
            <a:ext cx="5943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IT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320040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Assonance and Consonanc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Assonance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petition of vowel sounds within stresses syllables that end in different consonant sound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We 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ly t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ged along the 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y 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nel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Consonanc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Repetition of final consonant sounds in stressed syllables that have different vowel soun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the ne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s mo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 at 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y li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g sou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 of words whose sounds suggest the sounds made by objects or activities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ONOMATOPOEIA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120" y="297144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ind eyes could </a:t>
            </a:r>
            <a:r>
              <a:rPr b="0" lang="en-US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laze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ke meteors”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1066680" y="5335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ONOMATOPOEIA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Comment 5"/>
          <p:cNvSpPr/>
          <p:nvPr/>
        </p:nvSpPr>
        <p:spPr>
          <a:xfrm>
            <a:off x="25920" y="15840"/>
            <a:ext cx="1767240" cy="7077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33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, hum, kis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meteors"/>
          <p:cNvPicPr/>
          <p:nvPr/>
        </p:nvPicPr>
        <p:blipFill>
          <a:blip r:embed="rId1"/>
          <a:stretch/>
        </p:blipFill>
        <p:spPr>
          <a:xfrm>
            <a:off x="4191120" y="2971800"/>
            <a:ext cx="4190760" cy="3314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3886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5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peaker and Ton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Ton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the attitude projected toward the subject and audie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mal tone features formal gramm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ormal tone may feature colloquial language (local idioms and slang expressions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Speaker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serves the same function as the narrator in a stor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Poetic Languag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ets combine literal and figurative language to generate layers of meaning or to invite a deeper understanding of a subjec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Directions: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py the definitions and examples from this presentation onto your “Elements of Poetry” pack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rite neatly, as you do not have a lot of space; feel free to shorten the longer definitions as long as you do not lose any essential informa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will need this packet to analyze poems and study for assessments in the future, so take good care of it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Lucida Sans"/>
              </a:rPr>
              <a:t>Denotation and Connotation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notation- a word’s dictionary defin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notations-the emotional associations a word evok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Car is a neutral word, however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unker” suggests an old, broken down vehic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assic” implies a car worthy of showing off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 of concrete details that appeal to the five senses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676520" y="609480"/>
            <a:ext cx="59436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AG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105520" y="3124080"/>
            <a:ext cx="35049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d, wet leaves float on moss-colored water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676520" y="609480"/>
            <a:ext cx="5867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AG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8" name="Picture 5" descr="leaves"/>
          <p:cNvPicPr/>
          <p:nvPr/>
        </p:nvPicPr>
        <p:blipFill>
          <a:blip r:embed="rId1"/>
          <a:stretch/>
        </p:blipFill>
        <p:spPr>
          <a:xfrm>
            <a:off x="609480" y="3124080"/>
            <a:ext cx="403884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POND CREATURES 1.WAV" descr=""/>
          <p:cNvPicPr/>
          <p:nvPr/>
        </p:nvPicPr>
        <p:blipFill>
          <a:blip r:embed="rId2"/>
          <a:stretch/>
        </p:blipFill>
        <p:spPr>
          <a:xfrm>
            <a:off x="48006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7760" y="3276720"/>
            <a:ext cx="5715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hat departs from literal meaning in order to achieve a special effec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WordArt 8"/>
          <p:cNvSpPr txBox="1"/>
          <p:nvPr/>
        </p:nvSpPr>
        <p:spPr>
          <a:xfrm>
            <a:off x="1447920" y="838080"/>
            <a:ext cx="60958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gurat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2" name="Picture 3" descr="shakespeare-cartoon-225x300.jpg"/>
          <p:cNvPicPr/>
          <p:nvPr/>
        </p:nvPicPr>
        <p:blipFill>
          <a:blip r:embed="rId1"/>
          <a:stretch/>
        </p:blipFill>
        <p:spPr>
          <a:xfrm>
            <a:off x="533520" y="3276720"/>
            <a:ext cx="23428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29718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rect comparison between two basically different things that is introduced by the words “like” or “as”.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905120" y="685800"/>
            <a:ext cx="53337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914400" y="28954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love is like a 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d, red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se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1981080" y="45720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7" name="Object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2450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n implied comparison between two basically different things that is 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not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introduced with the words “like” or “as”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981080" y="838080"/>
            <a:ext cx="5334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 eyes were daggers that cut right through me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1981080" y="7621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2" name="BACH - PHANTOM OF THE OPERA.WAV" descr=""/>
          <p:cNvPicPr/>
          <p:nvPr/>
        </p:nvPicPr>
        <p:blipFill>
          <a:blip r:embed="rId1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FatBob_Av5"/>
          <p:cNvPicPr/>
          <p:nvPr/>
        </p:nvPicPr>
        <p:blipFill>
          <a:blip r:embed="rId2"/>
          <a:stretch/>
        </p:blipFill>
        <p:spPr>
          <a:xfrm>
            <a:off x="4876920" y="30481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42640" y="342900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Human characteristics are given to non-human animals, objects, or ideas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295280" y="762120"/>
            <a:ext cx="6782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35812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n kissed the flowers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1143000" y="304920"/>
            <a:ext cx="6858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480060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dictionary-plants-flowers.jpg"/>
          <p:cNvPicPr/>
          <p:nvPr/>
        </p:nvPicPr>
        <p:blipFill>
          <a:blip r:embed="rId2"/>
          <a:stretch/>
        </p:blipFill>
        <p:spPr>
          <a:xfrm>
            <a:off x="4648320" y="32004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tructure and Meter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oems consist of lines that may be organized into groups calle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stanzas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Meter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is the rhythmic pattern establish by stresses or best within each line of a poem.  Meter is measured in units calle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feet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reat exaggeration to emphasize strong feeling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2057400" y="685800"/>
            <a:ext cx="5105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HYPERBO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876920" y="2971800"/>
            <a:ext cx="3200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backpack weighs a ton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1752480" y="457200"/>
            <a:ext cx="56390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HYPERBO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4495680" y="7162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41ePo1WW5sL._AA280_.jpg"/>
          <p:cNvPicPr/>
          <p:nvPr/>
        </p:nvPicPr>
        <p:blipFill>
          <a:blip r:embed="rId2"/>
          <a:stretch/>
        </p:blipFill>
        <p:spPr>
          <a:xfrm>
            <a:off x="1219320" y="30481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29718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idea or underlying meaning of a literary work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2286000" y="533520"/>
            <a:ext cx="480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THE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504960" y="2590560"/>
            <a:ext cx="4800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judice is caused by people judging others without knowing them”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2209680" y="380880"/>
            <a:ext cx="48006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THE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0" name="MYSTERIOUS 3.WAV" descr=""/>
          <p:cNvPicPr/>
          <p:nvPr/>
        </p:nvPicPr>
        <p:blipFill>
          <a:blip r:embed="rId1"/>
          <a:stretch/>
        </p:blipFill>
        <p:spPr>
          <a:xfrm>
            <a:off x="4876920" y="7238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n773.jpg"/>
          <p:cNvPicPr/>
          <p:nvPr/>
        </p:nvPicPr>
        <p:blipFill>
          <a:blip r:embed="rId2"/>
          <a:stretch/>
        </p:blipFill>
        <p:spPr>
          <a:xfrm>
            <a:off x="914400" y="2590920"/>
            <a:ext cx="228600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33160" y="3276360"/>
            <a:ext cx="47242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try without a regular pattern of meter (beat) or rhyme.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828800" y="380880"/>
            <a:ext cx="57913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FREE VER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4" name="Picture 3" descr="journal.jpg"/>
          <p:cNvPicPr/>
          <p:nvPr/>
        </p:nvPicPr>
        <p:blipFill>
          <a:blip r:embed="rId1"/>
          <a:stretch/>
        </p:blipFill>
        <p:spPr>
          <a:xfrm>
            <a:off x="5410080" y="3505320"/>
            <a:ext cx="3243240" cy="25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Formal Vers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llows established patterns. Each standard poetic form has specific requirements regarding rhyme scheme, meter and line or stanza struct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Narrative Poem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lls a story and has a plot, characters, and a setting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wo common types of narrative poems are epic poems and balla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Epic Poem and Ballad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Epic Poem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a long narrative poem about gods or heroes, such as “The Odyssey” by Hom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Ballad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a shorter poem that describes a single event and may be set to music.  Most include short stanzas and a refrain that repeats several times, like a chorus in a so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Dramatic Poetry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lls a story using character’s own thoughts or spoken statements, is a component  of many classical play, in these plays noble characters may deliver rhythmic, poetic speeches, while lower-class characters speak in regular pro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so used to refer to poems in which one or more characters speak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Lyric Poetry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presses the feelings of a single speaker, using melodic language, imagery, rhythm, and sounds devices to express emotion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st common poetry in modern language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RHYM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the repetition of vowel and consonant sounds at the end of wor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proud and allow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rite down your own example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450720" y="-328680"/>
            <a:ext cx="8242560" cy="2071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2209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ms of praise that often exhibit complex metrical patterns, specific rhyme schemes, and stanzas of ten or more lines each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Lucida Sans"/>
              </a:rPr>
              <a:t>Elegy</a:t>
            </a:r>
            <a:endParaRPr b="1" lang="en-US" sz="5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Poems of loss that express both praise for the dead and an element of consolation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Times New Roman"/>
                <a:ea typeface="Impact"/>
              </a:rPr>
              <a:t>SONNET</a:t>
            </a:r>
            <a:endParaRPr b="1" lang="en-US" sz="100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ourteen-line poem, that is divided into three quatrains (rhyming four-line stanzas) and a concluding couplet (pair of rhyming lines)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quatrain makes a point or gives an example, and the couplet sums it all up.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Petrarch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 sonnet in which an eight-line stanza with an abbaabba rhyme scheme is followed by a six-line stanza with a cdecde rhyme schem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hakespeare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hree stanzas of four lines apiece have an abab/cdcd/efef rhyme scheme, followed by a two-line stanza with a gg rhyme scheme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Itali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other name for a Petrarchan sonne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Villanell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ineteen-line form with a pattern of repeated lines and a specific rhyme schem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lines are grouped in five, three-lined stanzas and one four line stanz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hyme scheme is aba, aba, aba, aba, aba, aba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ne 1 is repeated in lines 6, 12, and 18 and line 3 is repeated in likes 9, 15, and 1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Haiku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form of Japanese poetry that consists of three unrhymed lines of five, seven and five syllabl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heart aches with pai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I see you, I vomi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e, away from m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-Hyde, from That 70s Show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Tanka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form of Japanese poetry that has five unrhymed lines consisting of five, seven, five, seven, and seven syllab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un is blinding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laring on the frozen lake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’s fire without warmth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neath the ice, the fish swim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blivious to seas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he repetition of  identical sounds at the ends of lines of poetry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219320" y="914400"/>
            <a:ext cx="6933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D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120" y="2819160"/>
            <a:ext cx="44960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clasps the crag with crooked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ands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to the sun in lonely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nds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“The Eagle” by Alfred Lord Tennys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219320" y="457200"/>
            <a:ext cx="6933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D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20" name="Picture 5" descr="eagle"/>
          <p:cNvPicPr/>
          <p:nvPr/>
        </p:nvPicPr>
        <p:blipFill>
          <a:blip r:embed="rId1"/>
          <a:stretch/>
        </p:blipFill>
        <p:spPr>
          <a:xfrm>
            <a:off x="5715000" y="2971800"/>
            <a:ext cx="266688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990720" y="335268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The repetition of identical sounds </a:t>
            </a:r>
            <a:r>
              <a:rPr b="0" lang="en-US" sz="54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within</a:t>
            </a:r>
            <a:r>
              <a:rPr b="0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a line of poetry.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1066680" y="685800"/>
            <a:ext cx="7239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AL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r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all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l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ros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Italy.”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l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fin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e palm of your hand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tern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an hour.”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1066680" y="685800"/>
            <a:ext cx="7239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AL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142640" y="304776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lant rhyme or half rhyme occurs when the vowel sounds are not quite identical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523880" y="762120"/>
            <a:ext cx="6400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SLANT RHYME</a:t>
            </a:r>
            <a:endParaRPr b="0" i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1:56:49Z</dcterms:created>
  <dc:creator>NNTC</dc:creator>
  <dc:description/>
  <dc:language>en-US</dc:language>
  <cp:lastModifiedBy>jillstahl</cp:lastModifiedBy>
  <dcterms:modified xsi:type="dcterms:W3CDTF">2015-01-06T17:43:07Z</dcterms:modified>
  <cp:revision>137</cp:revision>
  <dc:subject/>
  <dc:title>POETIC TERMS</dc:title>
</cp:coreProperties>
</file>