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.xml" ContentType="application/vnd.openxmlformats-officedocument.presentationml.notesSlide+xml"/>
  <Override PartName="/ppt/notesSlides/_rels/notesSlide2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4.png" ContentType="image/png"/>
  <Override PartName="/ppt/media/image9.png" ContentType="image/pn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wmf" ContentType="image/x-wmf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Lucida Sans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Lucida San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DA4B2-BF01-44EC-B292-E75EBB6FF8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89607-0433-4396-9A98-39D0AFD3D39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2712C-2FB6-4129-AD2A-04C27C90A72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59798-6622-47B6-A624-9A51FE2DE46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72FB1-3FA2-4971-8FC2-392D745CE3E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CE22FC-67C8-46F7-AFA7-7F825D5E7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Lucida San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E9159E-DD75-4A15-8804-C92D06F0D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Lucida San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DE58F5-7829-4D08-9390-83861C9A9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Lucida San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FE7C2B-E334-4CF7-B5BA-798A31E80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86171-0ADD-4557-AA29-84935BEC0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Lucida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732B5-68B8-4635-B005-B7DED40A6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Lucida San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2BA79-E659-44B2-A249-1808EE31F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Lucida 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FF7F8-6F9F-4A41-8AA8-563A2627D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FC4DA-895C-4F3D-91E3-048BBB27B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46748-AD55-4BD9-B506-293E77F99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Lucida 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7FC0E-57FE-4BAB-813A-C32EE04EE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726F62-90CE-4AFD-9EAF-5E2D6F3D0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Lucida San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B050B-BB79-46B7-B6C5-5988E7721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Lucida San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A5ECE-6C5E-4351-89C9-C4425D017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Lucida San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20E88-8255-4F66-8A88-5119B35BC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Lucida 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1F4A1-48A2-4200-B24B-286E5E26E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Lucida San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3E020-31B5-4861-BB5F-16A7CF7D7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Lucida 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E1FB94-9BCE-4886-B1D0-C31B83FDF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01AAE7-AF77-4900-A96A-BA9326347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858ADA-FF8E-4FFF-A49F-EDE9F0A7F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DC79CC-7753-475C-AAF2-3CDDFCBB2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Lucida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64C0DD-F47D-44EF-A11B-D26CEEA88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Lucida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A3D5BE-1E24-432F-AC8C-5F97C0C5F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Lucida San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D12C69-70BB-4DBA-84CE-8D7B418F9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432AE-48D7-4BC0-AFFE-3C5AD5E0488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514"/>
                  </a:gs>
                  <a:gs pos="100000">
                    <a:srgbClr val="00051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514"/>
                  </a:gs>
                  <a:gs pos="100000">
                    <a:srgbClr val="00051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410"/>
                  </a:gs>
                  <a:gs pos="100000">
                    <a:srgbClr val="00051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05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412"/>
                  </a:gs>
                  <a:gs pos="100000">
                    <a:srgbClr val="00051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0411"/>
                </a:gs>
                <a:gs pos="100000">
                  <a:srgbClr val="00051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051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Lucida Sans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Lucida Sans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1" marL="727920" indent="-28008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2" marL="1119960" indent="-22392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3" marL="1568160" indent="-22392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4" marL="2016000" indent="-2239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5" marL="2016000" indent="-22392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6" marL="2016000" indent="-22392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514"/>
                  </a:gs>
                  <a:gs pos="100000">
                    <a:srgbClr val="00051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514"/>
                  </a:gs>
                  <a:gs pos="100000">
                    <a:srgbClr val="00051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410"/>
                  </a:gs>
                  <a:gs pos="100000">
                    <a:srgbClr val="00051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05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412"/>
                  </a:gs>
                  <a:gs pos="100000">
                    <a:srgbClr val="00051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0411"/>
                </a:gs>
                <a:gs pos="100000">
                  <a:srgbClr val="00051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051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Lucida Sans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1" marL="727920" indent="-28008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2" marL="1119960" indent="-22392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3" marL="1568160" indent="-22392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4" marL="2016000" indent="-2239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5" marL="2016000" indent="-22392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6" marL="2016000" indent="-22392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D44A2-3A39-4E88-B938-8BDAC5CD780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944280"/>
            <a:ext cx="8367840" cy="170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ETRY</a:t>
            </a:r>
            <a:endParaRPr b="1" lang="en-US" sz="9600" spc="-1" strike="noStrike">
              <a:solidFill>
                <a:srgbClr val="e5e5ff"/>
              </a:solidFill>
              <a:latin typeface="Lucida Sans"/>
            </a:endParaRPr>
          </a:p>
        </p:txBody>
      </p:sp>
      <p:pic>
        <p:nvPicPr>
          <p:cNvPr id="108" name="FOREBODING 2.WAV" descr=""/>
          <p:cNvPicPr/>
          <p:nvPr/>
        </p:nvPicPr>
        <p:blipFill>
          <a:blip r:embed="rId1"/>
          <a:stretch/>
        </p:blipFill>
        <p:spPr>
          <a:xfrm>
            <a:off x="4876920" y="71629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3" descr="poetry-magnetic-pieces.jpg"/>
          <p:cNvPicPr/>
          <p:nvPr/>
        </p:nvPicPr>
        <p:blipFill>
          <a:blip r:embed="rId2"/>
          <a:stretch/>
        </p:blipFill>
        <p:spPr>
          <a:xfrm>
            <a:off x="533520" y="3657600"/>
            <a:ext cx="2819160" cy="2819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on that cheek and o’er that </a:t>
            </a:r>
            <a:r>
              <a:rPr b="0" lang="en-US" sz="4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brow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”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mind at peace with all </a:t>
            </a:r>
            <a:r>
              <a:rPr b="0" lang="en-US" sz="4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below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”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8" name="WordArt 4"/>
          <p:cNvSpPr txBox="1"/>
          <p:nvPr/>
        </p:nvSpPr>
        <p:spPr>
          <a:xfrm>
            <a:off x="1523880" y="762120"/>
            <a:ext cx="6400800" cy="1904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514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75000"/>
                    </a:srgbClr>
                  </a:outerShdw>
                </a:effectLst>
                <a:latin typeface="Times New Roman"/>
              </a:rPr>
              <a:t>SLANT RHYME</a:t>
            </a:r>
            <a:endParaRPr b="0" i="1" lang="en-US" sz="1800" spc="1" strike="noStrike">
              <a:ln w="9360">
                <a:solidFill>
                  <a:srgbClr val="000514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75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Lucida Sans"/>
              </a:rPr>
              <a:t>Rhyme Scheme</a:t>
            </a:r>
            <a:endParaRPr b="1" lang="en-US" sz="4400" spc="-1" strike="noStrike">
              <a:solidFill>
                <a:srgbClr val="e5e5ff"/>
              </a:solidFill>
              <a:latin typeface="Lucida Sans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Pattern of end rhymes in a poem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Ex: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Roses are red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Violets are Bl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Book Antiqua"/>
              </a:rPr>
              <a:t>u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I am awesom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nd so are y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Book Antiqua"/>
              </a:rPr>
              <a:t>ou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!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(Rhyme scheme =ABCB)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Lucida Sans"/>
              </a:rPr>
              <a:t>Couplet</a:t>
            </a:r>
            <a:endParaRPr b="1" lang="en-US" sz="4400" spc="-1" strike="noStrike">
              <a:solidFill>
                <a:srgbClr val="e5e5ff"/>
              </a:solidFill>
              <a:latin typeface="Lucida Sans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A pair of rhyming lines usually of the same meter and length.  It usually expresses a single idea and functions as a complete stanza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Ex: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1" marL="690840" indent="-265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o long as men can breath, or eyes can s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Book Antiqua"/>
              </a:rPr>
              <a:t>ee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,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690840" indent="-265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o long lives this gives life to th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Book Antiqua"/>
              </a:rPr>
              <a:t>e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690840" indent="-265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-William Shakespeare, Sonnet 18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09480" y="3276360"/>
            <a:ext cx="792504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repetition of consonant sounds at the beginnings of words.</a:t>
            </a:r>
            <a:endParaRPr b="0" lang="en-US" sz="5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4" name="WordArt 4"/>
          <p:cNvSpPr txBox="1"/>
          <p:nvPr/>
        </p:nvSpPr>
        <p:spPr>
          <a:xfrm>
            <a:off x="1676520" y="533520"/>
            <a:ext cx="5943600" cy="213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LLITERATIO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5" descr="ship"/>
          <p:cNvPicPr/>
          <p:nvPr/>
        </p:nvPicPr>
        <p:blipFill>
          <a:blip r:embed="rId1"/>
          <a:stretch/>
        </p:blipFill>
        <p:spPr>
          <a:xfrm>
            <a:off x="4495680" y="3002040"/>
            <a:ext cx="4267440" cy="278928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28600" y="3047760"/>
            <a:ext cx="419112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0" lang="en-US" sz="5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S</a:t>
            </a:r>
            <a:r>
              <a:rPr b="0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ftly, </a:t>
            </a:r>
            <a:r>
              <a:rPr b="0" lang="en-US" sz="5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s</a:t>
            </a:r>
            <a:r>
              <a:rPr b="0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ftly flew the </a:t>
            </a:r>
            <a:r>
              <a:rPr b="0" lang="en-US" sz="5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s</a:t>
            </a:r>
            <a:r>
              <a:rPr b="0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ip”</a:t>
            </a:r>
            <a:endParaRPr b="0" lang="en-US" sz="5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7" name="WordArt 4"/>
          <p:cNvSpPr txBox="1"/>
          <p:nvPr/>
        </p:nvSpPr>
        <p:spPr>
          <a:xfrm>
            <a:off x="1676520" y="380880"/>
            <a:ext cx="5943600" cy="198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LLITERATIO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138" name="Picture 7" descr=""/>
          <p:cNvPicPr/>
          <p:nvPr/>
        </p:nvPicPr>
        <p:blipFill>
          <a:blip r:embed="rId2"/>
          <a:stretch/>
        </p:blipFill>
        <p:spPr>
          <a:xfrm>
            <a:off x="3200400" y="7238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Lucida Sans"/>
              </a:rPr>
              <a:t>Assonance and Consonance</a:t>
            </a:r>
            <a:endParaRPr b="1" lang="en-US" sz="4400" spc="-1" strike="noStrike">
              <a:solidFill>
                <a:srgbClr val="e5e5ff"/>
              </a:solidFill>
              <a:latin typeface="Lucida Sans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Book Antiqua"/>
              </a:rPr>
              <a:t>Assonance</a:t>
            </a:r>
            <a:r>
              <a:rPr b="1" lang="en-US" sz="3200" spc="-1" strike="noStrike">
                <a:solidFill>
                  <a:srgbClr val="ffffff"/>
                </a:solidFill>
                <a:latin typeface="Book Antiqua"/>
              </a:rPr>
              <a:t>- 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Repetition of vowel sounds within stresses syllables that end in different consonant sounds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294840" indent="-294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Book Antiqua"/>
              </a:rPr>
              <a:t>Ex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: We d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Book Antiqua"/>
              </a:rPr>
              <a:t>u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lly tr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Book Antiqua"/>
              </a:rPr>
              <a:t>u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dged along the d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Book Antiqua"/>
              </a:rPr>
              <a:t>u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ty t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Book Antiqua"/>
              </a:rPr>
              <a:t>u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nnel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294840" indent="-2948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Book Antiqua"/>
              </a:rPr>
              <a:t>Consonance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- Repetition of final consonant sounds in stressed syllables that have different vowel sounds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294840" indent="-294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Book Antiqua"/>
              </a:rPr>
              <a:t>Ex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: the ner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Book Antiqua"/>
              </a:rPr>
              <a:t>v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ous mo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Book Antiqua"/>
              </a:rPr>
              <a:t>v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e at e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Book Antiqua"/>
              </a:rPr>
              <a:t>v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ery li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Book Antiqua"/>
              </a:rPr>
              <a:t>v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ing sound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837720" y="3200040"/>
            <a:ext cx="75438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use of words whose sounds suggest the sounds made by objects or activities.</a:t>
            </a:r>
            <a:endParaRPr b="0" lang="en-US" sz="4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2" name="WordArt 4"/>
          <p:cNvSpPr txBox="1"/>
          <p:nvPr/>
        </p:nvSpPr>
        <p:spPr>
          <a:xfrm>
            <a:off x="1066680" y="762120"/>
            <a:ext cx="731520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75000"/>
                    </a:srgbClr>
                  </a:outerShdw>
                </a:effectLst>
                <a:latin typeface="Times New Roman"/>
              </a:rPr>
              <a:t>ONOMATOPOEIA</a:t>
            </a:r>
            <a:endParaRPr b="0" i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75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609120" y="2971440"/>
            <a:ext cx="34290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0" lang="en-US" sz="5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lind eyes could </a:t>
            </a:r>
            <a:r>
              <a:rPr b="0" lang="en-US" sz="50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blaze</a:t>
            </a:r>
            <a:r>
              <a:rPr b="0" lang="en-US" sz="5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like meteors”</a:t>
            </a:r>
            <a:endParaRPr b="0" lang="en-US" sz="5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4" name="WordArt 4"/>
          <p:cNvSpPr txBox="1"/>
          <p:nvPr/>
        </p:nvSpPr>
        <p:spPr>
          <a:xfrm>
            <a:off x="1066680" y="533520"/>
            <a:ext cx="731520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75000"/>
                    </a:srgbClr>
                  </a:outerShdw>
                </a:effectLst>
                <a:latin typeface="Times New Roman"/>
              </a:rPr>
              <a:t>ONOMATOPOEIA</a:t>
            </a:r>
            <a:endParaRPr b="0" i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75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45" name="Comment 5"/>
          <p:cNvSpPr/>
          <p:nvPr/>
        </p:nvSpPr>
        <p:spPr>
          <a:xfrm>
            <a:off x="25920" y="15840"/>
            <a:ext cx="1767240" cy="70776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3399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ther examples: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zz, hum, kiss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6" name="Picture 6" descr="meteors"/>
          <p:cNvPicPr/>
          <p:nvPr/>
        </p:nvPicPr>
        <p:blipFill>
          <a:blip r:embed="rId1"/>
          <a:stretch/>
        </p:blipFill>
        <p:spPr>
          <a:xfrm>
            <a:off x="4191120" y="2971800"/>
            <a:ext cx="4190760" cy="33148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7" descr=""/>
          <p:cNvPicPr/>
          <p:nvPr/>
        </p:nvPicPr>
        <p:blipFill>
          <a:blip r:embed="rId2"/>
          <a:stretch/>
        </p:blipFill>
        <p:spPr>
          <a:xfrm>
            <a:off x="3886200" y="70866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4000"/>
                            </p:stCondLst>
                            <p:childTnLst>
                              <p:par>
                                <p:cTn id="2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" dur="1500" fill="hold"/>
                                        <p:tgtEl>
                                          <p:spTgt spid="1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500"/>
                            </p:stCondLst>
                            <p:childTnLst>
                              <p:par>
                                <p:cTn id="24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Lucida Sans"/>
              </a:rPr>
              <a:t>Speaker and Tone</a:t>
            </a:r>
            <a:endParaRPr b="1" lang="en-US" sz="4400" spc="-1" strike="noStrike">
              <a:solidFill>
                <a:srgbClr val="e5e5ff"/>
              </a:solidFill>
              <a:latin typeface="Lucida Sans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Book Antiqua"/>
              </a:rPr>
              <a:t>Tone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: the attitude projected toward the subject and audience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1" marL="705600" indent="-2714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rmal tone features formal grammar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705600" indent="-2714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Informal tone may feature colloquial language (local idioms and slang expressions)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Book Antiqua"/>
              </a:rPr>
              <a:t>Speaker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: serves the same function as the narrator in a story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Lucida Sans"/>
              </a:rPr>
              <a:t>Poetic Language</a:t>
            </a:r>
            <a:endParaRPr b="1" lang="en-US" sz="4400" spc="-1" strike="noStrike">
              <a:solidFill>
                <a:srgbClr val="e5e5ff"/>
              </a:solidFill>
              <a:latin typeface="Lucida Sans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Poets combine literal and figurative language to generate layers of meaning or to invite a deeper understanding of a subject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Lucida Sans"/>
              </a:rPr>
              <a:t>Directions:</a:t>
            </a:r>
            <a:endParaRPr b="1" lang="en-US" sz="4400" spc="-1" strike="noStrike">
              <a:solidFill>
                <a:srgbClr val="e5e5ff"/>
              </a:solidFill>
              <a:latin typeface="Lucida Sans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opy the definitions and examples from this presentation onto your “Elements of Poetry” packet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25800" indent="-3258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Write neatly, as you do not have a lot of space; feel free to shorten the longer definitions as long as you do not lose any essential information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25800" indent="-3258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You will need this packet to analyze poems and study for assessments in the future, so take good care of it!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e5ff"/>
                </a:solidFill>
                <a:latin typeface="Lucida Sans"/>
              </a:rPr>
              <a:t>Denotation and Connotation</a:t>
            </a:r>
            <a:endParaRPr b="1" lang="en-US" sz="4400" spc="-1" strike="noStrike">
              <a:solidFill>
                <a:srgbClr val="e5e5ff"/>
              </a:solidFill>
              <a:latin typeface="Lucida Sans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Denotation- a word’s dictionary definition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Connotations-the emotional associations a word evokes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1" marL="727920" indent="-280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Book Antiqua"/>
              </a:rPr>
              <a:t>Ex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: Car is a neutral word, however…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19960" indent="-22392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Junker” suggests an old, broken down vehicle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1119960" indent="-22392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Classic” implies a car worthy of showing off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837720" y="3276720"/>
            <a:ext cx="769644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use of concrete details that appeal to the five senses.</a:t>
            </a:r>
            <a:endParaRPr b="0" lang="en-US" sz="6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5" name="WordArt 4"/>
          <p:cNvSpPr txBox="1"/>
          <p:nvPr/>
        </p:nvSpPr>
        <p:spPr>
          <a:xfrm>
            <a:off x="1676520" y="609480"/>
            <a:ext cx="5943600" cy="221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MAGER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5105520" y="3124080"/>
            <a:ext cx="350496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ld, wet leaves float on moss-colored water.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7" name="WordArt 4"/>
          <p:cNvSpPr txBox="1"/>
          <p:nvPr/>
        </p:nvSpPr>
        <p:spPr>
          <a:xfrm>
            <a:off x="1676520" y="609480"/>
            <a:ext cx="586728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MAGER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158" name="Picture 5" descr="leaves"/>
          <p:cNvPicPr/>
          <p:nvPr/>
        </p:nvPicPr>
        <p:blipFill>
          <a:blip r:embed="rId1"/>
          <a:stretch/>
        </p:blipFill>
        <p:spPr>
          <a:xfrm>
            <a:off x="609480" y="3124080"/>
            <a:ext cx="4038840" cy="3200400"/>
          </a:xfrm>
          <a:prstGeom prst="rect">
            <a:avLst/>
          </a:prstGeom>
          <a:ln w="0">
            <a:noFill/>
          </a:ln>
        </p:spPr>
      </p:pic>
      <p:pic>
        <p:nvPicPr>
          <p:cNvPr id="159" name="POND CREATURES 1.WAV" descr=""/>
          <p:cNvPicPr/>
          <p:nvPr/>
        </p:nvPicPr>
        <p:blipFill>
          <a:blip r:embed="rId2"/>
          <a:stretch/>
        </p:blipFill>
        <p:spPr>
          <a:xfrm>
            <a:off x="4800600" y="7162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" dur="1" fill="hold"/>
                                        <p:tgtEl>
                                          <p:spTgt spid="1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7760" y="3276720"/>
            <a:ext cx="57150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guage that departs from literal meaning in order to achieve a special effect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1" name="WordArt 8"/>
          <p:cNvSpPr txBox="1"/>
          <p:nvPr/>
        </p:nvSpPr>
        <p:spPr>
          <a:xfrm>
            <a:off x="1447920" y="838080"/>
            <a:ext cx="6095880" cy="175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Figurativ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anguag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162" name="Picture 3" descr="shakespeare-cartoon-225x300.jpg"/>
          <p:cNvPicPr/>
          <p:nvPr/>
        </p:nvPicPr>
        <p:blipFill>
          <a:blip r:embed="rId1"/>
          <a:stretch/>
        </p:blipFill>
        <p:spPr>
          <a:xfrm>
            <a:off x="533520" y="3276720"/>
            <a:ext cx="2342880" cy="312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609480" y="2971800"/>
            <a:ext cx="78487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1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direct comparison between two basically different things that is introduced by the words “like” or “as”.</a:t>
            </a:r>
            <a:endParaRPr b="0" lang="en-US" sz="4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4" name="WordArt 4"/>
          <p:cNvSpPr txBox="1"/>
          <p:nvPr/>
        </p:nvSpPr>
        <p:spPr>
          <a:xfrm>
            <a:off x="1905120" y="685800"/>
            <a:ext cx="53337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IMIL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914400" y="2895480"/>
            <a:ext cx="41148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y love is like a </a:t>
            </a:r>
            <a:r>
              <a:rPr b="0" lang="en-US" sz="6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red, red </a:t>
            </a:r>
            <a:r>
              <a:rPr b="0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se.</a:t>
            </a:r>
            <a:endParaRPr b="0" lang="en-US" sz="6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6" name="WordArt 4"/>
          <p:cNvSpPr txBox="1"/>
          <p:nvPr/>
        </p:nvSpPr>
        <p:spPr>
          <a:xfrm>
            <a:off x="1981080" y="457200"/>
            <a:ext cx="525780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IMIL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167" name="Object 2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2450880" cy="342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609120" y="3276720"/>
            <a:ext cx="8001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 Antiqua"/>
              </a:rPr>
              <a:t>An implied comparison between two basically different things that is </a:t>
            </a:r>
            <a:r>
              <a:rPr b="1" lang="en-US" sz="4000" spc="-1" strike="noStrike">
                <a:solidFill>
                  <a:srgbClr val="ffffff"/>
                </a:solidFill>
                <a:latin typeface="Book Antiqua"/>
              </a:rPr>
              <a:t>not </a:t>
            </a:r>
            <a:r>
              <a:rPr b="0" lang="en-US" sz="4000" spc="-1" strike="noStrike">
                <a:solidFill>
                  <a:srgbClr val="ffffff"/>
                </a:solidFill>
                <a:latin typeface="Book Antiqua"/>
              </a:rPr>
              <a:t>introduced with the words “like” or “as”.</a:t>
            </a: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9" name="WordArt 4"/>
          <p:cNvSpPr txBox="1"/>
          <p:nvPr/>
        </p:nvSpPr>
        <p:spPr>
          <a:xfrm>
            <a:off x="1981080" y="838080"/>
            <a:ext cx="5334120" cy="175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ETAPHO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685440" y="3429000"/>
            <a:ext cx="380988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is eyes were daggers that cut right through me.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1" name="WordArt 4"/>
          <p:cNvSpPr txBox="1"/>
          <p:nvPr/>
        </p:nvSpPr>
        <p:spPr>
          <a:xfrm>
            <a:off x="1981080" y="762120"/>
            <a:ext cx="533412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ETAPHO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172" name="BACH - PHANTOM OF THE OPERA.WAV" descr=""/>
          <p:cNvPicPr/>
          <p:nvPr/>
        </p:nvPicPr>
        <p:blipFill>
          <a:blip r:embed="rId1"/>
          <a:stretch/>
        </p:blipFill>
        <p:spPr>
          <a:xfrm>
            <a:off x="4572000" y="71629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1" descr="FatBob_Av5"/>
          <p:cNvPicPr/>
          <p:nvPr/>
        </p:nvPicPr>
        <p:blipFill>
          <a:blip r:embed="rId2"/>
          <a:stretch/>
        </p:blipFill>
        <p:spPr>
          <a:xfrm>
            <a:off x="4876920" y="3048120"/>
            <a:ext cx="3047760" cy="3047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1142640" y="3429000"/>
            <a:ext cx="70866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Human characteristics are given to non-human animals, objects, or ideas.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5" name="WordArt 5"/>
          <p:cNvSpPr txBox="1"/>
          <p:nvPr/>
        </p:nvSpPr>
        <p:spPr>
          <a:xfrm>
            <a:off x="1295280" y="762120"/>
            <a:ext cx="678204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ERSONIFICATIO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3581280"/>
            <a:ext cx="403848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sun kissed the flowers.</a:t>
            </a:r>
            <a:endParaRPr b="0" lang="en-US" sz="4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7" name="WordArt 4"/>
          <p:cNvSpPr txBox="1"/>
          <p:nvPr/>
        </p:nvSpPr>
        <p:spPr>
          <a:xfrm>
            <a:off x="1143000" y="304920"/>
            <a:ext cx="685800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ERSONIFICATIO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178" name="Picture 6" descr=""/>
          <p:cNvPicPr/>
          <p:nvPr/>
        </p:nvPicPr>
        <p:blipFill>
          <a:blip r:embed="rId1"/>
          <a:stretch/>
        </p:blipFill>
        <p:spPr>
          <a:xfrm>
            <a:off x="4800600" y="70866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5" descr="dictionary-plants-flowers.jpg"/>
          <p:cNvPicPr/>
          <p:nvPr/>
        </p:nvPicPr>
        <p:blipFill>
          <a:blip r:embed="rId2"/>
          <a:stretch/>
        </p:blipFill>
        <p:spPr>
          <a:xfrm>
            <a:off x="4648320" y="3200400"/>
            <a:ext cx="3809880" cy="2857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Lucida Sans"/>
              </a:rPr>
              <a:t>Structure and Meter</a:t>
            </a:r>
            <a:endParaRPr b="1" lang="en-US" sz="4400" spc="-1" strike="noStrike">
              <a:solidFill>
                <a:srgbClr val="e5e5ff"/>
              </a:solidFill>
              <a:latin typeface="Lucida Sans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ok Antiqua"/>
              </a:rPr>
              <a:t>Poems consist of lines that may be organized into groups called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Book Antiqua"/>
              </a:rPr>
              <a:t>stanzas</a:t>
            </a:r>
            <a:r>
              <a:rPr b="0" lang="en-US" sz="3600" spc="-1" strike="noStrike">
                <a:solidFill>
                  <a:srgbClr val="ffffff"/>
                </a:solidFill>
                <a:latin typeface="Book Antiqua"/>
              </a:rPr>
              <a:t>.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Book Antiqua"/>
              </a:rPr>
              <a:t>Meter </a:t>
            </a:r>
            <a:r>
              <a:rPr b="0" lang="en-US" sz="3600" spc="-1" strike="noStrike">
                <a:solidFill>
                  <a:srgbClr val="ffffff"/>
                </a:solidFill>
                <a:latin typeface="Book Antiqua"/>
              </a:rPr>
              <a:t>is the rhythmic pattern establish by stresses or best within each line of a poem.  Meter is measured in units called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Book Antiqua"/>
              </a:rPr>
              <a:t>feet.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1371600" y="3352680"/>
            <a:ext cx="640080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great exaggeration to emphasize strong feeling.</a:t>
            </a:r>
            <a:endParaRPr b="0" lang="en-US" sz="4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81" name="WordArt 4"/>
          <p:cNvSpPr txBox="1"/>
          <p:nvPr/>
        </p:nvSpPr>
        <p:spPr>
          <a:xfrm>
            <a:off x="2057400" y="685800"/>
            <a:ext cx="510552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ffffff"/>
                </a:solidFill>
                <a:effectLst>
                  <a:outerShdw dist="53966" dir="2700000" blurRad="0" rotWithShape="0">
                    <a:srgbClr val="9999ff">
                      <a:alpha val="75000"/>
                    </a:srgbClr>
                  </a:outerShdw>
                </a:effectLst>
                <a:latin typeface="Times New Roman"/>
              </a:rPr>
              <a:t>HYPERBOLE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ffffff"/>
              </a:solidFill>
              <a:effectLst>
                <a:outerShdw dist="53966" dir="2700000" blurRad="0" rotWithShape="0">
                  <a:srgbClr val="9999ff">
                    <a:alpha val="75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876920" y="2971800"/>
            <a:ext cx="32004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y backpack weighs a ton.</a:t>
            </a:r>
            <a:endParaRPr b="0" lang="en-US" sz="5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83" name="WordArt 4"/>
          <p:cNvSpPr txBox="1"/>
          <p:nvPr/>
        </p:nvSpPr>
        <p:spPr>
          <a:xfrm>
            <a:off x="1752480" y="457200"/>
            <a:ext cx="563904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ffffff"/>
                </a:solidFill>
                <a:effectLst>
                  <a:outerShdw dist="53966" dir="2700000" blurRad="0" rotWithShape="0">
                    <a:srgbClr val="9999ff">
                      <a:alpha val="75000"/>
                    </a:srgbClr>
                  </a:outerShdw>
                </a:effectLst>
                <a:latin typeface="Times New Roman"/>
              </a:rPr>
              <a:t>HYPERBOLE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ffffff"/>
              </a:solidFill>
              <a:effectLst>
                <a:outerShdw dist="53966" dir="2700000" blurRad="0" rotWithShape="0">
                  <a:srgbClr val="9999ff">
                    <a:alpha val="75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84" name="Picture 6" descr=""/>
          <p:cNvPicPr/>
          <p:nvPr/>
        </p:nvPicPr>
        <p:blipFill>
          <a:blip r:embed="rId1"/>
          <a:stretch/>
        </p:blipFill>
        <p:spPr>
          <a:xfrm>
            <a:off x="4495680" y="71629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7" descr="41ePo1WW5sL._AA280_.jpg"/>
          <p:cNvPicPr/>
          <p:nvPr/>
        </p:nvPicPr>
        <p:blipFill>
          <a:blip r:embed="rId2"/>
          <a:stretch/>
        </p:blipFill>
        <p:spPr>
          <a:xfrm>
            <a:off x="1219320" y="3048120"/>
            <a:ext cx="3124080" cy="312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609480" y="2971800"/>
            <a:ext cx="784872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main idea or underlying meaning of a literary work.</a:t>
            </a:r>
            <a:endParaRPr b="0" lang="en-US" sz="6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87" name="WordArt 4"/>
          <p:cNvSpPr txBox="1"/>
          <p:nvPr/>
        </p:nvSpPr>
        <p:spPr>
          <a:xfrm>
            <a:off x="2286000" y="533520"/>
            <a:ext cx="480060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ffffff"/>
                </a:solidFill>
                <a:effectLst>
                  <a:outerShdw dist="53966" dir="2700000" blurRad="0" rotWithShape="0">
                    <a:srgbClr val="9999ff">
                      <a:alpha val="75000"/>
                    </a:srgbClr>
                  </a:outerShdw>
                </a:effectLst>
                <a:latin typeface="Times New Roman"/>
              </a:rPr>
              <a:t>THEME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ffffff"/>
              </a:solidFill>
              <a:effectLst>
                <a:outerShdw dist="53966" dir="2700000" blurRad="0" rotWithShape="0">
                  <a:srgbClr val="9999ff">
                    <a:alpha val="75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ubTitle"/>
          </p:nvPr>
        </p:nvSpPr>
        <p:spPr>
          <a:xfrm>
            <a:off x="3504960" y="2590560"/>
            <a:ext cx="48006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judice is caused by people judging others without knowing them”</a:t>
            </a:r>
            <a:endParaRPr b="0" lang="en-US" sz="4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89" name="WordArt 4"/>
          <p:cNvSpPr txBox="1"/>
          <p:nvPr/>
        </p:nvSpPr>
        <p:spPr>
          <a:xfrm>
            <a:off x="2209680" y="380880"/>
            <a:ext cx="4800600" cy="175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ffffff"/>
                </a:solidFill>
                <a:effectLst>
                  <a:outerShdw dist="53966" dir="2700000" blurRad="0" rotWithShape="0">
                    <a:srgbClr val="9999ff">
                      <a:alpha val="75000"/>
                    </a:srgbClr>
                  </a:outerShdw>
                </a:effectLst>
                <a:latin typeface="Times New Roman"/>
              </a:rPr>
              <a:t>THEME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ffffff"/>
              </a:solidFill>
              <a:effectLst>
                <a:outerShdw dist="53966" dir="2700000" blurRad="0" rotWithShape="0">
                  <a:srgbClr val="9999ff">
                    <a:alpha val="75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90" name="MYSTERIOUS 3.WAV" descr=""/>
          <p:cNvPicPr/>
          <p:nvPr/>
        </p:nvPicPr>
        <p:blipFill>
          <a:blip r:embed="rId1"/>
          <a:stretch/>
        </p:blipFill>
        <p:spPr>
          <a:xfrm>
            <a:off x="4876920" y="7238880"/>
            <a:ext cx="533160" cy="53352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7" descr="n773.jpg"/>
          <p:cNvPicPr/>
          <p:nvPr/>
        </p:nvPicPr>
        <p:blipFill>
          <a:blip r:embed="rId2"/>
          <a:stretch/>
        </p:blipFill>
        <p:spPr>
          <a:xfrm>
            <a:off x="914400" y="2590920"/>
            <a:ext cx="2286000" cy="3744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ntr" presetID="2" presetSubtype="8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33160" y="3276360"/>
            <a:ext cx="472428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1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etry without a regular pattern of meter (beat) or rhyme.</a:t>
            </a:r>
            <a:endParaRPr b="0" lang="en-US" sz="4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3" name="WordArt 4"/>
          <p:cNvSpPr txBox="1"/>
          <p:nvPr/>
        </p:nvSpPr>
        <p:spPr>
          <a:xfrm>
            <a:off x="1828800" y="380880"/>
            <a:ext cx="579132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ffffff"/>
                </a:solidFill>
                <a:effectLst>
                  <a:outerShdw dist="53966" dir="2700000" blurRad="0" rotWithShape="0">
                    <a:srgbClr val="9999ff">
                      <a:alpha val="75000"/>
                    </a:srgbClr>
                  </a:outerShdw>
                </a:effectLst>
                <a:latin typeface="Times New Roman"/>
              </a:rPr>
              <a:t>FREE VERSE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ffffff"/>
              </a:solidFill>
              <a:effectLst>
                <a:outerShdw dist="53966" dir="2700000" blurRad="0" rotWithShape="0">
                  <a:srgbClr val="9999ff">
                    <a:alpha val="75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94" name="Picture 3" descr="journal.jpg"/>
          <p:cNvPicPr/>
          <p:nvPr/>
        </p:nvPicPr>
        <p:blipFill>
          <a:blip r:embed="rId1"/>
          <a:stretch/>
        </p:blipFill>
        <p:spPr>
          <a:xfrm>
            <a:off x="5410080" y="3505320"/>
            <a:ext cx="3243240" cy="2593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Lucida Sans"/>
              </a:rPr>
              <a:t>Formal Verse</a:t>
            </a:r>
            <a:endParaRPr b="1" lang="en-US" sz="4400" spc="-1" strike="noStrike">
              <a:solidFill>
                <a:srgbClr val="e5e5ff"/>
              </a:solidFill>
              <a:latin typeface="Lucida Sans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Follows established patterns. Each standard poetic form has specific requirements regarding rhyme scheme, meter and line or stanza structure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Lucida Sans"/>
              </a:rPr>
              <a:t>Narrative Poem</a:t>
            </a:r>
            <a:endParaRPr b="1" lang="en-US" sz="4400" spc="-1" strike="noStrike">
              <a:solidFill>
                <a:srgbClr val="e5e5ff"/>
              </a:solidFill>
              <a:latin typeface="Lucida Sans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Tells a story and has a plot, characters, and a setting. 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Two common types of narrative poems are epic poems and ballads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Lucida Sans"/>
              </a:rPr>
              <a:t>Epic Poem and Ballad</a:t>
            </a:r>
            <a:endParaRPr b="1" lang="en-US" sz="4400" spc="-1" strike="noStrike">
              <a:solidFill>
                <a:srgbClr val="e5e5ff"/>
              </a:solidFill>
              <a:latin typeface="Lucida Sans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Book Antiqua"/>
              </a:rPr>
              <a:t>Epic Poem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- a long narrative poem about gods or heroes, such as “The Odyssey” by Homer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Book Antiqua"/>
              </a:rPr>
              <a:t>Ballad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- a shorter poem that describes a single event and may be set to music.  Most include short stanzas and a refrain that repeats several times, like a chorus in a song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Lucida Sans"/>
              </a:rPr>
              <a:t>Dramatic Poetry</a:t>
            </a:r>
            <a:endParaRPr b="1" lang="en-US" sz="4400" spc="-1" strike="noStrike">
              <a:solidFill>
                <a:srgbClr val="e5e5ff"/>
              </a:solidFill>
              <a:latin typeface="Lucida Sans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Tells a story using character’s own thoughts or spoken statements, is a component  of many classical play, in these plays noble characters may deliver rhythmic, poetic speeches, while lower-class characters speak in regular prose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Also used to refer to poems in which one or more characters speak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Lucida Sans"/>
              </a:rPr>
              <a:t>Lyric Poetry</a:t>
            </a:r>
            <a:endParaRPr b="1" lang="en-US" sz="4400" spc="-1" strike="noStrike">
              <a:solidFill>
                <a:srgbClr val="e5e5ff"/>
              </a:solidFill>
              <a:latin typeface="Lucida Sans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Expresses the feelings of a single speaker, using melodic language, imagery, rhythm, and sounds devices to express emotions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Most common poetry in modern language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Lucida Sans"/>
              </a:rPr>
              <a:t>RHYME</a:t>
            </a:r>
            <a:endParaRPr b="1" lang="en-US" sz="4400" spc="-1" strike="noStrike">
              <a:solidFill>
                <a:srgbClr val="e5e5ff"/>
              </a:solidFill>
              <a:latin typeface="Lucida Sans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Is the repetition of vowel and consonant sounds at the end of words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Ex: proud and allowed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Write down your own example!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Title 1" descr=""/>
          <p:cNvPicPr/>
          <p:nvPr/>
        </p:nvPicPr>
        <p:blipFill>
          <a:blip r:embed="rId1"/>
          <a:stretch/>
        </p:blipFill>
        <p:spPr>
          <a:xfrm>
            <a:off x="450720" y="-328680"/>
            <a:ext cx="8242560" cy="207180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 txBox="1"/>
          <p:nvPr/>
        </p:nvSpPr>
        <p:spPr>
          <a:xfrm>
            <a:off x="457200" y="2209680"/>
            <a:ext cx="822960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 algn="ctr">
              <a:lnSpc>
                <a:spcPct val="100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ems of praise that often exhibit complex metrical patterns, specific rhyme schemes, and stanzas of ten or more lines each</a:t>
            </a:r>
            <a:endParaRPr b="0" lang="en-US" sz="5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5e5ff"/>
                </a:solidFill>
                <a:latin typeface="Lucida Sans"/>
              </a:rPr>
              <a:t>Elegy</a:t>
            </a:r>
            <a:endParaRPr b="1" lang="en-US" sz="5400" spc="-1" strike="noStrike">
              <a:solidFill>
                <a:srgbClr val="e5e5ff"/>
              </a:solidFill>
              <a:latin typeface="Lucida Sans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Book Antiqua"/>
              </a:rPr>
              <a:t>Poems of loss that express both praise for the dead and an element of consolation</a:t>
            </a:r>
            <a:endParaRPr b="0" lang="en-US" sz="4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ffffff"/>
                </a:solidFill>
                <a:latin typeface="Times New Roman"/>
                <a:ea typeface="Impact"/>
              </a:rPr>
              <a:t>SONNET</a:t>
            </a:r>
            <a:endParaRPr b="1" lang="en-US" sz="10000" spc="-1" strike="noStrike">
              <a:solidFill>
                <a:srgbClr val="e5e5ff"/>
              </a:solidFill>
              <a:latin typeface="Lucida Sans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7985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fourteen-line poem, that is divided into three quatrains (rhyming four-line stanzas) and a concluding couplet (pair of rhyming lines)</a:t>
            </a:r>
            <a:endParaRPr b="0" lang="en-US" sz="3800" spc="-1" strike="noStrike">
              <a:solidFill>
                <a:srgbClr val="ffffff"/>
              </a:solidFill>
              <a:latin typeface="Book Antiqua"/>
            </a:endParaRPr>
          </a:p>
          <a:p>
            <a:pPr marL="514440" indent="-514440">
              <a:lnSpc>
                <a:spcPct val="10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ch quatrain makes a point or gives an example, and the couplet sums it all up.</a:t>
            </a:r>
            <a:endParaRPr b="0" lang="en-US" sz="3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Lucida Sans"/>
              </a:rPr>
              <a:t>Petrarchan Sonnet</a:t>
            </a:r>
            <a:endParaRPr b="1" lang="en-US" sz="4400" spc="-1" strike="noStrike">
              <a:solidFill>
                <a:srgbClr val="e5e5ff"/>
              </a:solidFill>
              <a:latin typeface="Lucida Sans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A sonnet in which an eight-line stanza with an abbaabba rhyme scheme is followed by a six-line stanza with a cdecde rhyme scheme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Lucida Sans"/>
              </a:rPr>
              <a:t>Shakespearean Sonnet</a:t>
            </a:r>
            <a:endParaRPr b="1" lang="en-US" sz="4400" spc="-1" strike="noStrike">
              <a:solidFill>
                <a:srgbClr val="e5e5ff"/>
              </a:solidFill>
              <a:latin typeface="Lucida Sans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Three stanzas of four lines apiece have an abab/cdcd/efef rhyme scheme, followed by a two-line stanza with a gg rhyme scheme 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Lucida Sans"/>
              </a:rPr>
              <a:t>Italian Sonnet</a:t>
            </a:r>
            <a:endParaRPr b="1" lang="en-US" sz="4400" spc="-1" strike="noStrike">
              <a:solidFill>
                <a:srgbClr val="e5e5ff"/>
              </a:solidFill>
              <a:latin typeface="Lucida Sans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Another name for a Petrarchan sonnet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Lucida Sans"/>
              </a:rPr>
              <a:t>Villanelle</a:t>
            </a:r>
            <a:endParaRPr b="1" lang="en-US" sz="4400" spc="-1" strike="noStrike">
              <a:solidFill>
                <a:srgbClr val="e5e5ff"/>
              </a:solidFill>
              <a:latin typeface="Lucida Sans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Nineteen-line form with a pattern of repeated lines and a specific rhyme scheme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1" marL="676080" indent="-25992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e lines are grouped in five, three-lined stanzas and one four line stanza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676080" indent="-25992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Rhyme scheme is aba, aba, aba, aba, aba, abaa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676080" indent="-25992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Line 1 is repeated in lines 6, 12, and 18 and line 3 is repeated in likes 9, 15, and 19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Lucida Sans"/>
              </a:rPr>
              <a:t>Haiku</a:t>
            </a:r>
            <a:endParaRPr b="1" lang="en-US" sz="4400" spc="-1" strike="noStrike">
              <a:solidFill>
                <a:srgbClr val="e5e5ff"/>
              </a:solidFill>
              <a:latin typeface="Lucida Sans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A form of Japanese poetry that consists of three unrhymed lines of five, seven and five syllables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39480" indent="-3394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Example: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735480" indent="-282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My heart aches with pain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735480" indent="-282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When I see you, I vomit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735480" indent="-282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Die, away from me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735480" indent="-282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(-Hyde, from That 70s Show)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Lucida Sans"/>
              </a:rPr>
              <a:t>Tanka</a:t>
            </a:r>
            <a:endParaRPr b="1" lang="en-US" sz="4400" spc="-1" strike="noStrike">
              <a:solidFill>
                <a:srgbClr val="e5e5ff"/>
              </a:solidFill>
              <a:latin typeface="Lucida Sans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A form of Japanese poetry that has five unrhymed lines consisting of five, seven, five, seven, and seven syllables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1" marL="690840" indent="-26568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Example: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062720" indent="-2124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e sun is blinding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1062720" indent="-2124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Glaring on the frozen lake,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1062720" indent="-2124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It’s fire without warmth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1062720" indent="-2124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Beneath the ice, the fish swim,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1062720" indent="-2124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Oblivious to season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457200" y="3352320"/>
            <a:ext cx="82296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The repetition of  identical sounds at the ends of lines of poetry.</a:t>
            </a:r>
            <a:endParaRPr b="0" lang="en-US" sz="4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7" name="WordArt 4"/>
          <p:cNvSpPr txBox="1"/>
          <p:nvPr/>
        </p:nvSpPr>
        <p:spPr>
          <a:xfrm>
            <a:off x="1219320" y="914400"/>
            <a:ext cx="693396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END RHY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609120" y="2819160"/>
            <a:ext cx="449604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0" lang="en-US" sz="3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e clasps the crag with crooked </a:t>
            </a:r>
            <a:r>
              <a:rPr b="0" lang="en-US" sz="3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ands</a:t>
            </a:r>
            <a:endParaRPr b="0" lang="en-US" sz="38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ose to the sun in lonely </a:t>
            </a:r>
            <a:r>
              <a:rPr b="0" lang="en-US" sz="3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lands</a:t>
            </a:r>
            <a:r>
              <a:rPr b="0" lang="en-US" sz="3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”</a:t>
            </a:r>
            <a:endParaRPr b="0" lang="en-US" sz="38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om “The Eagle” by Alfred Lord Tennyson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9" name="WordArt 4"/>
          <p:cNvSpPr txBox="1"/>
          <p:nvPr/>
        </p:nvSpPr>
        <p:spPr>
          <a:xfrm>
            <a:off x="1219320" y="457200"/>
            <a:ext cx="693396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END RHY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120" name="Picture 5" descr="eagle"/>
          <p:cNvPicPr/>
          <p:nvPr/>
        </p:nvPicPr>
        <p:blipFill>
          <a:blip r:embed="rId1"/>
          <a:stretch/>
        </p:blipFill>
        <p:spPr>
          <a:xfrm>
            <a:off x="5715000" y="2971800"/>
            <a:ext cx="2666880" cy="333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990720" y="3352680"/>
            <a:ext cx="716256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5e5ff"/>
                </a:solidFill>
                <a:latin typeface="Times New Roman"/>
                <a:ea typeface="Times New Roman"/>
              </a:rPr>
              <a:t>The repetition of identical sounds </a:t>
            </a:r>
            <a:r>
              <a:rPr b="0" lang="en-US" sz="5400" spc="-1" strike="noStrike" u="sng">
                <a:solidFill>
                  <a:srgbClr val="e5e5ff"/>
                </a:solidFill>
                <a:uFillTx/>
                <a:latin typeface="Times New Roman"/>
                <a:ea typeface="Times New Roman"/>
              </a:rPr>
              <a:t>within</a:t>
            </a:r>
            <a:r>
              <a:rPr b="0" lang="en-US" sz="5400" spc="-1" strike="noStrike">
                <a:solidFill>
                  <a:srgbClr val="e5e5ff"/>
                </a:solidFill>
                <a:latin typeface="Times New Roman"/>
                <a:ea typeface="Times New Roman"/>
              </a:rPr>
              <a:t> a line of poetry.</a:t>
            </a:r>
            <a:endParaRPr b="0" lang="en-US" sz="5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2" name="WordArt 4"/>
          <p:cNvSpPr txBox="1"/>
          <p:nvPr/>
        </p:nvSpPr>
        <p:spPr>
          <a:xfrm>
            <a:off x="1066680" y="685800"/>
            <a:ext cx="723924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NTERNAL RHY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0" y="3352320"/>
            <a:ext cx="9144000" cy="31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hree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shall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flee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cross the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sea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to Italy.”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old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infinity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n the palm of your hand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eternity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n an hour.”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4" name="WordArt 4"/>
          <p:cNvSpPr txBox="1"/>
          <p:nvPr/>
        </p:nvSpPr>
        <p:spPr>
          <a:xfrm>
            <a:off x="1066680" y="685800"/>
            <a:ext cx="723924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NTERNAL RHY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1142640" y="3047760"/>
            <a:ext cx="701028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slant rhyme or half rhyme occurs when the vowel sounds are not quite identical.</a:t>
            </a:r>
            <a:endParaRPr b="0" lang="en-US" sz="4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6" name="WordArt 4"/>
          <p:cNvSpPr txBox="1"/>
          <p:nvPr/>
        </p:nvSpPr>
        <p:spPr>
          <a:xfrm>
            <a:off x="1523880" y="762120"/>
            <a:ext cx="6400800" cy="1904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514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75000"/>
                    </a:srgbClr>
                  </a:outerShdw>
                </a:effectLst>
                <a:latin typeface="Times New Roman"/>
              </a:rPr>
              <a:t>SLANT RHYME</a:t>
            </a:r>
            <a:endParaRPr b="0" i="1" lang="en-US" sz="1800" spc="1" strike="noStrike">
              <a:ln w="9360">
                <a:solidFill>
                  <a:srgbClr val="000514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75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0T11:56:49Z</dcterms:created>
  <dc:creator>NNTC</dc:creator>
  <dc:description/>
  <dc:language>en-US</dc:language>
  <cp:lastModifiedBy>jillstahl</cp:lastModifiedBy>
  <dcterms:modified xsi:type="dcterms:W3CDTF">2015-01-06T17:43:07Z</dcterms:modified>
  <cp:revision>137</cp:revision>
  <dc:subject/>
  <dc:title>POETIC TERMS</dc:title>
</cp:coreProperties>
</file>