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2894-2ADC-4C69-9E3A-9A7A36975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D232-F78D-4AE9-B8D5-2E9BD23756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357D-919A-4EC7-BC70-0EE46B322C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3D10-9DC4-4F0F-B1A3-477B0B93D7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1188-1164-4FAC-BBEC-A3058D4A01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027C-BD8C-44BC-BC7F-57BF3CA6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97344-2FCF-4602-85F0-52F4326D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7380C-BA59-4C2E-A35E-95D06844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4CE0B-9D65-43C3-84E0-579EE9BD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D2F8-2D1A-4EC6-A944-F81C0013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6BA5-76B3-4C86-BB2E-9E54EADD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FB02-171C-4AB5-AFCB-9494C023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01AC-A7BF-4965-95CF-DDCD2672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D003-7ED3-49CA-89F2-973010F1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F21D-E543-4E79-A476-1B790112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69D4-CEF7-40C8-A93E-06544737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4EDE6-2B9F-4BD0-AB9B-00AC94BA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E8DA-E41C-4866-BEF1-86AB356B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9442-7625-414F-92FC-F052C5CD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E2D0-F779-4F19-8A16-2D9F9621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2703-F006-4242-B0BA-7ADA1713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56CE-39C0-41E8-8DB1-D3E92BEF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E8381-E926-4B03-AEDD-D219D275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25E41-7CFC-4DF8-BD31-3FABB43F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CC9F-36B9-4A6A-8A2C-A4CACE85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C0906-4460-4531-B2FD-7F863C09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A246B-2B57-4104-A8CC-9D5626CA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6ABA-9D7C-4B03-851D-D95A4B24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D5C6-0733-4ACD-A75C-7B363D71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2254-1CAD-45E2-AFD1-2C8A89AA75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514"/>
                  </a:gs>
                  <a:gs pos="100000">
                    <a:srgbClr val="00051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0"/>
                  </a:gs>
                  <a:gs pos="100000">
                    <a:srgbClr val="00051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412"/>
                  </a:gs>
                  <a:gs pos="100000">
                    <a:srgbClr val="00051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411"/>
                </a:gs>
                <a:gs pos="100000">
                  <a:srgbClr val="000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43D5-9077-4BB4-8114-5639C3AEAC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44280"/>
            <a:ext cx="836784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TRY</a:t>
            </a:r>
            <a:endParaRPr b="1" lang="en-US" sz="9600" spc="-1" strike="noStrike">
              <a:solidFill>
                <a:srgbClr val="e5e5ff"/>
              </a:solidFill>
              <a:latin typeface="Lucida Sans"/>
            </a:endParaRPr>
          </a:p>
        </p:txBody>
      </p:sp>
      <p:pic>
        <p:nvPicPr>
          <p:cNvPr id="108" name="FOREBODING 2.WAV" descr=""/>
          <p:cNvPicPr/>
          <p:nvPr/>
        </p:nvPicPr>
        <p:blipFill>
          <a:blip r:embed="rId1"/>
          <a:stretch/>
        </p:blipFill>
        <p:spPr>
          <a:xfrm>
            <a:off x="4876920" y="7162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poetry-magnetic-pieces.jpg"/>
          <p:cNvPicPr/>
          <p:nvPr/>
        </p:nvPicPr>
        <p:blipFill>
          <a:blip r:embed="rId2"/>
          <a:stretch/>
        </p:blipFill>
        <p:spPr>
          <a:xfrm>
            <a:off x="533520" y="36576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on that cheek and o’er that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ow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ind at peace with all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low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523880" y="762120"/>
            <a:ext cx="6400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SLANT RHYME</a:t>
            </a:r>
            <a:endParaRPr b="0" i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Rhyme Schem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attern of end rhymes in a poe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ses are r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olets are Bl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am aweso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so are y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o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Rhyme scheme =ABCB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Coupl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pair of rhyming lines usually of the same meter and length.  It usually expresses a single idea and functions as a complete stanz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 long as men can breath, or eyes can s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 long lives this gives life to 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William Shakespeare, Sonnet 18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76360"/>
            <a:ext cx="79250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petition of consonant sounds at the beginnings of words.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IT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ship"/>
          <p:cNvPicPr/>
          <p:nvPr/>
        </p:nvPicPr>
        <p:blipFill>
          <a:blip r:embed="rId1"/>
          <a:stretch/>
        </p:blipFill>
        <p:spPr>
          <a:xfrm>
            <a:off x="4495680" y="3002040"/>
            <a:ext cx="4267440" cy="2789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" y="3047760"/>
            <a:ext cx="4191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ftly,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ftly flew the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p”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676520" y="380880"/>
            <a:ext cx="5943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IT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320040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Assonance and Consonanc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Assonance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petition of vowel sounds within stresses syllables that end in different consonant sound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We 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ly t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ged along the 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y 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nel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Consonanc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Repetition of final consonant sounds in stressed syllables that have different vowel soun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the ne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s mo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 at 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y li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g sou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 of words whose sounds suggest the sounds made by objects or activities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ONOMATOPOEIA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120" y="297144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ind eyes could </a:t>
            </a:r>
            <a:r>
              <a:rPr b="0" lang="en-US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laze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ke meteors”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1066680" y="5335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ONOMATOPOEIA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Comment 5"/>
          <p:cNvSpPr/>
          <p:nvPr/>
        </p:nvSpPr>
        <p:spPr>
          <a:xfrm>
            <a:off x="25920" y="15840"/>
            <a:ext cx="1767240" cy="7077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33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, hum, kis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meteors"/>
          <p:cNvPicPr/>
          <p:nvPr/>
        </p:nvPicPr>
        <p:blipFill>
          <a:blip r:embed="rId1"/>
          <a:stretch/>
        </p:blipFill>
        <p:spPr>
          <a:xfrm>
            <a:off x="4191120" y="2971800"/>
            <a:ext cx="4190760" cy="3314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3886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5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peaker and Ton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Tone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the attitude projected toward the subject and audie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mal tone features formal gramm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ormal tone may feature colloquial language (local idioms and slang expressions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Speaker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: serves the same function as the narrator in a stor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Poetic Languag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ets combine literal and figurative language to generate layers of meaning or to invite a deeper understanding of a subject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Directions: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py the definitions and examples from this presentation onto your “Elements of Poetry” pack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rite neatly, as you do not have a lot of space; feel free to shorten the longer definitions as long as you do not lose any essential informa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will need this packet to analyze poems and study for assessments in the future, so take good care of it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Lucida Sans"/>
              </a:rPr>
              <a:t>Denotation and Connotation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notation- a word’s dictionary defin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notations-the emotional associations a word evok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E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Car is a neutral word, however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unker” suggests an old, broken down vehic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assic” implies a car worthy of showing off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837720" y="327672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 of concrete details that appeal to the five senses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676520" y="609480"/>
            <a:ext cx="59436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AG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105520" y="3124080"/>
            <a:ext cx="35049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d, wet leaves float on moss-colored water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676520" y="609480"/>
            <a:ext cx="5867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MAGE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58" name="Picture 5" descr="leaves"/>
          <p:cNvPicPr/>
          <p:nvPr/>
        </p:nvPicPr>
        <p:blipFill>
          <a:blip r:embed="rId1"/>
          <a:stretch/>
        </p:blipFill>
        <p:spPr>
          <a:xfrm>
            <a:off x="609480" y="3124080"/>
            <a:ext cx="4038840" cy="3200400"/>
          </a:xfrm>
          <a:prstGeom prst="rect">
            <a:avLst/>
          </a:prstGeom>
          <a:ln w="0">
            <a:noFill/>
          </a:ln>
        </p:spPr>
      </p:pic>
      <p:pic>
        <p:nvPicPr>
          <p:cNvPr id="159" name="POND CREATURES 1.WAV" descr=""/>
          <p:cNvPicPr/>
          <p:nvPr/>
        </p:nvPicPr>
        <p:blipFill>
          <a:blip r:embed="rId2"/>
          <a:stretch/>
        </p:blipFill>
        <p:spPr>
          <a:xfrm>
            <a:off x="48006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7760" y="3276720"/>
            <a:ext cx="5715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hat departs from literal meaning in order to achieve a special effec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WordArt 8"/>
          <p:cNvSpPr txBox="1"/>
          <p:nvPr/>
        </p:nvSpPr>
        <p:spPr>
          <a:xfrm>
            <a:off x="1447920" y="838080"/>
            <a:ext cx="60958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gurat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2" name="Picture 3" descr="shakespeare-cartoon-225x300.jpg"/>
          <p:cNvPicPr/>
          <p:nvPr/>
        </p:nvPicPr>
        <p:blipFill>
          <a:blip r:embed="rId1"/>
          <a:stretch/>
        </p:blipFill>
        <p:spPr>
          <a:xfrm>
            <a:off x="533520" y="3276720"/>
            <a:ext cx="23428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29718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rect comparison between two basically different things that is introduced by the words “like” or “as”.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905120" y="685800"/>
            <a:ext cx="53337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914400" y="2895480"/>
            <a:ext cx="41148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love is like a 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d, red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se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1981080" y="45720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7" name="Object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2450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n implied comparison between two basically different things that is </a:t>
            </a: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not 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introduced with the words “like” or “as”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1981080" y="838080"/>
            <a:ext cx="5334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 eyes were daggers that cut right through me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1981080" y="7621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PH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2" name="BACH - PHANTOM OF THE OPERA.WAV" descr=""/>
          <p:cNvPicPr/>
          <p:nvPr/>
        </p:nvPicPr>
        <p:blipFill>
          <a:blip r:embed="rId1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FatBob_Av5"/>
          <p:cNvPicPr/>
          <p:nvPr/>
        </p:nvPicPr>
        <p:blipFill>
          <a:blip r:embed="rId2"/>
          <a:stretch/>
        </p:blipFill>
        <p:spPr>
          <a:xfrm>
            <a:off x="4876920" y="30481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42640" y="342900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Human characteristics are given to non-human animals, objects, or ideas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295280" y="762120"/>
            <a:ext cx="6782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35812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n kissed the flowers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1143000" y="304920"/>
            <a:ext cx="6858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ERSONIF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480060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dictionary-plants-flowers.jpg"/>
          <p:cNvPicPr/>
          <p:nvPr/>
        </p:nvPicPr>
        <p:blipFill>
          <a:blip r:embed="rId2"/>
          <a:stretch/>
        </p:blipFill>
        <p:spPr>
          <a:xfrm>
            <a:off x="4648320" y="32004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tructure and Meter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oems consist of lines that may be organized into groups calle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stanzas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Meter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is the rhythmic pattern establish by stresses or best within each line of a poem.  Meter is measured in units calle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feet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reat exaggeration to emphasize strong feeling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2057400" y="685800"/>
            <a:ext cx="5105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HYPERBO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876920" y="2971800"/>
            <a:ext cx="3200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backpack weighs a ton.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1752480" y="457200"/>
            <a:ext cx="56390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HYPERBO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4495680" y="7162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41ePo1WW5sL._AA280_.jpg"/>
          <p:cNvPicPr/>
          <p:nvPr/>
        </p:nvPicPr>
        <p:blipFill>
          <a:blip r:embed="rId2"/>
          <a:stretch/>
        </p:blipFill>
        <p:spPr>
          <a:xfrm>
            <a:off x="1219320" y="30481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29718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idea or underlying meaning of a literary work.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2286000" y="533520"/>
            <a:ext cx="480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THE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504960" y="2590560"/>
            <a:ext cx="4800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judice is caused by people judging others without knowing them”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2209680" y="380880"/>
            <a:ext cx="48006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THE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0" name="MYSTERIOUS 3.WAV" descr=""/>
          <p:cNvPicPr/>
          <p:nvPr/>
        </p:nvPicPr>
        <p:blipFill>
          <a:blip r:embed="rId1"/>
          <a:stretch/>
        </p:blipFill>
        <p:spPr>
          <a:xfrm>
            <a:off x="4876920" y="7238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n773.jpg"/>
          <p:cNvPicPr/>
          <p:nvPr/>
        </p:nvPicPr>
        <p:blipFill>
          <a:blip r:embed="rId2"/>
          <a:stretch/>
        </p:blipFill>
        <p:spPr>
          <a:xfrm>
            <a:off x="914400" y="2590920"/>
            <a:ext cx="228600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33160" y="3276360"/>
            <a:ext cx="47242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try without a regular pattern of meter (beat) or rhyme.</a:t>
            </a:r>
            <a:endParaRPr b="0" lang="en-US" sz="4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828800" y="380880"/>
            <a:ext cx="57913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Times New Roman"/>
              </a:rPr>
              <a:t>FREE VER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4" name="Picture 3" descr="journal.jpg"/>
          <p:cNvPicPr/>
          <p:nvPr/>
        </p:nvPicPr>
        <p:blipFill>
          <a:blip r:embed="rId1"/>
          <a:stretch/>
        </p:blipFill>
        <p:spPr>
          <a:xfrm>
            <a:off x="5410080" y="3505320"/>
            <a:ext cx="3243240" cy="25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Formal Vers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llows established patterns. Each standard poetic form has specific requirements regarding rhyme scheme, meter and line or stanza structur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Narrative Poem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lls a story and has a plot, characters, and a setting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wo common types of narrative poems are epic poems and balla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Epic Poem and Ballad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Epic Poem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a long narrative poem about gods or heroes, such as “The Odyssey” by Hom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Ballad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- a shorter poem that describes a single event and may be set to music.  Most include short stanzas and a refrain that repeats several times, like a chorus in a so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Dramatic Poetry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lls a story using character’s own thoughts or spoken statements, is a component  of many classical play, in these plays noble characters may deliver rhythmic, poetic speeches, while lower-class characters speak in regular pro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so used to refer to poems in which one or more characters speak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Lyric Poetry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presses the feelings of a single speaker, using melodic language, imagery, rhythm, and sounds devices to express emotion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st common poetry in modern language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RHYM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s the repetition of vowel and consonant sounds at the end of word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: proud and allow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rite down your own example!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450720" y="-328680"/>
            <a:ext cx="8242560" cy="2071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2209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ems of praise that often exhibit complex metrical patterns, specific rhyme schemes, and stanzas of ten or more lines each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Lucida Sans"/>
              </a:rPr>
              <a:t>Elegy</a:t>
            </a:r>
            <a:endParaRPr b="1" lang="en-US" sz="5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Poems of loss that express both praise for the dead and an element of consolation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Times New Roman"/>
                <a:ea typeface="Impact"/>
              </a:rPr>
              <a:t>SONNET</a:t>
            </a:r>
            <a:endParaRPr b="1" lang="en-US" sz="100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ourteen-line poem, that is divided into three quatrains (rhyming four-line stanzas) and a concluding couplet (pair of rhyming lines)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quatrain makes a point or gives an example, and the couplet sums it all up.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Petrarch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 sonnet in which an eight-line stanza with an abbaabba rhyme scheme is followed by a six-line stanza with a cdecde rhyme schem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Shakespeare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Three stanzas of four lines apiece have an abab/cdcd/efef rhyme scheme, followed by a two-line stanza with a gg rhyme scheme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Italian Sonnet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other name for a Petrarchan sonne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Villanelle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Nineteen-line form with a pattern of repeated lines and a specific rhyme schem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lines are grouped in five, three-lined stanzas and one four line stanz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hyme scheme is aba, aba, aba, aba, aba, aba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ine 1 is repeated in lines 6, 12, and 18 and line 3 is repeated in likes 9, 15, and 1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Haiku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form of Japanese poetry that consists of three unrhymed lines of five, seven and five syllabl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heart aches with pai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I see you, I vomi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e, away from m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(-Hyde, from That 70s Show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Lucida Sans"/>
              </a:rPr>
              <a:t>Tanka</a:t>
            </a:r>
            <a:endParaRPr b="1" lang="en-US" sz="4400" spc="-1" strike="noStrike">
              <a:solidFill>
                <a:srgbClr val="e5e5ff"/>
              </a:solidFill>
              <a:latin typeface="Lucida San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form of Japanese poetry that has five unrhymed lines consisting of five, seven, five, seven, and seven syllab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un is blinding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laring on the frozen lake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’s fire without warmth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neath the ice, the fish swim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6272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blivious to seas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52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he repetition of  identical sounds at the ends of lines of poetry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219320" y="914400"/>
            <a:ext cx="6933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D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120" y="2819160"/>
            <a:ext cx="44960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clasps the crag with crooked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ands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to the sun in lonely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nds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3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“The Eagle” by Alfred Lord Tennys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219320" y="457200"/>
            <a:ext cx="6933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D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20" name="Picture 5" descr="eagle"/>
          <p:cNvPicPr/>
          <p:nvPr/>
        </p:nvPicPr>
        <p:blipFill>
          <a:blip r:embed="rId1"/>
          <a:stretch/>
        </p:blipFill>
        <p:spPr>
          <a:xfrm>
            <a:off x="5715000" y="2971800"/>
            <a:ext cx="266688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990720" y="335268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The repetition of identical sounds </a:t>
            </a:r>
            <a:r>
              <a:rPr b="0" lang="en-US" sz="5400" spc="-1" strike="noStrike" u="sng">
                <a:solidFill>
                  <a:srgbClr val="e5e5ff"/>
                </a:solidFill>
                <a:uFillTx/>
                <a:latin typeface="Times New Roman"/>
                <a:ea typeface="Times New Roman"/>
              </a:rPr>
              <a:t>within</a:t>
            </a:r>
            <a:r>
              <a:rPr b="0" lang="en-US" sz="5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a line of poetry.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1066680" y="685800"/>
            <a:ext cx="7239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AL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r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all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l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ros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Italy.”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l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fin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e palm of your hand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tern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an hour.”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1066680" y="685800"/>
            <a:ext cx="72392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ERNAL RHY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142640" y="304776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lant rhyme or half rhyme occurs when the vowel sounds are not quite identical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523880" y="762120"/>
            <a:ext cx="6400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SLANT RHYME</a:t>
            </a:r>
            <a:endParaRPr b="0" i="1" lang="en-US" sz="1800" spc="1" strike="noStrike">
              <a:ln w="9360">
                <a:solidFill>
                  <a:srgbClr val="00051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1:56:49Z</dcterms:created>
  <dc:creator>NNTC</dc:creator>
  <dc:description/>
  <dc:language>en-US</dc:language>
  <cp:lastModifiedBy>jillstahl</cp:lastModifiedBy>
  <dcterms:modified xsi:type="dcterms:W3CDTF">2015-01-06T17:43:07Z</dcterms:modified>
  <cp:revision>137</cp:revision>
  <dc:subject/>
  <dc:title>POETIC TERMS</dc:title>
</cp:coreProperties>
</file>