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41C-30B3-4903-BFEA-94CBA7C2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DE6-05AF-4489-8421-F785B74F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FE5-4E59-43CD-BB81-D3F584A1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F03-FAAB-4F68-AED3-3458F0E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51-D6FD-4840-8A3C-629028AE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A64-966D-4847-9ED5-1778B2ED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DBE-BC28-41D9-A529-7A35027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206-EA49-4838-AF92-6C1923E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2CE-D71E-4428-8205-1BAF174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B2D-A439-4D21-ABA7-76E9D9A9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82D-313D-4F29-897F-7D25E5D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AEE-1D9B-4594-8481-EE0E489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CEB-91E7-43C0-967D-F6DD305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09C-3793-4428-8628-D6B1B27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585-3165-43B6-BD80-899B8F78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PICS &amp; MYTHS: The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Odyss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glish 9/Mrs.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odyssey.jpg"/>
          <p:cNvPicPr/>
          <p:nvPr/>
        </p:nvPicPr>
        <p:blipFill>
          <a:blip r:embed="rId1"/>
          <a:stretch/>
        </p:blipFill>
        <p:spPr>
          <a:xfrm>
            <a:off x="914400" y="1523880"/>
            <a:ext cx="2666880" cy="444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s3.mm.bing.net/th?id=H.4528047494334494&amp;pid=1.7&amp;w=101&amp;h=152&amp;c=7&amp;rs=1"/>
          <p:cNvPicPr/>
          <p:nvPr/>
        </p:nvPicPr>
        <p:blipFill>
          <a:blip r:embed="rId2"/>
          <a:stretch/>
        </p:blipFill>
        <p:spPr>
          <a:xfrm>
            <a:off x="4724280" y="3048120"/>
            <a:ext cx="21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actions of gods or heroes or explains the origins of element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in the literature of every culture (Ancient Greek or Roman Myths are know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assical myth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Story of Prometh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... Prometheus. Samuel Spurr meets Keith K. Park, proudly celebrating 15"/>
          <p:cNvPicPr/>
          <p:nvPr/>
        </p:nvPicPr>
        <p:blipFill>
          <a:blip r:embed="rId1"/>
          <a:stretch/>
        </p:blipFill>
        <p:spPr>
          <a:xfrm>
            <a:off x="6172200" y="365760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k 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s a simpl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ls with heroics, adventure, magic, or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features animal characters with human traits, such as the trickster Coy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fables and fairy 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Jack and the Bean S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ilocks and the Three B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s://sp.yimg.com/ib/th?id=HN.608052118458730453&amp;pid=15.1&amp;P=0"/>
          <p:cNvPicPr/>
          <p:nvPr/>
        </p:nvPicPr>
        <p:blipFill>
          <a:blip r:embed="rId1"/>
          <a:stretch/>
        </p:blipFill>
        <p:spPr>
          <a:xfrm>
            <a:off x="6705720" y="3922560"/>
            <a:ext cx="2162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unts the adventures of a hero from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relates events that are based on historical t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all tales, which feature exagg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obin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6 Robin Hood"/>
          <p:cNvPicPr/>
          <p:nvPr/>
        </p:nvPicPr>
        <p:blipFill>
          <a:blip r:embed="rId1"/>
          <a:stretch/>
        </p:blipFill>
        <p:spPr>
          <a:xfrm>
            <a:off x="5257800" y="43434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914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ong narrative po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feature of myth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icts a larger-than-life hero who usually goes on a dangerous journey; the hero is helped or hindered by supernatural creatures o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s a detailed portrait of a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dys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Odysseus and the Cyclops"/>
          <p:cNvPicPr/>
          <p:nvPr/>
        </p:nvPicPr>
        <p:blipFill>
          <a:blip r:embed="rId1"/>
          <a:stretch/>
        </p:blipFill>
        <p:spPr>
          <a:xfrm>
            <a:off x="5943600" y="45910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do Epics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300 THOUSAND years ago, people from the country of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Gree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telling tales (stories) of a great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greece 2.jpg"/>
          <p:cNvPicPr/>
          <p:nvPr/>
        </p:nvPicPr>
        <p:blipFill>
          <a:blip r:embed="rId1"/>
          <a:stretch/>
        </p:blipFill>
        <p:spPr>
          <a:xfrm>
            <a:off x="4114800" y="3124080"/>
            <a:ext cx="4038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odysseus.jpg"/>
          <p:cNvPicPr/>
          <p:nvPr/>
        </p:nvPicPr>
        <p:blipFill>
          <a:blip r:embed="rId1"/>
          <a:stretch/>
        </p:blipFill>
        <p:spPr>
          <a:xfrm>
            <a:off x="1828800" y="3371760"/>
            <a:ext cx="4648320" cy="3194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ame first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lia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Odysse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pic tales of the Iliad and the Odyssey are from the sam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iad tells of the story of the great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w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dyssey tells of Odysseus’s long and dangerou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 after the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is Hom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n who is said to have later gathered and retold all of these tales is a man named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Hom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omer.jpg"/>
          <p:cNvPicPr/>
          <p:nvPr/>
        </p:nvPicPr>
        <p:blipFill>
          <a:blip r:embed="rId1"/>
          <a:stretch/>
        </p:blipFill>
        <p:spPr>
          <a:xfrm>
            <a:off x="2971800" y="2819520"/>
            <a:ext cx="29480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 what is an epic t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pic is a long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arrative po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relates importan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history or folklore of 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which i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entral character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pic he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arger th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figure who em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ts that th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odyssey map.jpg"/>
          <p:cNvPicPr/>
          <p:nvPr/>
        </p:nvPicPr>
        <p:blipFill>
          <a:blip r:embed="rId1"/>
          <a:stretch/>
        </p:blipFill>
        <p:spPr>
          <a:xfrm>
            <a:off x="5029200" y="3276720"/>
            <a:ext cx="39178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Devices used in 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en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vocation to the M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the story “i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dias r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f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legant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, or fixed rhythmic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Epithe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characterizing phrase for a person, place, or 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Sim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ng comparison over many lines of the poem, comparing something extraordinary to something very common and every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n epith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descriptive term (word or phrase) or a descriptiv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lexander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EPITHET.jpg"/>
          <p:cNvPicPr/>
          <p:nvPr/>
        </p:nvPicPr>
        <p:blipFill>
          <a:blip r:embed="rId1"/>
          <a:stretch/>
        </p:blipFill>
        <p:spPr>
          <a:xfrm>
            <a:off x="2438280" y="3657600"/>
            <a:ext cx="3962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dobe Gothic Std B"/>
              </a:rPr>
              <a:t>What is an “epic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epic” is used all the time.  So what does the word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epic fail.jpg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ric Si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comparison, over many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e that compares epic events to simple and easy to understand events so that the audience can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“she brushed it away from his skin as lightly as when a mother brushes a fly away from her child who is lying in sweet sl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imile hero.jpg"/>
          <p:cNvPicPr/>
          <p:nvPr/>
        </p:nvPicPr>
        <p:blipFill>
          <a:blip r:embed="rId1"/>
          <a:stretch/>
        </p:blipFill>
        <p:spPr>
          <a:xfrm>
            <a:off x="3505320" y="5267160"/>
            <a:ext cx="1690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characteristics of an Epi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physically impressive hero of national or historical 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harry potter.jpg"/>
          <p:cNvPicPr/>
          <p:nvPr/>
        </p:nvPicPr>
        <p:blipFill>
          <a:blip r:embed="rId1"/>
          <a:stretch/>
        </p:blipFill>
        <p:spPr>
          <a:xfrm>
            <a:off x="304920" y="3429000"/>
            <a:ext cx="2489040" cy="20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uke skywalker.jpg"/>
          <p:cNvPicPr/>
          <p:nvPr/>
        </p:nvPicPr>
        <p:blipFill>
          <a:blip r:embed="rId2"/>
          <a:stretch/>
        </p:blipFill>
        <p:spPr>
          <a:xfrm>
            <a:off x="2971800" y="4419720"/>
            <a:ext cx="267192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robin hood.jpg"/>
          <p:cNvPicPr/>
          <p:nvPr/>
        </p:nvPicPr>
        <p:blipFill>
          <a:blip r:embed="rId3"/>
          <a:stretch/>
        </p:blipFill>
        <p:spPr>
          <a:xfrm>
            <a:off x="5902200" y="3276720"/>
            <a:ext cx="219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vast setting involving much of the known physical world and sometimes other universes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odysseus map.jpg"/>
          <p:cNvPicPr/>
          <p:nvPr/>
        </p:nvPicPr>
        <p:blipFill>
          <a:blip r:embed="rId1"/>
          <a:stretch/>
        </p:blipFill>
        <p:spPr>
          <a:xfrm>
            <a:off x="1600200" y="3048120"/>
            <a:ext cx="6107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ction such as a quest or journey taken in search of something 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s://sp.yimg.com/ib/th?id=HN.607996408438197673&amp;pid=15.1&amp;P=0"/>
          <p:cNvPicPr/>
          <p:nvPr/>
        </p:nvPicPr>
        <p:blipFill>
          <a:blip r:embed="rId1"/>
          <a:stretch/>
        </p:blipFill>
        <p:spPr>
          <a:xfrm>
            <a:off x="1828800" y="2666880"/>
            <a:ext cx="5905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4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Evidence of supernatural forces a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poseidon.jpg"/>
          <p:cNvPicPr/>
          <p:nvPr/>
        </p:nvPicPr>
        <p:blipFill>
          <a:blip r:embed="rId1"/>
          <a:stretch/>
        </p:blipFill>
        <p:spPr>
          <a:xfrm>
            <a:off x="2895480" y="1776240"/>
            <a:ext cx="3200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Glorification of the hero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odysseus bow.jpg"/>
          <p:cNvPicPr/>
          <p:nvPr/>
        </p:nvPicPr>
        <p:blipFill>
          <a:blip r:embed="rId1"/>
          <a:stretch/>
        </p:blipFill>
        <p:spPr>
          <a:xfrm>
            <a:off x="685800" y="1905120"/>
            <a:ext cx="4267080" cy="304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TANDING OVATION MOVIE TRAILER"/>
          <p:cNvPicPr/>
          <p:nvPr/>
        </p:nvPicPr>
        <p:blipFill>
          <a:blip r:embed="rId2"/>
          <a:stretch/>
        </p:blipFill>
        <p:spPr>
          <a:xfrm>
            <a:off x="4724280" y="4191120"/>
            <a:ext cx="4086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A rootedness in a specific culture and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s://sp.yimg.com/ib/th?id=HN.607990434140193407&amp;pid=15.1&amp;P=0"/>
          <p:cNvPicPr/>
          <p:nvPr/>
        </p:nvPicPr>
        <p:blipFill>
          <a:blip r:embed="rId1"/>
          <a:stretch/>
        </p:blipFill>
        <p:spPr>
          <a:xfrm>
            <a:off x="1143000" y="2631960"/>
            <a:ext cx="6837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Cultural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tha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ds and goddes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 part of everyday life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spit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angers should always be welcomed and treated like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e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sp.yimg.com/ib/th?id=HN.608037945066194682&amp;pid=15.1&amp;P=0"/>
          <p:cNvPicPr/>
          <p:nvPr/>
        </p:nvPicPr>
        <p:blipFill>
          <a:blip r:embed="rId1"/>
          <a:stretch/>
        </p:blipFill>
        <p:spPr>
          <a:xfrm>
            <a:off x="762120" y="4800600"/>
            <a:ext cx="18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sp.yimg.com/ib/th?id=HN.608036617921629389&amp;pid=15.1&amp;P=0"/>
          <p:cNvPicPr/>
          <p:nvPr/>
        </p:nvPicPr>
        <p:blipFill>
          <a:blip r:embed="rId2"/>
          <a:stretch/>
        </p:blipFill>
        <p:spPr>
          <a:xfrm>
            <a:off x="3429000" y="464832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rystal-ball"/>
          <p:cNvPicPr/>
          <p:nvPr/>
        </p:nvPicPr>
        <p:blipFill>
          <a:blip r:embed="rId3"/>
          <a:stretch/>
        </p:blipFill>
        <p:spPr>
          <a:xfrm>
            <a:off x="6477120" y="4648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nkelley\AppData\Local\Microsoft\Windows\Temporary Internet Files\Content.IE5\H6F2XB7G\NeptunePoseidon[1].gif"/>
          <p:cNvPicPr/>
          <p:nvPr/>
        </p:nvPicPr>
        <p:blipFill>
          <a:blip r:embed="rId4"/>
          <a:stretch/>
        </p:blipFill>
        <p:spPr>
          <a:xfrm>
            <a:off x="457200" y="304920"/>
            <a:ext cx="1547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haracteristics make up a he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ar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-than-life 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ero who embodies the traits that his society values most high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uperheroes.jpg"/>
          <p:cNvPicPr/>
          <p:nvPr/>
        </p:nvPicPr>
        <p:blipFill>
          <a:blip r:embed="rId1"/>
          <a:stretch/>
        </p:blipFill>
        <p:spPr>
          <a:xfrm>
            <a:off x="4724280" y="1676520"/>
            <a:ext cx="3759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 read The Odysse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read The Odyssey, look for the 6 characteristics of an epic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look for characteristics of a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The odyssey.jpg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pic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Definitio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of, relating to, or having the characteristics of an epic &lt;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em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exten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yond the usual or ordin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in size or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otball gam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ttle between two great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hie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 is engaged i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uggle for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ccomplishmen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po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 and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ries from the oral tradition teach a culture'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lief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so conv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versal them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 refers to the literature they passed down through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ord of 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is, the basic story stayed the same but some of the details chang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tricks were built in to the story to make it easy to remember: like rhyme and re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rd of mouth.jpg"/>
          <p:cNvPicPr/>
          <p:nvPr/>
        </p:nvPicPr>
        <p:blipFill>
          <a:blip r:embed="rId1"/>
          <a:stretch/>
        </p:blipFill>
        <p:spPr>
          <a:xfrm>
            <a:off x="2971800" y="4876920"/>
            <a:ext cx="2995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oints of 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or perspectives on life, expressed in this literature reflect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ltural experie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tellers- the basic experiences that shaped life in their so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h.jpg"/>
          <p:cNvPicPr/>
          <p:nvPr/>
        </p:nvPicPr>
        <p:blipFill>
          <a:blip r:embed="rId1"/>
          <a:stretch/>
        </p:blipFill>
        <p:spPr>
          <a:xfrm>
            <a:off x="5029200" y="41911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versa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versal the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insight into life and human nature tha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ppears in the literature of many different times and cul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transcend time and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concer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such as heroism, loyalty, love, leadership, and good vs. e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68580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ld books.jpg"/>
          <p:cNvPicPr/>
          <p:nvPr/>
        </p:nvPicPr>
        <p:blipFill>
          <a:blip r:embed="rId2"/>
          <a:stretch/>
        </p:blipFill>
        <p:spPr>
          <a:xfrm>
            <a:off x="3200400" y="4724280"/>
            <a:ext cx="43434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Arche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chetype is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lement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that reoccurs throughout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of different cul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s types, plot patter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es and symbols all may b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ety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xamples of the Term"/>
          <p:cNvPicPr/>
          <p:nvPr/>
        </p:nvPicPr>
        <p:blipFill>
          <a:blip r:embed="rId1"/>
          <a:stretch/>
        </p:blipFill>
        <p:spPr>
          <a:xfrm>
            <a:off x="838080" y="4191120"/>
            <a:ext cx="2001960" cy="239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p.yimg.com/ib/th?id=HN.608038056731607944&amp;pid=15.1&amp;P=0"/>
          <p:cNvPicPr/>
          <p:nvPr/>
        </p:nvPicPr>
        <p:blipFill>
          <a:blip r:embed="rId2"/>
          <a:stretch/>
        </p:blipFill>
        <p:spPr>
          <a:xfrm>
            <a:off x="3862440" y="4267080"/>
            <a:ext cx="20527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icki-clark.com/wiki/images/c/ca/Litarchetypes3.jpg"/>
          <p:cNvPicPr/>
          <p:nvPr/>
        </p:nvPicPr>
        <p:blipFill>
          <a:blip r:embed="rId3"/>
          <a:stretch/>
        </p:blipFill>
        <p:spPr>
          <a:xfrm>
            <a:off x="6400800" y="990720"/>
            <a:ext cx="261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the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of oral ta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Myth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sp.yimg.com/ib/th?id=HN.607993178621349225&amp;pid=15.1&amp;P=0"/>
          <p:cNvPicPr/>
          <p:nvPr/>
        </p:nvPicPr>
        <p:blipFill>
          <a:blip r:embed="rId2"/>
          <a:srcRect l="0" t="0" r="1335" b="28453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sp.yimg.com/ib/th?id=HN.608055442758175344&amp;pid=15.1&amp;P=0"/>
          <p:cNvPicPr/>
          <p:nvPr/>
        </p:nvPicPr>
        <p:blipFill>
          <a:blip r:embed="rId3"/>
          <a:stretch/>
        </p:blipFill>
        <p:spPr>
          <a:xfrm>
            <a:off x="3124080" y="243828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pathe.nl/gfx_content/posters/epic1.jpg"/>
          <p:cNvPicPr/>
          <p:nvPr/>
        </p:nvPicPr>
        <p:blipFill>
          <a:blip r:embed="rId4"/>
          <a:srcRect l="5329" t="20807" r="9336" b="47048"/>
          <a:stretch/>
        </p:blipFill>
        <p:spPr>
          <a:xfrm>
            <a:off x="2666880" y="5029200"/>
            <a:ext cx="243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50:22Z</dcterms:created>
  <dc:creator>setupuser</dc:creator>
  <dc:description/>
  <dc:language>en-US</dc:language>
  <cp:lastModifiedBy>jillstahl</cp:lastModifiedBy>
  <dcterms:modified xsi:type="dcterms:W3CDTF">2015-03-26T12:09:38Z</dcterms:modified>
  <cp:revision>114</cp:revision>
  <dc:subject/>
  <dc:title>EPICS &amp; MYTHS: The Odyssey</dc:title>
</cp:coreProperties>
</file>