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8.jpeg" ContentType="image/jpeg"/>
  <Override PartName="/ppt/media/image34.jpeg" ContentType="image/jpeg"/>
  <Override PartName="/ppt/media/image37.png" ContentType="image/png"/>
  <Override PartName="/ppt/media/image12.jpeg" ContentType="image/jpeg"/>
  <Override PartName="/ppt/media/image7.jpeg" ContentType="image/jpeg"/>
  <Override PartName="/ppt/media/image38.jpeg" ContentType="image/jpeg"/>
  <Override PartName="/ppt/media/image6.wmf" ContentType="image/x-wmf"/>
  <Override PartName="/ppt/media/image19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F82D-72AC-4291-B241-E76B25E9B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5B0F-9776-4A7D-A049-743AE1963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01D8-8CE6-492E-98CE-6752F580A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AEA7-7ACE-4180-B5C7-DE5110D1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8D9C-C685-4138-8BC6-4C456A57F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A08D-9C4C-48B0-9EDA-FD7F4D067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2B1D-85F1-4CAF-B0C5-E1A42F16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47CB-8F80-4C5C-854F-EF4CE224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EFAE-2DA2-4AAE-BB61-B5B9B7A2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9735-5345-49E3-84E0-227283DF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217E-5BA9-4B97-AB78-235A447A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1A5B-15B6-412C-9455-A67BF759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9380-D1DC-4784-89F1-3106A2D5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517A-42B9-449A-9106-4466AD4F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38BD-55B2-4892-A1B7-13BB7F2244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EPICS &amp; MYTHS: The </a:t>
            </a:r>
            <a:r>
              <a:rPr b="1" i="1" lang="en-US" sz="5400" spc="-1" strike="noStrike">
                <a:solidFill>
                  <a:srgbClr val="000000"/>
                </a:solidFill>
                <a:latin typeface="Calibri"/>
              </a:rPr>
              <a:t>Odysse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9092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nglish 9/Mrs. Kell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odyssey.jpg"/>
          <p:cNvPicPr/>
          <p:nvPr/>
        </p:nvPicPr>
        <p:blipFill>
          <a:blip r:embed="rId1"/>
          <a:stretch/>
        </p:blipFill>
        <p:spPr>
          <a:xfrm>
            <a:off x="914400" y="1523880"/>
            <a:ext cx="2666880" cy="4445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ts3.mm.bing.net/th?id=H.4528047494334494&amp;pid=1.7&amp;w=101&amp;h=152&amp;c=7&amp;rs=1"/>
          <p:cNvPicPr/>
          <p:nvPr/>
        </p:nvPicPr>
        <p:blipFill>
          <a:blip r:embed="rId2"/>
          <a:stretch/>
        </p:blipFill>
        <p:spPr>
          <a:xfrm>
            <a:off x="4724280" y="3048120"/>
            <a:ext cx="213372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yt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2952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s the actions of gods or heroes or explains the origins of elements of n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present in the literature of every culture (Ancient Greek or Roman Myths are known as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classical mytholog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Story of Promethe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... Prometheus. Samuel Spurr meets Keith K. Park, proudly celebrating 15"/>
          <p:cNvPicPr/>
          <p:nvPr/>
        </p:nvPicPr>
        <p:blipFill>
          <a:blip r:embed="rId1"/>
          <a:stretch/>
        </p:blipFill>
        <p:spPr>
          <a:xfrm>
            <a:off x="6172200" y="3657600"/>
            <a:ext cx="23526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lk T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s a simple formu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als with heroics, adventure, magic, or ro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quently features animal characters with human traits, such as the trickster Coyo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s fables and fairy t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Jack and the Bean Stal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ldilocks and the Three B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https://sp.yimg.com/ib/th?id=HN.608052118458730453&amp;pid=15.1&amp;P=0"/>
          <p:cNvPicPr/>
          <p:nvPr/>
        </p:nvPicPr>
        <p:blipFill>
          <a:blip r:embed="rId1"/>
          <a:stretch/>
        </p:blipFill>
        <p:spPr>
          <a:xfrm>
            <a:off x="6705720" y="3922560"/>
            <a:ext cx="216216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ge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unts the adventures of a hero from the p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relates events that are based on historical tru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s tall tales, which feature exagg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Robinh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16 Robin Hood"/>
          <p:cNvPicPr/>
          <p:nvPr/>
        </p:nvPicPr>
        <p:blipFill>
          <a:blip r:embed="rId1"/>
          <a:stretch/>
        </p:blipFill>
        <p:spPr>
          <a:xfrm>
            <a:off x="5257800" y="434340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p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0520" y="914040"/>
            <a:ext cx="8077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long narrative po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nes feature of myths and lege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icts a larger-than-life hero who usually goes on a dangerous journey; the hero is helped or hindered by supernatural creatures or g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s a detailed portrait of a cul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Odyss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Odysseus and the Cyclops"/>
          <p:cNvPicPr/>
          <p:nvPr/>
        </p:nvPicPr>
        <p:blipFill>
          <a:blip r:embed="rId1"/>
          <a:stretch/>
        </p:blipFill>
        <p:spPr>
          <a:xfrm>
            <a:off x="5943600" y="4591080"/>
            <a:ext cx="271764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ere do Epics come fro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440" y="159984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most 300 THOUSAND years ago, people from the country of 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Gree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ere telling tales (stories) of a great war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" descr="greece 2.jpg"/>
          <p:cNvPicPr/>
          <p:nvPr/>
        </p:nvPicPr>
        <p:blipFill>
          <a:blip r:embed="rId1"/>
          <a:stretch/>
        </p:blipFill>
        <p:spPr>
          <a:xfrm>
            <a:off x="4114800" y="3124080"/>
            <a:ext cx="403848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odysseus.jpg"/>
          <p:cNvPicPr/>
          <p:nvPr/>
        </p:nvPicPr>
        <p:blipFill>
          <a:blip r:embed="rId1"/>
          <a:stretch/>
        </p:blipFill>
        <p:spPr>
          <a:xfrm>
            <a:off x="1828800" y="3371760"/>
            <a:ext cx="4648320" cy="31942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came first the 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Iliad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or the 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Odyssey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pic tales of the Iliad and the Odyssey are from the same stor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liad tells of the story of the great 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wa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dyssey tells of Odysseus’s long and dangerous 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journe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me after the w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o is Hom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an who is said to have later gathered and retold all of these tales is a man named 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Hom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3" descr="homer.jpg"/>
          <p:cNvPicPr/>
          <p:nvPr/>
        </p:nvPicPr>
        <p:blipFill>
          <a:blip r:embed="rId1"/>
          <a:stretch/>
        </p:blipFill>
        <p:spPr>
          <a:xfrm>
            <a:off x="2971800" y="2819520"/>
            <a:ext cx="294804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o what is an epic tal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78200" indent="-178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pic is a long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narrative poe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 relates important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eve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the history or folklore of the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cult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which it was produc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central character 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epic hero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larger th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fe figure who embo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its that the cul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valu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odyssey map.jpg"/>
          <p:cNvPicPr/>
          <p:nvPr/>
        </p:nvPicPr>
        <p:blipFill>
          <a:blip r:embed="rId1"/>
          <a:stretch/>
        </p:blipFill>
        <p:spPr>
          <a:xfrm>
            <a:off x="5029200" y="3276720"/>
            <a:ext cx="391788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iterary Devices used in Ep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pening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nvocation to the M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arting the story “in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medias re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Lofty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Sty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Elegant sty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bjective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T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eter, or fixed rhythmic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Epithe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 characterizing phrase for a person, place, or th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pic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 Simil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ong comparison over many lines of the poem, comparing something extraordinary to something very common and every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is an epithe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2193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descriptive term (word or phrase) or a descriptive 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Alexander the Gre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3" descr="EPITHET.jpg"/>
          <p:cNvPicPr/>
          <p:nvPr/>
        </p:nvPicPr>
        <p:blipFill>
          <a:blip r:embed="rId1"/>
          <a:stretch/>
        </p:blipFill>
        <p:spPr>
          <a:xfrm>
            <a:off x="2438280" y="3657600"/>
            <a:ext cx="396252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  <a:ea typeface="Adobe Gothic Std B"/>
              </a:rPr>
              <a:t>What is an “epic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ord “epic” is used all the time.  So what does the word even mea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epic fail.jpg"/>
          <p:cNvPicPr/>
          <p:nvPr/>
        </p:nvPicPr>
        <p:blipFill>
          <a:blip r:embed="rId1"/>
          <a:stretch/>
        </p:blipFill>
        <p:spPr>
          <a:xfrm>
            <a:off x="1219320" y="2819520"/>
            <a:ext cx="632448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omeric Simi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ong comparison, over many li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imile that compares epic events to simple and easy to understand events so that the audience can understa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“she brushed it away from his skin as lightly as when a mother brushes a fly away from her child who is lying in sweet slee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" descr="simile hero.jpg"/>
          <p:cNvPicPr/>
          <p:nvPr/>
        </p:nvPicPr>
        <p:blipFill>
          <a:blip r:embed="rId1"/>
          <a:stretch/>
        </p:blipFill>
        <p:spPr>
          <a:xfrm>
            <a:off x="3505320" y="5267160"/>
            <a:ext cx="169056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are the characteristics of an Epic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A physically impressive hero of national or historical impor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3" descr="harry potter.jpg"/>
          <p:cNvPicPr/>
          <p:nvPr/>
        </p:nvPicPr>
        <p:blipFill>
          <a:blip r:embed="rId1"/>
          <a:stretch/>
        </p:blipFill>
        <p:spPr>
          <a:xfrm>
            <a:off x="304920" y="3429000"/>
            <a:ext cx="2489040" cy="2085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luke skywalker.jpg"/>
          <p:cNvPicPr/>
          <p:nvPr/>
        </p:nvPicPr>
        <p:blipFill>
          <a:blip r:embed="rId2"/>
          <a:stretch/>
        </p:blipFill>
        <p:spPr>
          <a:xfrm>
            <a:off x="2971800" y="4419720"/>
            <a:ext cx="2671920" cy="2104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robin hood.jpg"/>
          <p:cNvPicPr/>
          <p:nvPr/>
        </p:nvPicPr>
        <p:blipFill>
          <a:blip r:embed="rId3"/>
          <a:stretch/>
        </p:blipFill>
        <p:spPr>
          <a:xfrm>
            <a:off x="5902200" y="3276720"/>
            <a:ext cx="21909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aracteristics of an Ep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371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A vast setting involving much of the known physical world and sometimes other universes as w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odysseus map.jpg"/>
          <p:cNvPicPr/>
          <p:nvPr/>
        </p:nvPicPr>
        <p:blipFill>
          <a:blip r:embed="rId1"/>
          <a:stretch/>
        </p:blipFill>
        <p:spPr>
          <a:xfrm>
            <a:off x="1600200" y="3048120"/>
            <a:ext cx="610704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aracteristics of an Ep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952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Action such as a quest or journey taken in search of something  of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6" descr="https://sp.yimg.com/ib/th?id=HN.607996408438197673&amp;pid=15.1&amp;P=0"/>
          <p:cNvPicPr/>
          <p:nvPr/>
        </p:nvPicPr>
        <p:blipFill>
          <a:blip r:embed="rId1"/>
          <a:stretch/>
        </p:blipFill>
        <p:spPr>
          <a:xfrm>
            <a:off x="1828800" y="2666880"/>
            <a:ext cx="590544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aracteristics of an Ep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294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Evidence of supernatural forces at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3" descr="poseidon.jpg"/>
          <p:cNvPicPr/>
          <p:nvPr/>
        </p:nvPicPr>
        <p:blipFill>
          <a:blip r:embed="rId1"/>
          <a:stretch/>
        </p:blipFill>
        <p:spPr>
          <a:xfrm>
            <a:off x="2895480" y="1776240"/>
            <a:ext cx="3200400" cy="45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aracteristics of an Ep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219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Glorification of the hero at the 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3" descr="odysseus bow.jpg"/>
          <p:cNvPicPr/>
          <p:nvPr/>
        </p:nvPicPr>
        <p:blipFill>
          <a:blip r:embed="rId1"/>
          <a:stretch/>
        </p:blipFill>
        <p:spPr>
          <a:xfrm>
            <a:off x="685800" y="1905120"/>
            <a:ext cx="4267080" cy="3044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STANDING OVATION MOVIE TRAILER"/>
          <p:cNvPicPr/>
          <p:nvPr/>
        </p:nvPicPr>
        <p:blipFill>
          <a:blip r:embed="rId2"/>
          <a:stretch/>
        </p:blipFill>
        <p:spPr>
          <a:xfrm>
            <a:off x="4724280" y="4191120"/>
            <a:ext cx="408636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aracteristics of an Ep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 A rootedness in a specific culture and soci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6" descr="https://sp.yimg.com/ib/th?id=HN.607990434140193407&amp;pid=15.1&amp;P=0"/>
          <p:cNvPicPr/>
          <p:nvPr/>
        </p:nvPicPr>
        <p:blipFill>
          <a:blip r:embed="rId1"/>
          <a:stretch/>
        </p:blipFill>
        <p:spPr>
          <a:xfrm>
            <a:off x="1143000" y="2631960"/>
            <a:ext cx="683748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eek Cultural Val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elief that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gods and goddess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re a part of everyday life of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2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Hospit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strangers should always be welcomed and treated like frie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2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elief in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rophec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s://sp.yimg.com/ib/th?id=HN.608037945066194682&amp;pid=15.1&amp;P=0"/>
          <p:cNvPicPr/>
          <p:nvPr/>
        </p:nvPicPr>
        <p:blipFill>
          <a:blip r:embed="rId1"/>
          <a:stretch/>
        </p:blipFill>
        <p:spPr>
          <a:xfrm>
            <a:off x="762120" y="4800600"/>
            <a:ext cx="1890720" cy="1638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https://sp.yimg.com/ib/th?id=HN.608036617921629389&amp;pid=15.1&amp;P=0"/>
          <p:cNvPicPr/>
          <p:nvPr/>
        </p:nvPicPr>
        <p:blipFill>
          <a:blip r:embed="rId2"/>
          <a:stretch/>
        </p:blipFill>
        <p:spPr>
          <a:xfrm>
            <a:off x="3429000" y="4648320"/>
            <a:ext cx="2400480" cy="160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crystal-ball"/>
          <p:cNvPicPr/>
          <p:nvPr/>
        </p:nvPicPr>
        <p:blipFill>
          <a:blip r:embed="rId3"/>
          <a:stretch/>
        </p:blipFill>
        <p:spPr>
          <a:xfrm>
            <a:off x="6477120" y="4648320"/>
            <a:ext cx="1904760" cy="1523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C:\Users\nkelley\AppData\Local\Microsoft\Windows\Temporary Internet Files\Content.IE5\H6F2XB7G\NeptunePoseidon[1].gif"/>
          <p:cNvPicPr/>
          <p:nvPr/>
        </p:nvPicPr>
        <p:blipFill>
          <a:blip r:embed="rId4"/>
          <a:stretch/>
        </p:blipFill>
        <p:spPr>
          <a:xfrm>
            <a:off x="457200" y="304920"/>
            <a:ext cx="15476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characteristics make up a her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at warr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r-than-life m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onal hero who embodies the traits that his society values most highl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el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superheroes.jpg"/>
          <p:cNvPicPr/>
          <p:nvPr/>
        </p:nvPicPr>
        <p:blipFill>
          <a:blip r:embed="rId1"/>
          <a:stretch/>
        </p:blipFill>
        <p:spPr>
          <a:xfrm>
            <a:off x="4724280" y="1676520"/>
            <a:ext cx="375948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et’s read The Odyssey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we read The Odyssey, look for the 6 characteristics of an epic sto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look for characteristics of a HER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4" descr="The odyssey.jpg"/>
          <p:cNvPicPr/>
          <p:nvPr/>
        </p:nvPicPr>
        <p:blipFill>
          <a:blip r:embed="rId1"/>
          <a:stretch/>
        </p:blipFill>
        <p:spPr>
          <a:xfrm>
            <a:off x="1828800" y="3429000"/>
            <a:ext cx="548640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pic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ull Definition of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EP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 of, relating to, or having the characteristics of an epic &lt;a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p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oem&gt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 extend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beyond the usual or ordinar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pecially in size or sc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s of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EP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ootball game was a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pi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attle between two great tea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ridge was a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pi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chieve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ompany is engaged in a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pi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ruggle for surviv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accomplishment of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pi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ropor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me and Oral Trad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tories from the oral tradition teach a culture's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alue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belief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y also convey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universal theme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ral Trad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al tradition refers to the literature they passed down through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word of mou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cause of this, the basic story stayed the same but some of the details changed over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ttle tricks were built in to the story to make it easy to remember: like rhyme and repet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word of mouth.jpg"/>
          <p:cNvPicPr/>
          <p:nvPr/>
        </p:nvPicPr>
        <p:blipFill>
          <a:blip r:embed="rId1"/>
          <a:stretch/>
        </p:blipFill>
        <p:spPr>
          <a:xfrm>
            <a:off x="2971800" y="4876920"/>
            <a:ext cx="299556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points of view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or perspectives on life, expressed in this literature reflect 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cultural experiences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f the tellers- the basic experiences that shaped life in their soc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t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th.jpg"/>
          <p:cNvPicPr/>
          <p:nvPr/>
        </p:nvPicPr>
        <p:blipFill>
          <a:blip r:embed="rId1"/>
          <a:stretch/>
        </p:blipFill>
        <p:spPr>
          <a:xfrm>
            <a:off x="5029200" y="4191120"/>
            <a:ext cx="2971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niversal The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universal them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an insight into life and human nature that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appears in the literature of many different times and cultur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versal themes transcend time and cul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versal themes concer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undament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deas such as heroism, loyalty, love, leadership, and good vs. evi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C:\Program Files\Microsoft Office\MEDIA\CAGCAT10\j0335112.wmf"/>
          <p:cNvPicPr/>
          <p:nvPr/>
        </p:nvPicPr>
        <p:blipFill>
          <a:blip r:embed="rId1"/>
          <a:stretch/>
        </p:blipFill>
        <p:spPr>
          <a:xfrm>
            <a:off x="6858000" y="152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old books.jpg"/>
          <p:cNvPicPr/>
          <p:nvPr/>
        </p:nvPicPr>
        <p:blipFill>
          <a:blip r:embed="rId2"/>
          <a:stretch/>
        </p:blipFill>
        <p:spPr>
          <a:xfrm>
            <a:off x="3200400" y="4724280"/>
            <a:ext cx="434340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iterary Arche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04920" y="10666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 archetype is 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a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element of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literature that reoccurs throughout th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literature of different cultur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aracters types, plot patterns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ages and symbols all may b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rchetyp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Examples of the Term"/>
          <p:cNvPicPr/>
          <p:nvPr/>
        </p:nvPicPr>
        <p:blipFill>
          <a:blip r:embed="rId1"/>
          <a:stretch/>
        </p:blipFill>
        <p:spPr>
          <a:xfrm>
            <a:off x="838080" y="4191120"/>
            <a:ext cx="2001960" cy="2396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https://sp.yimg.com/ib/th?id=HN.608038056731607944&amp;pid=15.1&amp;P=0"/>
          <p:cNvPicPr/>
          <p:nvPr/>
        </p:nvPicPr>
        <p:blipFill>
          <a:blip r:embed="rId2"/>
          <a:stretch/>
        </p:blipFill>
        <p:spPr>
          <a:xfrm>
            <a:off x="3862440" y="4267080"/>
            <a:ext cx="2052720" cy="2438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http://micki-clark.com/wiki/images/c/ca/Litarchetypes3.jpg"/>
          <p:cNvPicPr/>
          <p:nvPr/>
        </p:nvPicPr>
        <p:blipFill>
          <a:blip r:embed="rId3"/>
          <a:stretch/>
        </p:blipFill>
        <p:spPr>
          <a:xfrm>
            <a:off x="6400800" y="990720"/>
            <a:ext cx="2612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ms of the Oral Trad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s of oral tales inclu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Myth"/>
          <p:cNvPicPr/>
          <p:nvPr/>
        </p:nvPicPr>
        <p:blipFill>
          <a:blip r:embed="rId1"/>
          <a:stretch/>
        </p:blipFill>
        <p:spPr>
          <a:xfrm>
            <a:off x="6172200" y="3352680"/>
            <a:ext cx="2590920" cy="140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https://sp.yimg.com/ib/th?id=HN.607993178621349225&amp;pid=15.1&amp;P=0"/>
          <p:cNvPicPr/>
          <p:nvPr/>
        </p:nvPicPr>
        <p:blipFill>
          <a:blip r:embed="rId2"/>
          <a:srcRect l="0" t="0" r="1335" b="28453"/>
          <a:stretch/>
        </p:blipFill>
        <p:spPr>
          <a:xfrm>
            <a:off x="304920" y="2971800"/>
            <a:ext cx="2819160" cy="1676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https://sp.yimg.com/ib/th?id=HN.608055442758175344&amp;pid=15.1&amp;P=0"/>
          <p:cNvPicPr/>
          <p:nvPr/>
        </p:nvPicPr>
        <p:blipFill>
          <a:blip r:embed="rId3"/>
          <a:stretch/>
        </p:blipFill>
        <p:spPr>
          <a:xfrm>
            <a:off x="3124080" y="2438280"/>
            <a:ext cx="2857680" cy="1371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http://www.pathe.nl/gfx_content/posters/epic1.jpg"/>
          <p:cNvPicPr/>
          <p:nvPr/>
        </p:nvPicPr>
        <p:blipFill>
          <a:blip r:embed="rId4"/>
          <a:srcRect l="5329" t="20807" r="9336" b="47048"/>
          <a:stretch/>
        </p:blipFill>
        <p:spPr>
          <a:xfrm>
            <a:off x="2666880" y="5029200"/>
            <a:ext cx="2438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1T17:50:22Z</dcterms:created>
  <dc:creator>setupuser</dc:creator>
  <dc:description/>
  <dc:language>en-US</dc:language>
  <cp:lastModifiedBy>jillstahl</cp:lastModifiedBy>
  <dcterms:modified xsi:type="dcterms:W3CDTF">2015-03-26T12:09:38Z</dcterms:modified>
  <cp:revision>114</cp:revision>
  <dc:subject/>
  <dc:title>EPICS &amp; MYTHS: The Odyssey</dc:title>
</cp:coreProperties>
</file>