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7.jpeg" ContentType="image/jpeg"/>
  <Override PartName="/ppt/media/image38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D33-0714-4D99-9613-443D17957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77C-94B6-4B5D-B63C-FA6F8894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997-AF87-4268-A91B-90DCDF6F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B0C-51E6-4A52-A55A-E0FA5DA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605-EC42-42FE-9180-FE1496B1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C00-C7A0-459B-9B8A-4340A70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40A-138C-44D5-9C68-AEF48CD6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914-35C0-41FD-A433-F7AFE1B6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FB1-9A7D-4E40-A09D-F093B8C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01C-D5DE-4C6A-A576-1163D7E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2C3-F006-4B10-BF2F-DE53FE2D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505-662E-4941-B88E-03B4A17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4EA-E9EC-4A20-B3DE-331B1E5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3FD-AE13-445B-A080-3A68161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D5CB-22E8-4C86-84A4-621BA69AC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PICS &amp; MYTHS: The </a:t>
            </a:r>
            <a:r>
              <a:rPr b="1" i="1" lang="en-US" sz="5400" spc="-1" strike="noStrike">
                <a:solidFill>
                  <a:srgbClr val="000000"/>
                </a:solidFill>
                <a:latin typeface="Calibri"/>
              </a:rPr>
              <a:t>Odyss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9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glish 9/Mrs.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odyssey.jpg"/>
          <p:cNvPicPr/>
          <p:nvPr/>
        </p:nvPicPr>
        <p:blipFill>
          <a:blip r:embed="rId1"/>
          <a:stretch/>
        </p:blipFill>
        <p:spPr>
          <a:xfrm>
            <a:off x="914400" y="1523880"/>
            <a:ext cx="2666880" cy="444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s3.mm.bing.net/th?id=H.4528047494334494&amp;pid=1.7&amp;w=101&amp;h=152&amp;c=7&amp;rs=1"/>
          <p:cNvPicPr/>
          <p:nvPr/>
        </p:nvPicPr>
        <p:blipFill>
          <a:blip r:embed="rId2"/>
          <a:stretch/>
        </p:blipFill>
        <p:spPr>
          <a:xfrm>
            <a:off x="4724280" y="3048120"/>
            <a:ext cx="21337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the actions of gods or heroes or explains the origins of element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present in the literature of every culture (Ancient Greek or Roman Myths are known a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assical mytholo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Story of Prometh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... Prometheus. Samuel Spurr meets Keith K. Park, proudly celebrating 15"/>
          <p:cNvPicPr/>
          <p:nvPr/>
        </p:nvPicPr>
        <p:blipFill>
          <a:blip r:embed="rId1"/>
          <a:stretch/>
        </p:blipFill>
        <p:spPr>
          <a:xfrm>
            <a:off x="6172200" y="3657600"/>
            <a:ext cx="2352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k 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s a simple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als with heroics, adventure, magic, or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tly features animal characters with human traits, such as the trickster Coy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fables and fairy t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Jack and the Bean S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ilocks and the Three B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s://sp.yimg.com/ib/th?id=HN.608052118458730453&amp;pid=15.1&amp;P=0"/>
          <p:cNvPicPr/>
          <p:nvPr/>
        </p:nvPicPr>
        <p:blipFill>
          <a:blip r:embed="rId1"/>
          <a:stretch/>
        </p:blipFill>
        <p:spPr>
          <a:xfrm>
            <a:off x="6705720" y="3922560"/>
            <a:ext cx="21621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unts the adventures of a hero from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relates events that are based on historical tr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tall tales, which feature exagg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Robin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6 Robin Hood"/>
          <p:cNvPicPr/>
          <p:nvPr/>
        </p:nvPicPr>
        <p:blipFill>
          <a:blip r:embed="rId1"/>
          <a:stretch/>
        </p:blipFill>
        <p:spPr>
          <a:xfrm>
            <a:off x="5257800" y="43434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914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ong narrative po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s feature of myth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icts a larger-than-life hero who usually goes on a dangerous journey; the hero is helped or hindered by supernatural creatures o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s a detailed portrait of a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Odys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Odysseus and the Cyclops"/>
          <p:cNvPicPr/>
          <p:nvPr/>
        </p:nvPicPr>
        <p:blipFill>
          <a:blip r:embed="rId1"/>
          <a:stretch/>
        </p:blipFill>
        <p:spPr>
          <a:xfrm>
            <a:off x="5943600" y="45910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do Epics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300 THOUSAND years ago, people from the country of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Gree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telling tales (stories) of a great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greece 2.jpg"/>
          <p:cNvPicPr/>
          <p:nvPr/>
        </p:nvPicPr>
        <p:blipFill>
          <a:blip r:embed="rId1"/>
          <a:stretch/>
        </p:blipFill>
        <p:spPr>
          <a:xfrm>
            <a:off x="4114800" y="3124080"/>
            <a:ext cx="4038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odysseus.jpg"/>
          <p:cNvPicPr/>
          <p:nvPr/>
        </p:nvPicPr>
        <p:blipFill>
          <a:blip r:embed="rId1"/>
          <a:stretch/>
        </p:blipFill>
        <p:spPr>
          <a:xfrm>
            <a:off x="1828800" y="3371760"/>
            <a:ext cx="4648320" cy="31942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ame first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Ilia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Odyssey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pic tales of the Iliad and the Odyssey are from the sam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iad tells of the story of the great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w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dyssey tells of Odysseus’s long and dangerous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journe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e after the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is Hom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n who is said to have later gathered and retold all of these tales is a man named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Hom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homer.jpg"/>
          <p:cNvPicPr/>
          <p:nvPr/>
        </p:nvPicPr>
        <p:blipFill>
          <a:blip r:embed="rId1"/>
          <a:stretch/>
        </p:blipFill>
        <p:spPr>
          <a:xfrm>
            <a:off x="2971800" y="2819520"/>
            <a:ext cx="29480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 what is an epic t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pic is a long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narrative po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relates importan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v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history or folklore of the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which it was produc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entral character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pic he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larger th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figure who em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ts that the cul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valu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odyssey map.jpg"/>
          <p:cNvPicPr/>
          <p:nvPr/>
        </p:nvPicPr>
        <p:blipFill>
          <a:blip r:embed="rId1"/>
          <a:stretch/>
        </p:blipFill>
        <p:spPr>
          <a:xfrm>
            <a:off x="5029200" y="3276720"/>
            <a:ext cx="39178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Devices used in E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en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vocation to the M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rting the story “i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medias r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Lof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Sty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Elegant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, or fixed rhythmic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Epithe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characterizing phrase for a person, place, or t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Sim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ng comparison over many lines of the poem, comparing something extraordinary to something very common and every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an epith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descriptive term (word or phrase) or a descriptiv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lexander the 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EPITHET.jpg"/>
          <p:cNvPicPr/>
          <p:nvPr/>
        </p:nvPicPr>
        <p:blipFill>
          <a:blip r:embed="rId1"/>
          <a:stretch/>
        </p:blipFill>
        <p:spPr>
          <a:xfrm>
            <a:off x="2438280" y="3657600"/>
            <a:ext cx="39625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Adobe Gothic Std B"/>
              </a:rPr>
              <a:t>What is an “epic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epic” is used all the time.  So what does the word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epic fail.jpg"/>
          <p:cNvPicPr/>
          <p:nvPr/>
        </p:nvPicPr>
        <p:blipFill>
          <a:blip r:embed="rId1"/>
          <a:stretch/>
        </p:blipFill>
        <p:spPr>
          <a:xfrm>
            <a:off x="1219320" y="2819520"/>
            <a:ext cx="6324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meric Sim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 comparison, over many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e that compares epic events to simple and easy to understand events so that the audience can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“she brushed it away from his skin as lightly as when a mother brushes a fly away from her child who is lying in sweet sle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imile hero.jpg"/>
          <p:cNvPicPr/>
          <p:nvPr/>
        </p:nvPicPr>
        <p:blipFill>
          <a:blip r:embed="rId1"/>
          <a:stretch/>
        </p:blipFill>
        <p:spPr>
          <a:xfrm>
            <a:off x="3505320" y="5267160"/>
            <a:ext cx="16905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characteristics of an Epic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physically impressive hero of national or historical impor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harry potter.jpg"/>
          <p:cNvPicPr/>
          <p:nvPr/>
        </p:nvPicPr>
        <p:blipFill>
          <a:blip r:embed="rId1"/>
          <a:stretch/>
        </p:blipFill>
        <p:spPr>
          <a:xfrm>
            <a:off x="304920" y="3429000"/>
            <a:ext cx="2489040" cy="2085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luke skywalker.jpg"/>
          <p:cNvPicPr/>
          <p:nvPr/>
        </p:nvPicPr>
        <p:blipFill>
          <a:blip r:embed="rId2"/>
          <a:stretch/>
        </p:blipFill>
        <p:spPr>
          <a:xfrm>
            <a:off x="2971800" y="4419720"/>
            <a:ext cx="2671920" cy="21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robin hood.jpg"/>
          <p:cNvPicPr/>
          <p:nvPr/>
        </p:nvPicPr>
        <p:blipFill>
          <a:blip r:embed="rId3"/>
          <a:stretch/>
        </p:blipFill>
        <p:spPr>
          <a:xfrm>
            <a:off x="5902200" y="3276720"/>
            <a:ext cx="2190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 vast setting involving much of the known physical world and sometimes other universes as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odysseus map.jpg"/>
          <p:cNvPicPr/>
          <p:nvPr/>
        </p:nvPicPr>
        <p:blipFill>
          <a:blip r:embed="rId1"/>
          <a:stretch/>
        </p:blipFill>
        <p:spPr>
          <a:xfrm>
            <a:off x="1600200" y="3048120"/>
            <a:ext cx="61070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Action such as a quest or journey taken in search of something  of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s://sp.yimg.com/ib/th?id=HN.607996408438197673&amp;pid=15.1&amp;P=0"/>
          <p:cNvPicPr/>
          <p:nvPr/>
        </p:nvPicPr>
        <p:blipFill>
          <a:blip r:embed="rId1"/>
          <a:stretch/>
        </p:blipFill>
        <p:spPr>
          <a:xfrm>
            <a:off x="1828800" y="2666880"/>
            <a:ext cx="5905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94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Evidence of supernatural forces at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poseidon.jpg"/>
          <p:cNvPicPr/>
          <p:nvPr/>
        </p:nvPicPr>
        <p:blipFill>
          <a:blip r:embed="rId1"/>
          <a:stretch/>
        </p:blipFill>
        <p:spPr>
          <a:xfrm>
            <a:off x="2895480" y="1776240"/>
            <a:ext cx="3200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Glorification of the hero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odysseus bow.jpg"/>
          <p:cNvPicPr/>
          <p:nvPr/>
        </p:nvPicPr>
        <p:blipFill>
          <a:blip r:embed="rId1"/>
          <a:stretch/>
        </p:blipFill>
        <p:spPr>
          <a:xfrm>
            <a:off x="685800" y="1905120"/>
            <a:ext cx="4267080" cy="304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TANDING OVATION MOVIE TRAILER"/>
          <p:cNvPicPr/>
          <p:nvPr/>
        </p:nvPicPr>
        <p:blipFill>
          <a:blip r:embed="rId2"/>
          <a:stretch/>
        </p:blipFill>
        <p:spPr>
          <a:xfrm>
            <a:off x="4724280" y="4191120"/>
            <a:ext cx="4086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an Ep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A rootedness in a specific culture and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https://sp.yimg.com/ib/th?id=HN.607990434140193407&amp;pid=15.1&amp;P=0"/>
          <p:cNvPicPr/>
          <p:nvPr/>
        </p:nvPicPr>
        <p:blipFill>
          <a:blip r:embed="rId1"/>
          <a:stretch/>
        </p:blipFill>
        <p:spPr>
          <a:xfrm>
            <a:off x="1143000" y="2631960"/>
            <a:ext cx="6837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Cultural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tha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ods and goddes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e a part of everyday life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ospit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trangers should always be welcomed and treated like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phe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sp.yimg.com/ib/th?id=HN.608037945066194682&amp;pid=15.1&amp;P=0"/>
          <p:cNvPicPr/>
          <p:nvPr/>
        </p:nvPicPr>
        <p:blipFill>
          <a:blip r:embed="rId1"/>
          <a:stretch/>
        </p:blipFill>
        <p:spPr>
          <a:xfrm>
            <a:off x="762120" y="4800600"/>
            <a:ext cx="1890720" cy="163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s://sp.yimg.com/ib/th?id=HN.608036617921629389&amp;pid=15.1&amp;P=0"/>
          <p:cNvPicPr/>
          <p:nvPr/>
        </p:nvPicPr>
        <p:blipFill>
          <a:blip r:embed="rId2"/>
          <a:stretch/>
        </p:blipFill>
        <p:spPr>
          <a:xfrm>
            <a:off x="3429000" y="4648320"/>
            <a:ext cx="240048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rystal-ball"/>
          <p:cNvPicPr/>
          <p:nvPr/>
        </p:nvPicPr>
        <p:blipFill>
          <a:blip r:embed="rId3"/>
          <a:stretch/>
        </p:blipFill>
        <p:spPr>
          <a:xfrm>
            <a:off x="6477120" y="4648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nkelley\AppData\Local\Microsoft\Windows\Temporary Internet Files\Content.IE5\H6F2XB7G\NeptunePoseidon[1].gif"/>
          <p:cNvPicPr/>
          <p:nvPr/>
        </p:nvPicPr>
        <p:blipFill>
          <a:blip r:embed="rId4"/>
          <a:stretch/>
        </p:blipFill>
        <p:spPr>
          <a:xfrm>
            <a:off x="457200" y="304920"/>
            <a:ext cx="15476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haracteristics make up a he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ar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-than-life m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hero who embodies the traits that his society values most high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superheroes.jpg"/>
          <p:cNvPicPr/>
          <p:nvPr/>
        </p:nvPicPr>
        <p:blipFill>
          <a:blip r:embed="rId1"/>
          <a:stretch/>
        </p:blipFill>
        <p:spPr>
          <a:xfrm>
            <a:off x="4724280" y="1676520"/>
            <a:ext cx="37594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t’s read The Odysse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we read The Odyssey, look for the 6 characteristics of an epic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look for characteristics of a H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The odyssey.jpg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pic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ll Definitio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of, relating to, or having the characteristics of an epic &lt;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em&gt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exten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eyond the usual or ordin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in size or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otball gam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ttle between two great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idge wa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hie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any is engaged i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ruggle for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ccomplishment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p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por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 and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ories from the oral tradition teach a culture'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alu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lief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also conve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versal them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tradition refers to the literature they passed down through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word of m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of this, the basic story stayed the same but some of the details chang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tricks were built in to the story to make it easy to remember: like rhyme and re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word of mouth.jpg"/>
          <p:cNvPicPr/>
          <p:nvPr/>
        </p:nvPicPr>
        <p:blipFill>
          <a:blip r:embed="rId1"/>
          <a:stretch/>
        </p:blipFill>
        <p:spPr>
          <a:xfrm>
            <a:off x="2971800" y="4876920"/>
            <a:ext cx="2995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oints of vi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or perspectives on life, expressed in this literature reflect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ultural experie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tellers- the basic experiences that shaped life in their soc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th.jpg"/>
          <p:cNvPicPr/>
          <p:nvPr/>
        </p:nvPicPr>
        <p:blipFill>
          <a:blip r:embed="rId1"/>
          <a:stretch/>
        </p:blipFill>
        <p:spPr>
          <a:xfrm>
            <a:off x="5029200" y="41911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iversal Th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iversal the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n insight into life and human nature that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appears in the literature of many different times and cul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transcend time and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al themes concer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unda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 such as heroism, loyalty, love, leadership, and good vs. ev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685800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old books.jpg"/>
          <p:cNvPicPr/>
          <p:nvPr/>
        </p:nvPicPr>
        <p:blipFill>
          <a:blip r:embed="rId2"/>
          <a:stretch/>
        </p:blipFill>
        <p:spPr>
          <a:xfrm>
            <a:off x="3200400" y="4724280"/>
            <a:ext cx="434340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terary Arche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archetype is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element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that reoccurs throughout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Calibri"/>
              </a:rPr>
              <a:t>literature of different cul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acters types, plot patterns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es and symbols all may b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chety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xamples of the Term"/>
          <p:cNvPicPr/>
          <p:nvPr/>
        </p:nvPicPr>
        <p:blipFill>
          <a:blip r:embed="rId1"/>
          <a:stretch/>
        </p:blipFill>
        <p:spPr>
          <a:xfrm>
            <a:off x="838080" y="4191120"/>
            <a:ext cx="2001960" cy="2396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s://sp.yimg.com/ib/th?id=HN.608038056731607944&amp;pid=15.1&amp;P=0"/>
          <p:cNvPicPr/>
          <p:nvPr/>
        </p:nvPicPr>
        <p:blipFill>
          <a:blip r:embed="rId2"/>
          <a:stretch/>
        </p:blipFill>
        <p:spPr>
          <a:xfrm>
            <a:off x="3862440" y="4267080"/>
            <a:ext cx="20527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micki-clark.com/wiki/images/c/ca/Litarchetypes3.jpg"/>
          <p:cNvPicPr/>
          <p:nvPr/>
        </p:nvPicPr>
        <p:blipFill>
          <a:blip r:embed="rId3"/>
          <a:stretch/>
        </p:blipFill>
        <p:spPr>
          <a:xfrm>
            <a:off x="6400800" y="990720"/>
            <a:ext cx="2612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the Oral Trad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of oral ta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Myth"/>
          <p:cNvPicPr/>
          <p:nvPr/>
        </p:nvPicPr>
        <p:blipFill>
          <a:blip r:embed="rId1"/>
          <a:stretch/>
        </p:blipFill>
        <p:spPr>
          <a:xfrm>
            <a:off x="6172200" y="3352680"/>
            <a:ext cx="2590920" cy="140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s://sp.yimg.com/ib/th?id=HN.607993178621349225&amp;pid=15.1&amp;P=0"/>
          <p:cNvPicPr/>
          <p:nvPr/>
        </p:nvPicPr>
        <p:blipFill>
          <a:blip r:embed="rId2"/>
          <a:srcRect l="0" t="0" r="1335" b="28453"/>
          <a:stretch/>
        </p:blipFill>
        <p:spPr>
          <a:xfrm>
            <a:off x="304920" y="2971800"/>
            <a:ext cx="2819160" cy="1676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s://sp.yimg.com/ib/th?id=HN.608055442758175344&amp;pid=15.1&amp;P=0"/>
          <p:cNvPicPr/>
          <p:nvPr/>
        </p:nvPicPr>
        <p:blipFill>
          <a:blip r:embed="rId3"/>
          <a:stretch/>
        </p:blipFill>
        <p:spPr>
          <a:xfrm>
            <a:off x="3124080" y="2438280"/>
            <a:ext cx="285768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pathe.nl/gfx_content/posters/epic1.jpg"/>
          <p:cNvPicPr/>
          <p:nvPr/>
        </p:nvPicPr>
        <p:blipFill>
          <a:blip r:embed="rId4"/>
          <a:srcRect l="5329" t="20807" r="9336" b="47048"/>
          <a:stretch/>
        </p:blipFill>
        <p:spPr>
          <a:xfrm>
            <a:off x="2666880" y="5029200"/>
            <a:ext cx="2438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7:50:22Z</dcterms:created>
  <dc:creator>setupuser</dc:creator>
  <dc:description/>
  <dc:language>en-US</dc:language>
  <cp:lastModifiedBy>jillstahl</cp:lastModifiedBy>
  <dcterms:modified xsi:type="dcterms:W3CDTF">2015-03-26T12:09:38Z</dcterms:modified>
  <cp:revision>114</cp:revision>
  <dc:subject/>
  <dc:title>EPICS &amp; MYTHS: The Odyssey</dc:title>
</cp:coreProperties>
</file>