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5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27.gif" ContentType="image/gif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20.gif" ContentType="image/gif"/>
  <Override PartName="/ppt/media/image23.png" ContentType="image/png"/>
  <Override PartName="/ppt/media/image18.gif" ContentType="image/gif"/>
  <Override PartName="/ppt/media/image22.png" ContentType="image/png"/>
  <Override PartName="/ppt/media/image17.gif" ContentType="image/gif"/>
  <Override PartName="/ppt/media/image21.png" ContentType="image/png"/>
  <Override PartName="/ppt/media/image16.gif" ContentType="image/gif"/>
  <Override PartName="/ppt/media/image14.gif" ContentType="image/gif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D351-E8D8-4133-84D7-C52B61B4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6AB1-294B-4DB3-A0A5-492C9BFB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E3D-DA89-4F74-83A6-17F48528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EA7A-939E-473B-ACA8-1C3A8B89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D90C4-C242-45D5-BB31-E95F1360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E6399-CA28-4BAA-8380-B40A7C2F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574C5-BE90-464E-8AA3-ED8534E7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5D11B-D5C9-4F8D-877D-9D137519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EDE0A-0B40-4F93-AE7D-202D8E56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8F659-FEBA-4E4B-A646-52B0A69D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9933A-AE48-4AEC-AEC7-CC935ECD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46E8-48A4-499D-8646-23B83816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DDE29-A2C2-4469-9651-FDACEB41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F9BAE-BA25-41C7-9F4E-6C60E496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213E3-054D-4A21-9497-13DDBE31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7ED5D-D131-4F3A-96F0-34BB2232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28405-369E-4BEC-A721-15381F87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26E32-ABB4-46DA-91AB-EF7D1634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17F46-C470-4625-8996-A04D8BBD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0C0C6-881B-418D-BC81-89B2694D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58967-BEB8-4BFD-8C95-52F383A4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A0520-CD23-4523-B4AD-CC1ED083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F7F1-D381-422B-9E60-0F5B93AD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76CE3-EF39-43D0-8CE8-B04AEA10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2911A-CD39-4317-A63F-1E71FD69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84D9B-5623-4340-96E4-AD62A282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6D6DF-718E-4B45-9C35-91B75919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03A77-61BD-45EA-A80C-E6AAD869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B4FEF-1AE7-41DB-B740-74613491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D9DE7-FD8D-4ACE-9402-7E18C048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728B61-B25E-4ABA-B35F-604970E4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E1E912-DB4F-4E6E-A2D3-76718C9E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038ABE-2B07-4FE4-A2FC-504055CF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3B0C-75B8-440F-B2C7-45CB9925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47274C-68A9-4FA6-A920-00243C09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104F36-5374-4E50-A044-FA4D38FB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22DA35-AB59-4E6D-97B4-CC7CC6FB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7295F4-3CC5-4F81-B08D-0242CDE9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045768-59FE-46D1-87D5-747109FE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15D75E-4FD7-4911-8B16-137434AB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8A73B8-F511-4D51-B32B-650B3762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68D0E3-F843-4C67-809F-5C52E122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D5B1A8-FFE5-4D67-9660-56BF1F51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668F-3DC6-4817-8890-64FD0909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B197-63AC-4B11-A884-7DB4EACD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19C9-3CBB-4C60-8F19-F29D8D36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63B9-330C-4610-852F-7CD6EC3E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CA62-0A45-4449-A89F-62EE935F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1759-7481-41C4-8FFD-67BD0F89F174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EFAA-0F98-42A7-8800-D7AA151230E5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885C-D18B-4A07-93BA-C1B36135EDC8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AF28-F2ED-4EF3-9B32-3A4968A4BC5F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Mrs. Kelle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connotative meaning of words are especially instrumental in conveying a poem’s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ton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or the poet’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motional attitude toward his or her subjec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tone of a poem can be formal, informal, lighthearted, solemn, or anything in betwee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etic language is also often rich with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imagery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descriptive language that creates a vivid pictur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magery is a single word or phrase that appeals to one of our 5 SENSES to create an image in our min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The luscious green grass between my toes and the smell of hot dogs on the grill…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Identify examples of imager from the passage below: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93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Documents and Settings\nkelley\Local Settings\Temporary Internet Files\Content.IE5\3INV0QE8\MM900283502[1].gif"/>
          <p:cNvPicPr/>
          <p:nvPr/>
        </p:nvPicPr>
        <p:blipFill>
          <a:blip r:embed="rId2"/>
          <a:stretch/>
        </p:blipFill>
        <p:spPr>
          <a:xfrm>
            <a:off x="7467480" y="2895480"/>
            <a:ext cx="11764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2666880" y="3886200"/>
          <a:ext cx="1905120" cy="2514600"/>
        </p:xfrm>
        <a:graphic>
          <a:graphicData uri="http://schemas.openxmlformats.org/drawingml/2006/table">
            <a:tbl>
              <a:tblPr/>
              <a:tblGrid>
                <a:gridCol w="190512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Example: Image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2511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On that long summer day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Each breath was a labor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he air was wet wool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Heavy and warm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 thick, yellow haz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Hung over the city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Blocking out buildings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Blinding the sun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Not a sound could be heard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ll was sullen and silent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Save for the whir of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electric fans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images produced by imagery affect the way the reader FEEL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house can be warm and inviting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r a house can be scary and creepy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at is why you can’t just say, it took place at a house.  You have to give some images that help describe the hous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C:\Documents and Settings\nkelley\Local Settings\Temporary Internet Files\Content.IE5\21SUCZSJ\MM900309716[1].gif"/>
          <p:cNvPicPr/>
          <p:nvPr/>
        </p:nvPicPr>
        <p:blipFill>
          <a:blip r:embed="rId2"/>
          <a:stretch/>
        </p:blipFill>
        <p:spPr>
          <a:xfrm>
            <a:off x="2286000" y="2819520"/>
            <a:ext cx="2133720" cy="1503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C:\Documents and Settings\nkelley\Local Settings\Temporary Internet Files\Content.IE5\3Z4K73JT\MM900336522[1].gif"/>
          <p:cNvPicPr/>
          <p:nvPr/>
        </p:nvPicPr>
        <p:blipFill>
          <a:blip r:embed="rId3"/>
          <a:stretch/>
        </p:blipFill>
        <p:spPr>
          <a:xfrm>
            <a:off x="6324480" y="2666880"/>
            <a:ext cx="17528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523520" y="1447920"/>
            <a:ext cx="6248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five senses ar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IGHT--------------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MEL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OUCH-----------------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AST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OUND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-------------------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01" name="Title 2" descr=""/>
          <p:cNvPicPr/>
          <p:nvPr/>
        </p:nvPicPr>
        <p:blipFill>
          <a:blip r:embed="rId1"/>
          <a:stretch/>
        </p:blipFill>
        <p:spPr>
          <a:xfrm>
            <a:off x="146160" y="29844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C:\Documents and Settings\nkelley\Local Settings\Temporary Internet Files\Content.IE5\ERNDXOKZ\MM900315845[1].gif"/>
          <p:cNvPicPr/>
          <p:nvPr/>
        </p:nvPicPr>
        <p:blipFill>
          <a:blip r:embed="rId2"/>
          <a:stretch/>
        </p:blipFill>
        <p:spPr>
          <a:xfrm>
            <a:off x="4876920" y="1523880"/>
            <a:ext cx="1447560" cy="1163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C:\Documents and Settings\nkelley\Local Settings\Temporary Internet Files\Content.IE5\3INV0QE8\MM900356717[1].gif"/>
          <p:cNvPicPr/>
          <p:nvPr/>
        </p:nvPicPr>
        <p:blipFill>
          <a:blip r:embed="rId3"/>
          <a:stretch/>
        </p:blipFill>
        <p:spPr>
          <a:xfrm>
            <a:off x="3352680" y="2362320"/>
            <a:ext cx="981360" cy="981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C:\Documents and Settings\nkelley\Local Settings\Temporary Internet Files\Content.IE5\3Z4K73JT\MM900041145[1].gif"/>
          <p:cNvPicPr/>
          <p:nvPr/>
        </p:nvPicPr>
        <p:blipFill>
          <a:blip r:embed="rId4"/>
          <a:stretch/>
        </p:blipFill>
        <p:spPr>
          <a:xfrm>
            <a:off x="5334120" y="3276720"/>
            <a:ext cx="1631880" cy="91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C:\Documents and Settings\nkelley\Local Settings\Temporary Internet Files\Content.IE5\3INV0QE8\MM900283789[1].gif"/>
          <p:cNvPicPr/>
          <p:nvPr/>
        </p:nvPicPr>
        <p:blipFill>
          <a:blip r:embed="rId5"/>
          <a:stretch/>
        </p:blipFill>
        <p:spPr>
          <a:xfrm>
            <a:off x="3505320" y="3962520"/>
            <a:ext cx="1255680" cy="1218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C:\Documents and Settings\nkelley\Local Settings\Temporary Internet Files\Content.IE5\ZC9ALNL3\MM900283902[1].gif"/>
          <p:cNvPicPr/>
          <p:nvPr/>
        </p:nvPicPr>
        <p:blipFill>
          <a:blip r:embed="rId6"/>
          <a:stretch/>
        </p:blipFill>
        <p:spPr>
          <a:xfrm>
            <a:off x="5943600" y="4419720"/>
            <a:ext cx="99072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etry also often features figurative language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anguage that is not meant to be taken literall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ost figurative language points out a striking and significant similarity between dissimilar things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rough unexpected comparisons, poets help readers see feelings, experiences, and familiar, everyday objects in a fresh new light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Simil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compares two unlike things using the word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ik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or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a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Her visit was as welcome as a flower in winter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Metapho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compares two unlike things without the use of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onnectin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wor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Her visit was a flower in the winter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Personific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give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uma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qualities or abilities to nonhuman thing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The alarm clock nagged me to get out of bed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0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dentify the figurative language in the following passag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2971800" y="2362320"/>
          <a:ext cx="3276720" cy="2971800"/>
        </p:xfrm>
        <a:graphic>
          <a:graphicData uri="http://schemas.openxmlformats.org/drawingml/2006/table">
            <a:tbl>
              <a:tblPr/>
              <a:tblGrid>
                <a:gridCol w="327672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Example: Figurative Langu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3049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all, strong, and silent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he stalks of cor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Guarded the gard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Like sentrie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ll ears, they listen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For the saws of the crow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he birds approached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 hungry, invading forc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Free Verse Poetry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e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no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follow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ixed pattern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Formal Verse Poetry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es follow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ixed patter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roughout history, poets have invented lyric forms and over time, some of these forms have become part of literary tradition.  Some of these poetic forms includ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5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pecific types of poems: 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Just like automobiles come in different forms with different capabilities and luxuries, so do poem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Ballad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songlik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narrative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poem usually written in a rhymed stanza of 4-6 lines that feature repetition and strong meter.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Haiku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An unrhym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3-line</a:t>
            </a: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 lyric poem, usually focused o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images</a:t>
            </a: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 from nature, in which lines 1 and 3 have five syllables and line 2 has seven syllables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1" marL="613800" indent="-2617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17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English Sonnet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14-line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poem consisting of thre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quatrains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and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couplet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; usually rhymed abab cdcd efef gg; usually written about LOVE.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Ode: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lyric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poem o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serious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subject, usually written in a precise structure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oncrete Poem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A poem with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hape</a:t>
            </a: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 that suggests its subject; the poet arranges letters, words, punctuation, and lines to create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picture</a:t>
            </a: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1" marL="626760" indent="-267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19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There are three types of poetry-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Lyrical Poetry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poem that expresses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thoughts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feelings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of the speaker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Narrative Poetry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poem that tell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story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Dramatic Poetry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poem that presents the speech of one or more speakers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dramatic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situation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Title 2" descr=""/>
          <p:cNvPicPr/>
          <p:nvPr/>
        </p:nvPicPr>
        <p:blipFill>
          <a:blip r:embed="rId1"/>
          <a:stretch/>
        </p:blipFill>
        <p:spPr>
          <a:xfrm>
            <a:off x="219240" y="450720"/>
            <a:ext cx="847404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w we’re going to read some examples of these types of poems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Picture 2" descr="C:\Documents and Settings\nkelley\Local Settings\Temporary Internet Files\Content.IE5\QC79P0ZO\MM900283631[1].gif"/>
          <p:cNvPicPr/>
          <p:nvPr/>
        </p:nvPicPr>
        <p:blipFill>
          <a:blip r:embed="rId1"/>
          <a:stretch/>
        </p:blipFill>
        <p:spPr>
          <a:xfrm>
            <a:off x="2514600" y="1298520"/>
            <a:ext cx="396252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peaker of a poem is the voice tha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tell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the poem.  The speaker is NOT the poet.  The speaker is a constructed, imagined voi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poetry, a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lin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s the group of words in one line.  This may or may not be a complete senten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stanza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s a group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ine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stanza made up of two lines is called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ouple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stanza made up of four lines is called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quatrai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Mete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s the rhythmic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patter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  Poets create meter through the natural rhythm of stressed and unstressed syllables of wor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ressed and unstressed syllables are divided into units that are call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ee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common type of foot is an iamb which is a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unstressed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yllable followed by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tressed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yllab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ample: wrinkled se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Exact rhym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words that end in both the sam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vowel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and the sam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onsonan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ound.  EXAMPLE: sun and ru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Slant rhym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words that end in similar but no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xac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ounds.  EXAMPLE: prove and lov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End rhyme: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hyming words that fall at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nd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of two or more lines.  EXAMPLE: crawls, walls, and fall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Internal Rhym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rhyming words plac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withi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a line.  EXAMPLE: the mouse in the house woke the ca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set pattern of end rhyme is called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rhyme schem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rhyme scheme of a poem is identified by assigning a different letter of the alphabet to each end rhyme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hyme scheme helps shape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tructur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of a stanza and clarifies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relationship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among the lin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2057400" y="3886200"/>
          <a:ext cx="5029200" cy="220968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1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Example: Rhyme Schem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1692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For oft, when on my couch I li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    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In vacant or in pensive moo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b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hey flash upon that inward ey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    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Which is the bliss of solitude;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b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nd then my heart with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pleasure fills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                                   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nd dances with the daffodils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    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petition: the use of an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anguag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elements more than on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Above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the town,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above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the lake, and high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above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the trees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lliteration: is the repetition of consonant sounds at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beginnin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of wor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the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sn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ke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sn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aked past the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sn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il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ssonance: is the repetition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vowel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ounds within wor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the gr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ee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n l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ea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ves fluttered in the br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ee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ze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4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nsonance: is the repetition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inal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consonant sounds within wor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The ki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ng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sa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ng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a so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ng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omatopoeia: is the use of words that imitat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ound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 The bees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buzzed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, and the brook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gurgled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6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etry relies not only on the sounds and rhythms of language but also on the precise meaning of words.  Poets choose each word carefully, considering both its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denot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iteral defini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and its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connot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motional associ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762120" y="3733920"/>
          <a:ext cx="7543800" cy="213336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53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Denotation of word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Positive Connota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Negative Connota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533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Wise with Mone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Frugal, thrift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Cheap, penny-pinching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33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Young in ag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3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alks a lo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18:15:02Z</dcterms:created>
  <dc:creator>setupuser</dc:creator>
  <dc:description/>
  <dc:language>en-US</dc:language>
  <cp:lastModifiedBy>jillstahl</cp:lastModifiedBy>
  <dcterms:modified xsi:type="dcterms:W3CDTF">2016-02-29T14:11:42Z</dcterms:modified>
  <cp:revision>17</cp:revision>
  <dc:subject/>
  <dc:title>Poetry Unit- Notes</dc:title>
</cp:coreProperties>
</file>