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526-AA0D-4838-8E7E-1F12BD62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FF2-6ED3-47B9-9CC4-0DFFB43C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516-178C-46F1-851A-7A7211FC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C0B-B612-461F-BE24-F6237C5C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B79F8-71DC-49D9-ACC0-4E208C40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EACEC-1297-4CC9-BF74-E8BBDB15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EEF66-63A5-417F-8B87-4AB67CA3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E8F23-6D85-4C62-9CE2-B72976E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78665-057A-4BF4-B98B-4FB57AE3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967B3-8869-45A7-A023-3F8CD39C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E0F4E-A5A1-4C46-BC49-BDEC7BF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287-B253-4FB4-A5C7-CAE98B55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94D4E-F24E-4816-84CB-2B934852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A1509-D1C5-4669-8A11-99A9587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C9B8C-C39D-42A6-B5E4-586A49BD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7D083-8092-4543-A78A-04AF4AA5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7CFE7-2042-45DE-A4BE-AA400B70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69E9-D09A-4AB7-A464-58149F16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ECA6-3866-48A8-98DA-B5396446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A686-D714-46EF-BA58-80951D42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A073-1628-49B1-A821-7CCE9EB6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4A7F-AB45-42E0-A382-89A9A7FB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1B6-F694-44C5-8508-06A4E20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2E27-7B49-4CC4-BB2D-3F9FCE0E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CF01-6CF9-4119-B0D5-686E8FC0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B884-CBF7-45EC-89F9-4188F70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7770-E75B-4634-8524-3F6C997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03D6-BCE8-4C82-A3D9-EBD59A6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1BE51-1D68-4083-80D5-02AF001A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23386-BAAE-4C83-B4B5-CF87CF69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8D2E9-E3EF-49AD-B05B-19DB128B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F852B-72F1-44FB-8B7C-5BC9D8E6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C3D19-8895-4944-9535-D7418FB9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82F-90B6-4BF1-85FA-BF5FA24E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D7791-749E-4FF7-90E9-A616BA8E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40923-F260-4DA3-8631-23DD5FB9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B5D64-8F1E-4AE9-A7EC-716075D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39D24-3AF4-4AC0-B5EB-9585424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C905F-D0CD-4916-A271-9D83B97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198BC-8BB0-4972-AD6A-8F81DDB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4D645-3D76-4BB3-80EA-692CE9B1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4EB1A-6BAF-4C6F-A353-B83491E6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6967A-5009-48CD-B7E4-D3A12B25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EE5-A3B9-49F8-87D6-7A3F583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4A8-5A61-43D5-8C65-68D374D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117-15A4-4D96-AA23-F96CCB8C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902-EFB4-4E40-AF5B-810DD0D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787-E827-430B-A348-BA9DFA5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424E-4BA3-4BD9-BF52-26B310DAC7A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24E8-C97B-4797-BA8E-C80DC9B88C5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56C8-B66A-4A64-A7E9-6ABCCFFD01A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2A87-CFAD-4EA8-968D-AE67CD92644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rs. Kelle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notative meaning of words are especially instrumental in conveying a poem’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to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the poet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ttitude toward his or her subje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one of a poem can be formal, informal, lighthearted, solemn, or anything in betwe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ic language is also often rich with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mage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scriptive language that creates a vivid pi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ery is a single word or phrase that appeals to one of our 5 SENSES to create an image in our mi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he luscious green grass between my toes and the smell of hot dogs on the grill…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Identify examples of imager from the passage below: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nkelley\Local Settings\Temporary Internet Files\Content.IE5\3INV0QE8\MM900283502[1].gif"/>
          <p:cNvPicPr/>
          <p:nvPr/>
        </p:nvPicPr>
        <p:blipFill>
          <a:blip r:embed="rId2"/>
          <a:stretch/>
        </p:blipFill>
        <p:spPr>
          <a:xfrm>
            <a:off x="7467480" y="2895480"/>
            <a:ext cx="1176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666880" y="3886200"/>
          <a:ext cx="1905120" cy="251460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Ima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51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On that long summer da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ach breath was a labor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air was wet wool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eavy and warm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thick, yellow ha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ung over the cit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ocking out buildings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inding the su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Not a sound could be heard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was sullen and silent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Save for the whir of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lectric fan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mages produced by imagery affect the way the reader FE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house can be warm and invit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a house can be scary and creep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is why you can’t just say, it took place at a house.  You have to give some images that help describe the hou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nkelley\Local Settings\Temporary Internet Files\Content.IE5\21SUCZSJ\MM900309716[1].gif"/>
          <p:cNvPicPr/>
          <p:nvPr/>
        </p:nvPicPr>
        <p:blipFill>
          <a:blip r:embed="rId2"/>
          <a:stretch/>
        </p:blipFill>
        <p:spPr>
          <a:xfrm>
            <a:off x="2286000" y="281952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nkelley\Local Settings\Temporary Internet Files\Content.IE5\3Z4K73JT\MM900336522[1].gif"/>
          <p:cNvPicPr/>
          <p:nvPr/>
        </p:nvPicPr>
        <p:blipFill>
          <a:blip r:embed="rId3"/>
          <a:stretch/>
        </p:blipFill>
        <p:spPr>
          <a:xfrm>
            <a:off x="6324480" y="2666880"/>
            <a:ext cx="175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3520" y="1447920"/>
            <a:ext cx="6248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ve senses ar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GHT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E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OUCH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S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UN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Title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nkelley\Local Settings\Temporary Internet Files\Content.IE5\ERNDXOKZ\MM900315845[1].gif"/>
          <p:cNvPicPr/>
          <p:nvPr/>
        </p:nvPicPr>
        <p:blipFill>
          <a:blip r:embed="rId2"/>
          <a:stretch/>
        </p:blipFill>
        <p:spPr>
          <a:xfrm>
            <a:off x="4876920" y="1523880"/>
            <a:ext cx="1447560" cy="116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nkelley\Local Settings\Temporary Internet Files\Content.IE5\3INV0QE8\MM900356717[1].gif"/>
          <p:cNvPicPr/>
          <p:nvPr/>
        </p:nvPicPr>
        <p:blipFill>
          <a:blip r:embed="rId3"/>
          <a:stretch/>
        </p:blipFill>
        <p:spPr>
          <a:xfrm>
            <a:off x="3352680" y="2362320"/>
            <a:ext cx="981360" cy="98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nkelley\Local Settings\Temporary Internet Files\Content.IE5\3Z4K73JT\MM900041145[1].gif"/>
          <p:cNvPicPr/>
          <p:nvPr/>
        </p:nvPicPr>
        <p:blipFill>
          <a:blip r:embed="rId4"/>
          <a:stretch/>
        </p:blipFill>
        <p:spPr>
          <a:xfrm>
            <a:off x="5334120" y="3276720"/>
            <a:ext cx="1631880" cy="91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nkelley\Local Settings\Temporary Internet Files\Content.IE5\3INV0QE8\MM900283789[1].gif"/>
          <p:cNvPicPr/>
          <p:nvPr/>
        </p:nvPicPr>
        <p:blipFill>
          <a:blip r:embed="rId5"/>
          <a:stretch/>
        </p:blipFill>
        <p:spPr>
          <a:xfrm>
            <a:off x="3505320" y="3962520"/>
            <a:ext cx="1255680" cy="121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nkelley\Local Settings\Temporary Internet Files\Content.IE5\ZC9ALNL3\MM900283902[1].gif"/>
          <p:cNvPicPr/>
          <p:nvPr/>
        </p:nvPicPr>
        <p:blipFill>
          <a:blip r:embed="rId6"/>
          <a:stretch/>
        </p:blipFill>
        <p:spPr>
          <a:xfrm>
            <a:off x="5943600" y="4419720"/>
            <a:ext cx="990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also often features figurative language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 that is not meant to be taken liter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figurative language points out a striking and significant similarity between dissimilar thing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 unexpected comparisons, poets help readers see feelings, experiences, and familiar, everyday objects in a fresh new ligh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using the word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k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r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s welcome as a flower in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aph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without the use of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nect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 flower in the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ersonific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giv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uma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qualities or abilities to nonhuman thing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alarm clock nagged me to get out of be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dentify the figurative language in the following pass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971800" y="2362320"/>
          <a:ext cx="3276720" cy="29718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Figur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l, strong, and silent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stalks of c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Guarded the ga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Like sentri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ears, they liste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the saws of the crow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birds approache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hungry, invading for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ree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rmal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, poets have invented lyric forms and over time, some of these forms have become part of literary tradition.  Some of these poetic forms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ific types of poems: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Just like automobiles come in different forms with different capabilities and luxuries, so do poem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llad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song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rrativ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usually written in a rhymed stanza of 4-6 lines that feature repetition and strong meter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iku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n unrhy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3-lin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lyric poem, usually focused 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ages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from nature, in which lines 1 and 3 have five syllables and line 2 has seven syllables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nglish Sonnet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14-lin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consisting of thr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quatrain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; usually rhymed abab cdcd efef gg; usually written about LOVE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Ode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yr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o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riou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ubject, usually written in a precise structure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crete Poe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 poem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hap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that suggests its subject; the poet arranges letters, words, punctuation, and lines to creat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ictur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ere are three types of poetry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yrical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express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ought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eeling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of the speaker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Narrative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tell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tory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matic Poetry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presents the speech of one or more speaker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amat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ituation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we’re going to read some examples of these types of poem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Documents and Settings\nkelley\Local Settings\Temporary Internet Files\Content.IE5\QC79P0ZO\MM900283631[1].gif"/>
          <p:cNvPicPr/>
          <p:nvPr/>
        </p:nvPicPr>
        <p:blipFill>
          <a:blip r:embed="rId1"/>
          <a:stretch/>
        </p:blipFill>
        <p:spPr>
          <a:xfrm>
            <a:off x="2514600" y="1298520"/>
            <a:ext cx="39625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peaker of a poem is the voice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el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poem.  The speaker is NOT the poet.  The speaker is a constructed, imagined vo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oetry,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l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group of words in one line.  This may or may not be a complete sent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tanz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group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n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two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four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uatra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rhythmic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atter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Poets create meter through the natural rhythm of stressed and unstressed syllables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essed and unstressed syllables are divided into units that are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e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ommon type of foot is an iamb which 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un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 followed by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wrinkled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xac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both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sona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.  EXAMPLE: sun and r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lan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similar but no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.  EXAMPLE: prove and lo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d rhym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ing words that fall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two or more lines.  EXAMPLE: crawls, walls, and fa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nternal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rhyming words pla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 line.  EXAMPLE: the mouse in the house woke the ca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et pattern of end rhyme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hyme sche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hyme scheme of a poem is identified by assigning a different letter of the alphabet to each end rhyme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e scheme helps shap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u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 stanza and clarifie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lationship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mong the li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057400" y="3886200"/>
          <a:ext cx="5029200" cy="22096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Rhyme Sche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oft, when on my couch I li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In vacant or in pensive moo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y flash upon that inward ey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hich is the bliss of solitude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then my heart with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pleasure fills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  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dances with the daffodils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etition: the use of an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elements more than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own,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lake, and high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rees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iteration: is the repetition of consonant sounds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egin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k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aked past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il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g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 l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a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s fluttered in the b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z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na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nsonant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ki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sa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 so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omatopoeia: is the use of words that imitat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 The bees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buzz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, and the brook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gurgl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relies not only on the sounds and rhythms of language but also on the precise meaning of words.  Poets choose each word carefully, considering both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e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teral defin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and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ssoci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762120" y="3733920"/>
          <a:ext cx="7543800" cy="21333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Denotation of wor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Posi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Nega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ise with Mone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rugal, thrif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heap, penny-pinc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Young in 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ks a lo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8:15:02Z</dcterms:created>
  <dc:creator>setupuser</dc:creator>
  <dc:description/>
  <dc:language>en-US</dc:language>
  <cp:lastModifiedBy>jillstahl</cp:lastModifiedBy>
  <dcterms:modified xsi:type="dcterms:W3CDTF">2016-02-29T14:11:42Z</dcterms:modified>
  <cp:revision>17</cp:revision>
  <dc:subject/>
  <dc:title>Poetry Unit- Notes</dc:title>
</cp:coreProperties>
</file>