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2.gif" ContentType="image/gif"/>
  <Override PartName="/ppt/media/image15.png" ContentType="image/png"/>
  <Override PartName="/ppt/media/image9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image27.gif" ContentType="image/gif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19.gif" ContentType="image/gif"/>
  <Override PartName="/ppt/media/image5.png" ContentType="image/png"/>
  <Override PartName="/ppt/media/image10.png" ContentType="image/png"/>
  <Override PartName="/ppt/media/image20.gif" ContentType="image/gif"/>
  <Override PartName="/ppt/media/image23.png" ContentType="image/png"/>
  <Override PartName="/ppt/media/image18.gif" ContentType="image/gif"/>
  <Override PartName="/ppt/media/image22.png" ContentType="image/png"/>
  <Override PartName="/ppt/media/image17.gif" ContentType="image/gif"/>
  <Override PartName="/ppt/media/image21.png" ContentType="image/png"/>
  <Override PartName="/ppt/media/image16.gif" ContentType="image/gif"/>
  <Override PartName="/ppt/media/image14.gif" ContentType="image/gif"/>
  <Override PartName="/ppt/media/image2.png" ContentType="image/png"/>
  <Override PartName="/ppt/media/image2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C357-A610-400A-84EC-BD1BDEA0B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0365-E39B-48D6-A8A5-4D1C3D2CA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5E0E-5405-4C98-88EF-5DDBFDB0C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6F4A-9D60-49DC-9CAC-83C3F574A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C9FB51-B02A-46B6-AA4F-146695119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76560A-D0DC-4403-BDB5-F51DD2316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D378B8-6CE3-4F0B-944D-2523DC32D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F9D73F-15E7-4A87-9877-1BEA443EE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B47B0A-65F0-427E-878F-32FF8B601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84E69A-57A8-432E-BE5D-C766308AE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7C4E55-5B82-47B4-8B3D-54000A04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2CE1-843A-4DF2-8B24-8A52193CF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D75ECA-003B-48D6-B33E-3F1AA47D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F34E9F-E44F-40CE-960D-2BDE1E01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C8A034-B58B-4813-B19A-34CF29BF2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A0A4E7-2599-4F80-9B84-6E630E6B9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8EB6F3-F3C4-407D-9ABF-AB49B4B99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DE017-92A1-4366-BDC1-E46842AC1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0EED0-DB03-425F-9D55-7A13F40E1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7F4AA-D672-4E9D-B66F-BBEBF3AF8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38434-40D2-46AE-B8E0-01BE48E1D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2F78E-4C78-4190-A1AE-D5EC5ABE5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A1BC-F3A1-4DF5-BD70-469116BCC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89807-BF9B-4790-84DE-7FFEE8416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E837A-AAE5-4FEB-BCB2-C0368E6C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50360-3344-42E6-831B-E6507BA8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1A553-2C47-4F78-A092-D1EC2277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BCEAB-86AC-4339-8513-222D83F01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E8E56-6C50-4D94-B63E-43F80C6CF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FB605-5548-482D-93E9-C1EA63B07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ACF597-69A5-4DC5-8762-C0D3FC193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383477-176A-4F5C-839D-5F284D291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98C63A-6023-4C0E-9379-1F5B32F5A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D1CC-D839-4685-B53F-CF425F8E0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A1B915-2A5F-46EF-82C5-BC8B1CB86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C6C9E2-AE51-40A5-A443-6E0BAC587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32F6EC-8109-4BF5-82E4-F58F8F2A6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E6A584-D2FD-4377-BD1D-4B0BAD61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E20FC2-34E7-4169-9203-06CF5403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8C0980-DA12-4AFD-99C6-D47ABBF0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CE68EC-0FD8-4DD2-ACA9-FCCA87874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9BC8FA-1AE2-4B8D-8A9E-DF255B361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D31B26-6E41-4D1F-8F72-497F9F87C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9499-5F8C-4F6A-9918-C0C2A0E0E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D4A7-89BA-4B96-B27F-65676DCC4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8076-9499-4135-A01C-197453F8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2F3C-2592-457E-AD37-CC311C8D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DAF5-C48E-4621-817B-319C8D51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9CAF3-9FA9-40B1-A0E1-3F75CFA3F664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Oval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4CCE1-B041-433B-B7F5-43B0F10FE426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357D-C157-40BD-BB52-DB34ACA20846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5F319-4723-448F-94C5-661F7BC872FF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image" Target="../media/image19.gif"/><Relationship Id="rId6" Type="http://schemas.openxmlformats.org/officeDocument/2006/relationships/image" Target="../media/image20.gi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Mrs. Kelley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Title 1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connotative meaning of words are especially instrumental in conveying a poem’s </a:t>
            </a: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tone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, or the poet’s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emotional attitude toward his or her subject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tone of a poem can be formal, informal, lighthearted, solemn, or anything in between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oetic language is also often rich with </a:t>
            </a: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imagery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, or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descriptive language that creates a vivid picture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1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magery is a single word or phrase that appeals to one of our 5 SENSES to create an image in our mind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The luscious green grass between my toes and the smell of hot dogs on the grill…</a:t>
            </a:r>
            <a:endParaRPr b="0" lang="en-US" sz="28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Identify examples of imager from the passage below:</a:t>
            </a:r>
            <a:endParaRPr b="0" lang="en-US" sz="28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93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C:\Documents and Settings\nkelley\Local Settings\Temporary Internet Files\Content.IE5\3INV0QE8\MM900283502[1].gif"/>
          <p:cNvPicPr/>
          <p:nvPr/>
        </p:nvPicPr>
        <p:blipFill>
          <a:blip r:embed="rId2"/>
          <a:stretch/>
        </p:blipFill>
        <p:spPr>
          <a:xfrm>
            <a:off x="7467480" y="2895480"/>
            <a:ext cx="117648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5" name=""/>
          <p:cNvGraphicFramePr/>
          <p:nvPr/>
        </p:nvGraphicFramePr>
        <p:xfrm>
          <a:off x="2666880" y="3886200"/>
          <a:ext cx="1905120" cy="2514600"/>
        </p:xfrm>
        <a:graphic>
          <a:graphicData uri="http://schemas.openxmlformats.org/drawingml/2006/table">
            <a:tbl>
              <a:tblPr/>
              <a:tblGrid>
                <a:gridCol w="1905120"/>
              </a:tblGrid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 Light"/>
                          <a:ea typeface="Calibri"/>
                        </a:rPr>
                        <a:t>Example: Imager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  <a:tr h="2511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On that long summer day,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Each breath was a labor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The air was wet wool,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Heavy and warm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A thick, yellow haz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Hung over the city,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Blocking out buildings,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Blinding the sun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Not a sound could be heard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All was sullen and silent,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Save for the whir of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electric fans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images produced by imagery affect the way the reader FEEL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 house can be warm and inviting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r a house can be scary and creepy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at is why you can’t just say, it took place at a house.  You have to give some images that help describe the hous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" descr="C:\Documents and Settings\nkelley\Local Settings\Temporary Internet Files\Content.IE5\21SUCZSJ\MM900309716[1].gif"/>
          <p:cNvPicPr/>
          <p:nvPr/>
        </p:nvPicPr>
        <p:blipFill>
          <a:blip r:embed="rId2"/>
          <a:stretch/>
        </p:blipFill>
        <p:spPr>
          <a:xfrm>
            <a:off x="2286000" y="2819520"/>
            <a:ext cx="2133720" cy="1503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C:\Documents and Settings\nkelley\Local Settings\Temporary Internet Files\Content.IE5\3Z4K73JT\MM900336522[1].gif"/>
          <p:cNvPicPr/>
          <p:nvPr/>
        </p:nvPicPr>
        <p:blipFill>
          <a:blip r:embed="rId3"/>
          <a:stretch/>
        </p:blipFill>
        <p:spPr>
          <a:xfrm>
            <a:off x="6324480" y="2666880"/>
            <a:ext cx="1752840" cy="20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1523520" y="1447920"/>
            <a:ext cx="6248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five senses are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SIGHT--------------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SMELL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TOUCH-----------------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TASTE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SOUND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-------------------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201" name="Title 2" descr=""/>
          <p:cNvPicPr/>
          <p:nvPr/>
        </p:nvPicPr>
        <p:blipFill>
          <a:blip r:embed="rId1"/>
          <a:stretch/>
        </p:blipFill>
        <p:spPr>
          <a:xfrm>
            <a:off x="146160" y="29844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" descr="C:\Documents and Settings\nkelley\Local Settings\Temporary Internet Files\Content.IE5\ERNDXOKZ\MM900315845[1].gif"/>
          <p:cNvPicPr/>
          <p:nvPr/>
        </p:nvPicPr>
        <p:blipFill>
          <a:blip r:embed="rId2"/>
          <a:stretch/>
        </p:blipFill>
        <p:spPr>
          <a:xfrm>
            <a:off x="4876920" y="1523880"/>
            <a:ext cx="1447560" cy="11638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C:\Documents and Settings\nkelley\Local Settings\Temporary Internet Files\Content.IE5\3INV0QE8\MM900356717[1].gif"/>
          <p:cNvPicPr/>
          <p:nvPr/>
        </p:nvPicPr>
        <p:blipFill>
          <a:blip r:embed="rId3"/>
          <a:stretch/>
        </p:blipFill>
        <p:spPr>
          <a:xfrm>
            <a:off x="3352680" y="2362320"/>
            <a:ext cx="981360" cy="981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C:\Documents and Settings\nkelley\Local Settings\Temporary Internet Files\Content.IE5\3Z4K73JT\MM900041145[1].gif"/>
          <p:cNvPicPr/>
          <p:nvPr/>
        </p:nvPicPr>
        <p:blipFill>
          <a:blip r:embed="rId4"/>
          <a:stretch/>
        </p:blipFill>
        <p:spPr>
          <a:xfrm>
            <a:off x="5334120" y="3276720"/>
            <a:ext cx="1631880" cy="9190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C:\Documents and Settings\nkelley\Local Settings\Temporary Internet Files\Content.IE5\3INV0QE8\MM900283789[1].gif"/>
          <p:cNvPicPr/>
          <p:nvPr/>
        </p:nvPicPr>
        <p:blipFill>
          <a:blip r:embed="rId5"/>
          <a:stretch/>
        </p:blipFill>
        <p:spPr>
          <a:xfrm>
            <a:off x="3505320" y="3962520"/>
            <a:ext cx="1255680" cy="12189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C:\Documents and Settings\nkelley\Local Settings\Temporary Internet Files\Content.IE5\ZC9ALNL3\MM900283902[1].gif"/>
          <p:cNvPicPr/>
          <p:nvPr/>
        </p:nvPicPr>
        <p:blipFill>
          <a:blip r:embed="rId6"/>
          <a:stretch/>
        </p:blipFill>
        <p:spPr>
          <a:xfrm>
            <a:off x="5943600" y="4419720"/>
            <a:ext cx="99072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oetry also often features figurative language or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language that is not meant to be taken literally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ost figurative language points out a striking and significant similarity between dissimilar things.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rough unexpected comparisons, poets help readers see feelings, experiences, and familiar, everyday objects in a fresh new light.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8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Simile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: compares two unlike things using the words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like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or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as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26760" indent="-26712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EXAMPLE: Her visit was as welcome as a flower in winter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Metaphor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: compares two unlike things without the use of a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connecting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word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26760" indent="-26712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EXAMPLE: Her visit was a flower in the winter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Personification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: gives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human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qualities or abilities to nonhuman thing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26760" indent="-26712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EXAMPLE: The alarm clock nagged me to get out of bed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0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dentify the figurative language in the following passage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2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3" name=""/>
          <p:cNvGraphicFramePr/>
          <p:nvPr/>
        </p:nvGraphicFramePr>
        <p:xfrm>
          <a:off x="2971800" y="2362320"/>
          <a:ext cx="3276720" cy="2971800"/>
        </p:xfrm>
        <a:graphic>
          <a:graphicData uri="http://schemas.openxmlformats.org/drawingml/2006/table">
            <a:tbl>
              <a:tblPr/>
              <a:tblGrid>
                <a:gridCol w="3276720"/>
              </a:tblGrid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 Light"/>
                          <a:ea typeface="Calibri"/>
                        </a:rPr>
                        <a:t>Example: Figurative Langua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  <a:tr h="3049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Tall, strong, and silent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The stalks of cor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Guarded the gard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Like sentrie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All ears, they listen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For the saws of the crow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The birds approached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a hungry, invading force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Free Verse Poetry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oes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not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follow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fixed patterns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Formal Verse Poetry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oes follow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fixed pattern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roughout history, poets have invented lyric forms and over time, some of these forms have become part of literary tradition.  Some of these poetic forms include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5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pecific types of poems:  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Just like automobiles come in different forms with different capabilities and luxuries, so do poem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Ballad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6172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A songlik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narrative</a:t>
            </a: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 poem usually written in a rhymed stanza of 4-6 lines that feature repetition and strong meter.</a:t>
            </a:r>
            <a:endParaRPr b="0" lang="en-US" sz="2800" spc="-1" strike="noStrike">
              <a:solidFill>
                <a:srgbClr val="fefac9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Haiku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6172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efac9"/>
                </a:solidFill>
                <a:latin typeface="Constantia"/>
              </a:rPr>
              <a:t>An unrhymed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3-line</a:t>
            </a:r>
            <a:r>
              <a:rPr b="0" lang="en-US" sz="2600" spc="-1" strike="noStrike">
                <a:solidFill>
                  <a:srgbClr val="fefac9"/>
                </a:solidFill>
                <a:latin typeface="Constantia"/>
              </a:rPr>
              <a:t> lyric poem, usually focused on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images</a:t>
            </a:r>
            <a:r>
              <a:rPr b="0" lang="en-US" sz="2600" spc="-1" strike="noStrike">
                <a:solidFill>
                  <a:srgbClr val="fefac9"/>
                </a:solidFill>
                <a:latin typeface="Constantia"/>
              </a:rPr>
              <a:t> from nature, in which lines 1 and 3 have five syllables and line 2 has seven syllables.</a:t>
            </a:r>
            <a:endParaRPr b="0" lang="en-US" sz="2600" spc="-1" strike="noStrike">
              <a:solidFill>
                <a:srgbClr val="fefac9"/>
              </a:solidFill>
              <a:latin typeface="Constantia"/>
            </a:endParaRPr>
          </a:p>
          <a:p>
            <a:pPr lvl="1" marL="613800" indent="-26172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217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English Sonnet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26760" indent="-26712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14-line</a:t>
            </a: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 poem consisting of thre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quatrains</a:t>
            </a: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 and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couplet</a:t>
            </a: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; usually rhymed abab cdcd efef gg; usually written about LOVE.</a:t>
            </a:r>
            <a:endParaRPr b="0" lang="en-US" sz="2800" spc="-1" strike="noStrike">
              <a:solidFill>
                <a:srgbClr val="fefac9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Ode: 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626760" indent="-26712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lyric</a:t>
            </a: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 poem on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serious</a:t>
            </a: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 subject, usually written in a precise structure</a:t>
            </a:r>
            <a:endParaRPr b="0" lang="en-US" sz="2800" spc="-1" strike="noStrike">
              <a:solidFill>
                <a:srgbClr val="fefac9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oncrete Poem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26760" indent="-26712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efac9"/>
                </a:solidFill>
                <a:latin typeface="Constantia"/>
              </a:rPr>
              <a:t>A poem with a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shape</a:t>
            </a:r>
            <a:r>
              <a:rPr b="0" lang="en-US" sz="2600" spc="-1" strike="noStrike">
                <a:solidFill>
                  <a:srgbClr val="fefac9"/>
                </a:solidFill>
                <a:latin typeface="Constantia"/>
              </a:rPr>
              <a:t> that suggests its subject; the poet arranges letters, words, punctuation, and lines to create a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picture</a:t>
            </a:r>
            <a:r>
              <a:rPr b="0" lang="en-US" sz="2600" spc="-1" strike="noStrike">
                <a:solidFill>
                  <a:srgbClr val="fefac9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efac9"/>
              </a:solidFill>
              <a:latin typeface="Constantia"/>
            </a:endParaRPr>
          </a:p>
          <a:p>
            <a:pPr lvl="1" marL="626760" indent="-26712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219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There are three types of poetry-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Lyrical Poetry: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A poem that expresses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thoughts</a:t>
            </a: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feelings</a:t>
            </a: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 of the speaker</a:t>
            </a:r>
            <a:endParaRPr b="0" lang="en-US" sz="28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Narrative Poetry: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A poem that tells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story</a:t>
            </a: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Dramatic Poetry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A poem that presents the speech of one or more speakers in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dramatic</a:t>
            </a: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 situation</a:t>
            </a:r>
            <a:endParaRPr b="0" lang="en-US" sz="28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3" name="Title 2" descr=""/>
          <p:cNvPicPr/>
          <p:nvPr/>
        </p:nvPicPr>
        <p:blipFill>
          <a:blip r:embed="rId1"/>
          <a:stretch/>
        </p:blipFill>
        <p:spPr>
          <a:xfrm>
            <a:off x="219240" y="450720"/>
            <a:ext cx="8474040" cy="9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ow we’re going to read some examples of these types of poems…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1" name="Picture 2" descr="C:\Documents and Settings\nkelley\Local Settings\Temporary Internet Files\Content.IE5\QC79P0ZO\MM900283631[1].gif"/>
          <p:cNvPicPr/>
          <p:nvPr/>
        </p:nvPicPr>
        <p:blipFill>
          <a:blip r:embed="rId1"/>
          <a:stretch/>
        </p:blipFill>
        <p:spPr>
          <a:xfrm>
            <a:off x="2514600" y="1298520"/>
            <a:ext cx="3962520" cy="49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speaker of a poem is the voice that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tells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the poem.  The speaker is NOT the poet.  The speaker is a constructed, imagined voic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n poetry, a </a:t>
            </a: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line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is the group of words in one line.  This may or may not be a complete sentenc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  </a:t>
            </a: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stanza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is a group of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lines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 stanza made up of two lines is called a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couplet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 stanza made up of four lines is called a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quatrain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5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Meter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is the rhythmic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pattern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  Poets create meter through the natural rhythm of stressed and unstressed syllables of word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tressed and unstressed syllables are divided into units that are called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feet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 common type of foot is an iamb which is an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unstressed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syllable followed by a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stressed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syllabl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xample: wrinkled se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7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Exact rhyme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: words that end in both the sam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vowel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and the sam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consonant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sound.  EXAMPLE: sun and ru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Slant rhyme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: words that end in similar but not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exact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sounds.  EXAMPLE: prove and lov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End rhyme: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rhyming words that fall at th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ends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of two or more lines.  EXAMPLE: crawls, walls, and fall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Internal Rhyme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: rhyming words placed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within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a line.  EXAMPLE: the mouse in the house woke the cat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9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 set pattern of end rhyme is called a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rhyme scheme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rhyme scheme of a poem is identified by assigning a different letter of the alphabet to each end rhyme.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Rhyme scheme helps shape th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structure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of a stanza and clarifies th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relationships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among the line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1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2" name=""/>
          <p:cNvGraphicFramePr/>
          <p:nvPr/>
        </p:nvGraphicFramePr>
        <p:xfrm>
          <a:off x="2057400" y="3886200"/>
          <a:ext cx="5029200" cy="2209680"/>
        </p:xfrm>
        <a:graphic>
          <a:graphicData uri="http://schemas.openxmlformats.org/drawingml/2006/table">
            <a:tbl>
              <a:tblPr/>
              <a:tblGrid>
                <a:gridCol w="5029200"/>
              </a:tblGrid>
              <a:tr h="517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 Light"/>
                          <a:ea typeface="Calibri"/>
                        </a:rPr>
                        <a:t>Example: Rhyme Schem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  <a:tr h="1692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For oft, when on my couch I li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                     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In vacant or in pensive moo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	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b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They flash upon that inward ey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                     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Which is the bliss of solitude;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	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b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And then my heart with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pleasure fills,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                                                    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c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And dances with the daffodils.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                     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C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Repetition: the use of any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language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elements more than onc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EXAMPLE: </a:t>
            </a:r>
            <a:r>
              <a:rPr b="0" lang="en-US" sz="2400" spc="-1" strike="noStrike" u="sng">
                <a:solidFill>
                  <a:srgbClr val="fefac9"/>
                </a:solidFill>
                <a:uFillTx/>
                <a:latin typeface="Constantia"/>
              </a:rPr>
              <a:t>Above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 the town, </a:t>
            </a:r>
            <a:r>
              <a:rPr b="0" lang="en-US" sz="2400" spc="-1" strike="noStrike" u="sng">
                <a:solidFill>
                  <a:srgbClr val="fefac9"/>
                </a:solidFill>
                <a:uFillTx/>
                <a:latin typeface="Constantia"/>
              </a:rPr>
              <a:t>above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 the lake, and high </a:t>
            </a:r>
            <a:r>
              <a:rPr b="0" lang="en-US" sz="2400" spc="-1" strike="noStrike" u="sng">
                <a:solidFill>
                  <a:srgbClr val="fefac9"/>
                </a:solidFill>
                <a:uFillTx/>
                <a:latin typeface="Constantia"/>
              </a:rPr>
              <a:t>above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 the trees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lliteration: is the repetition of consonant sounds at th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beginning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of word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EXAMPLE: the </a:t>
            </a:r>
            <a:r>
              <a:rPr b="0" lang="en-US" sz="2400" spc="-1" strike="noStrike" u="sng">
                <a:solidFill>
                  <a:srgbClr val="fefac9"/>
                </a:solidFill>
                <a:uFillTx/>
                <a:latin typeface="Constantia"/>
              </a:rPr>
              <a:t>sn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ake </a:t>
            </a:r>
            <a:r>
              <a:rPr b="0" lang="en-US" sz="2400" spc="-1" strike="noStrike" u="sng">
                <a:solidFill>
                  <a:srgbClr val="fefac9"/>
                </a:solidFill>
                <a:uFillTx/>
                <a:latin typeface="Constantia"/>
              </a:rPr>
              <a:t>sn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eaked past the </a:t>
            </a:r>
            <a:r>
              <a:rPr b="0" lang="en-US" sz="2400" spc="-1" strike="noStrike" u="sng">
                <a:solidFill>
                  <a:srgbClr val="fefac9"/>
                </a:solidFill>
                <a:uFillTx/>
                <a:latin typeface="Constantia"/>
              </a:rPr>
              <a:t>sn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ail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ssonance: is the repetition of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vowel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sounds within word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EXAMPLE: the gr</a:t>
            </a:r>
            <a:r>
              <a:rPr b="0" lang="en-US" sz="2400" spc="-1" strike="noStrike" u="sng">
                <a:solidFill>
                  <a:srgbClr val="fefac9"/>
                </a:solidFill>
                <a:uFillTx/>
                <a:latin typeface="Constantia"/>
              </a:rPr>
              <a:t>ee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n l</a:t>
            </a:r>
            <a:r>
              <a:rPr b="0" lang="en-US" sz="2400" spc="-1" strike="noStrike" u="sng">
                <a:solidFill>
                  <a:srgbClr val="fefac9"/>
                </a:solidFill>
                <a:uFillTx/>
                <a:latin typeface="Constantia"/>
              </a:rPr>
              <a:t>ea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ves fluttered in the br</a:t>
            </a:r>
            <a:r>
              <a:rPr b="0" lang="en-US" sz="2400" spc="-1" strike="noStrike" u="sng">
                <a:solidFill>
                  <a:srgbClr val="fefac9"/>
                </a:solidFill>
                <a:uFillTx/>
                <a:latin typeface="Constantia"/>
              </a:rPr>
              <a:t>ee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ze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84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onsonance: is the repetition of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final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consonant sounds within word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EXAMPLE: The ki</a:t>
            </a:r>
            <a:r>
              <a:rPr b="0" lang="en-US" sz="2400" spc="-1" strike="noStrike" u="sng">
                <a:solidFill>
                  <a:srgbClr val="fefac9"/>
                </a:solidFill>
                <a:uFillTx/>
                <a:latin typeface="Constantia"/>
              </a:rPr>
              <a:t>ng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 sa</a:t>
            </a:r>
            <a:r>
              <a:rPr b="0" lang="en-US" sz="2400" spc="-1" strike="noStrike" u="sng">
                <a:solidFill>
                  <a:srgbClr val="fefac9"/>
                </a:solidFill>
                <a:uFillTx/>
                <a:latin typeface="Constantia"/>
              </a:rPr>
              <a:t>ng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 a so</a:t>
            </a:r>
            <a:r>
              <a:rPr b="0" lang="en-US" sz="2400" spc="-1" strike="noStrike" u="sng">
                <a:solidFill>
                  <a:srgbClr val="fefac9"/>
                </a:solidFill>
                <a:uFillTx/>
                <a:latin typeface="Constantia"/>
              </a:rPr>
              <a:t>ng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nomatopoeia: is the use of words that imitat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sounds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EXAMPLE:  The bees </a:t>
            </a:r>
            <a:r>
              <a:rPr b="0" lang="en-US" sz="2400" spc="-1" strike="noStrike" u="sng">
                <a:solidFill>
                  <a:srgbClr val="fefac9"/>
                </a:solidFill>
                <a:uFillTx/>
                <a:latin typeface="Constantia"/>
              </a:rPr>
              <a:t>buzzed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, and the brook </a:t>
            </a:r>
            <a:r>
              <a:rPr b="0" lang="en-US" sz="2400" spc="-1" strike="noStrike" u="sng">
                <a:solidFill>
                  <a:srgbClr val="fefac9"/>
                </a:solidFill>
                <a:uFillTx/>
                <a:latin typeface="Constantia"/>
              </a:rPr>
              <a:t>gurgled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86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oetry relies not only on the sounds and rhythms of language but also on the precise meaning of words.  Poets choose each word carefully, considering both its </a:t>
            </a: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denotation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, or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literal definition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, and its </a:t>
            </a: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connotation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, or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emotional association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8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9" name=""/>
          <p:cNvGraphicFramePr/>
          <p:nvPr/>
        </p:nvGraphicFramePr>
        <p:xfrm>
          <a:off x="762120" y="3733920"/>
          <a:ext cx="7543800" cy="2133360"/>
        </p:xfrm>
        <a:graphic>
          <a:graphicData uri="http://schemas.openxmlformats.org/drawingml/2006/table">
            <a:tbl>
              <a:tblPr/>
              <a:tblGrid>
                <a:gridCol w="2514600"/>
                <a:gridCol w="2514600"/>
                <a:gridCol w="2514600"/>
              </a:tblGrid>
              <a:tr h="533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 Light"/>
                          <a:ea typeface="Calibri"/>
                        </a:rPr>
                        <a:t>Denotation of word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 Light"/>
                          <a:ea typeface="Calibri"/>
                        </a:rPr>
                        <a:t>Positive Connotatio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 Light"/>
                          <a:ea typeface="Calibri"/>
                        </a:rPr>
                        <a:t>Negative Connotatio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  <a:tr h="533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Wise with Money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Frugal, thrifty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Cheap, penny-pinching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533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Young in ag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533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Talks a lo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7T18:15:02Z</dcterms:created>
  <dc:creator>setupuser</dc:creator>
  <dc:description/>
  <dc:language>en-US</dc:language>
  <cp:lastModifiedBy>jillstahl</cp:lastModifiedBy>
  <dcterms:modified xsi:type="dcterms:W3CDTF">2016-02-29T14:11:42Z</dcterms:modified>
  <cp:revision>17</cp:revision>
  <dc:subject/>
  <dc:title>Poetry Unit- Notes</dc:title>
</cp:coreProperties>
</file>