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91F-6137-49CB-B721-446F4F68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59A-E3DD-4196-AE59-CFBB0E02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43A-A346-4D10-9D53-09AC1D4E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AB8-08B4-40E9-A5E3-13D7C27D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A20DA-AED3-464F-A571-20AB5278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D1E70-4F75-485B-B91D-699D2447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0EE6F-CAC0-4FFD-A69E-C47FC98C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0C642-B435-4C47-BAF5-B3557425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BE52E-537C-4559-871C-14A4E951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262B4-C4AB-484C-A1B5-80D4BBA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CE731-92E1-46A0-A355-CBD39649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984-4240-4452-8819-403F4B1D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1E887-7FDE-4168-83C8-A3742A8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6A710-5B16-42C3-8EF8-3C11AEC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3C6CF-3498-4883-B13B-70E4B830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7B692-B8BF-4CF1-BFAA-B865051E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9DF1F-DCD8-405D-97A4-8E161E4E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3E58-C3BC-4142-8208-7B834297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08F1-BAD5-4A5C-B5FA-52675488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747F-59F7-4592-A23B-667A9629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278D-C812-4A43-AC2F-49622DAB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D777-BB19-4391-827D-B8586EBF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3D8-3EE5-4D34-8832-4BD4D1BB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10DD-96C0-409B-BFB3-C73FBCCC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9FA0-789F-4B0D-9FE1-596D778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8549-71CF-41DD-A2AD-DF1F6575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4AA9-E86E-49B5-AF98-090D807E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2888-8EE8-4195-9C0B-F97D985A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006E-0B74-46E8-A03F-21AF51FC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B3D0-F38B-4DEC-921B-FDD135EC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5C901-C0DB-4508-B11E-B9895A08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FFFB4-62F7-4A06-A48E-13227B40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E5D54-20C6-4639-821F-6A41C89D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CAE-546A-472F-86F6-B325B408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0D0B3-6314-45A3-B8BB-D96BB5FD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68806-7DF9-4D04-BD9F-6B75E995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6BD0D-02B2-4FF1-8A0B-0F8F4C04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4D21E-17C5-47D8-BFB7-50CE426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54DFD-D8C9-4002-9AF2-39BE5D1C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E8F4C-338B-43D4-A379-A267425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CC042-0AEA-4B12-975D-97090043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36EF9-617D-4BBB-9424-7389A4CE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26307-60C2-417F-9BD7-E0F8149A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788-9B2A-4AA2-8C11-3170F4D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C91-103D-4BF5-B3BE-2A7F542E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D13-90C6-4B4E-BA3D-3852CACF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AE9-A856-40A2-862E-AB8BF633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8B1-FBFE-48B9-B96A-E62C306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56D-52F7-438F-A0B6-6E6C9D8835A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A47B-B497-4673-AD57-9AB14365DDC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E36D-9CDA-4DD1-B642-95FB105930B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4BB9-4C27-46A2-9265-B8B7FD5BA5B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Mrs. Kelle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onnotative meaning of words are especially instrumental in conveying a poem’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to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the poet’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ttitude toward his or her subje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tone of a poem can be formal, informal, lighthearted, solemn, or anything in betwe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ic language is also often rich with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mage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scriptive language that creates a vivid pi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ery is a single word or phrase that appeals to one of our 5 SENSES to create an image in our mi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The luscious green grass between my toes and the smell of hot dogs on the grill…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Identify examples of imager from the passage below: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nkelley\Local Settings\Temporary Internet Files\Content.IE5\3INV0QE8\MM900283502[1].gif"/>
          <p:cNvPicPr/>
          <p:nvPr/>
        </p:nvPicPr>
        <p:blipFill>
          <a:blip r:embed="rId2"/>
          <a:stretch/>
        </p:blipFill>
        <p:spPr>
          <a:xfrm>
            <a:off x="7467480" y="2895480"/>
            <a:ext cx="11764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666880" y="3886200"/>
          <a:ext cx="1905120" cy="251460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Ima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251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On that long summer da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ach breath was a labor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air was wet wool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eavy and warm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thick, yellow ha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ung over the cit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ocking out buildings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inding the su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Not a sound could be heard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was sullen and silent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Save for the whir of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lectric fan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mages produced by imagery affect the way the reader FEE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house can be warm and inviting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a house can be scary and creep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at is why you can’t just say, it took place at a house.  You have to give some images that help describe the hous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nkelley\Local Settings\Temporary Internet Files\Content.IE5\21SUCZSJ\MM900309716[1].gif"/>
          <p:cNvPicPr/>
          <p:nvPr/>
        </p:nvPicPr>
        <p:blipFill>
          <a:blip r:embed="rId2"/>
          <a:stretch/>
        </p:blipFill>
        <p:spPr>
          <a:xfrm>
            <a:off x="2286000" y="2819520"/>
            <a:ext cx="2133720" cy="150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Documents and Settings\nkelley\Local Settings\Temporary Internet Files\Content.IE5\3Z4K73JT\MM900336522[1].gif"/>
          <p:cNvPicPr/>
          <p:nvPr/>
        </p:nvPicPr>
        <p:blipFill>
          <a:blip r:embed="rId3"/>
          <a:stretch/>
        </p:blipFill>
        <p:spPr>
          <a:xfrm>
            <a:off x="6324480" y="2666880"/>
            <a:ext cx="175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23520" y="1447920"/>
            <a:ext cx="6248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ive senses ar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GHT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EL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OUCH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AS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UN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--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Title 2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nkelley\Local Settings\Temporary Internet Files\Content.IE5\ERNDXOKZ\MM900315845[1].gif"/>
          <p:cNvPicPr/>
          <p:nvPr/>
        </p:nvPicPr>
        <p:blipFill>
          <a:blip r:embed="rId2"/>
          <a:stretch/>
        </p:blipFill>
        <p:spPr>
          <a:xfrm>
            <a:off x="4876920" y="1523880"/>
            <a:ext cx="1447560" cy="116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nkelley\Local Settings\Temporary Internet Files\Content.IE5\3INV0QE8\MM900356717[1].gif"/>
          <p:cNvPicPr/>
          <p:nvPr/>
        </p:nvPicPr>
        <p:blipFill>
          <a:blip r:embed="rId3"/>
          <a:stretch/>
        </p:blipFill>
        <p:spPr>
          <a:xfrm>
            <a:off x="3352680" y="2362320"/>
            <a:ext cx="981360" cy="98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nkelley\Local Settings\Temporary Internet Files\Content.IE5\3Z4K73JT\MM900041145[1].gif"/>
          <p:cNvPicPr/>
          <p:nvPr/>
        </p:nvPicPr>
        <p:blipFill>
          <a:blip r:embed="rId4"/>
          <a:stretch/>
        </p:blipFill>
        <p:spPr>
          <a:xfrm>
            <a:off x="5334120" y="3276720"/>
            <a:ext cx="1631880" cy="91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nkelley\Local Settings\Temporary Internet Files\Content.IE5\3INV0QE8\MM900283789[1].gif"/>
          <p:cNvPicPr/>
          <p:nvPr/>
        </p:nvPicPr>
        <p:blipFill>
          <a:blip r:embed="rId5"/>
          <a:stretch/>
        </p:blipFill>
        <p:spPr>
          <a:xfrm>
            <a:off x="3505320" y="3962520"/>
            <a:ext cx="1255680" cy="121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Documents and Settings\nkelley\Local Settings\Temporary Internet Files\Content.IE5\ZC9ALNL3\MM900283902[1].gif"/>
          <p:cNvPicPr/>
          <p:nvPr/>
        </p:nvPicPr>
        <p:blipFill>
          <a:blip r:embed="rId6"/>
          <a:stretch/>
        </p:blipFill>
        <p:spPr>
          <a:xfrm>
            <a:off x="5943600" y="4419720"/>
            <a:ext cx="990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also often features figurative language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 that is not meant to be taken liter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t figurative language points out a striking and significant similarity between dissimilar thing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 unexpected comparisons, poets help readers see feelings, experiences, and familiar, everyday objects in a fresh new ligh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using the word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k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r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a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s welcome as a flower in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aph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without the use of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nect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 flower in the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Personific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giv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uma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qualities or abilities to nonhuman thing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alarm clock nagged me to get out of be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dentify the figurative language in the following pass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971800" y="2362320"/>
          <a:ext cx="3276720" cy="29718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Figurative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l, strong, and silent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stalks of co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Guarded the ga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Like sentri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ears, they liste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the saws of the crow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birds approached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hungry, invading forc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ree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ormal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out history, poets have invented lyric forms and over time, some of these forms have become part of literary tradition.  Some of these poetic forms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pecific types of poems: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Just like automobiles come in different forms with different capabilities and luxuries, so do poem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allad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songlik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arrativ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usually written in a rhymed stanza of 4-6 lines that feature repetition and strong meter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aiku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n unrhym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3-lin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lyric poem, usually focused 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mages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from nature, in which lines 1 and 3 have five syllables and line 2 has seven syllables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nglish Sonnet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14-lin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consisting of thre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quatrain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; usually rhymed abab cdcd efef gg; usually written about LOVE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Ode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yr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o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riou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ubject, usually written in a precise structure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crete Poem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 poem wit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hap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that suggests its subject; the poet arranges letters, words, punctuation, and lines to creat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ictur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here are three types of poetry-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Lyrical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express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ought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feeling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of the speaker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Narrative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tell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tory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ramatic Poetry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presents the speech of one or more speaker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amat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ituation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 we’re going to read some examples of these types of poems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C:\Documents and Settings\nkelley\Local Settings\Temporary Internet Files\Content.IE5\QC79P0ZO\MM900283631[1].gif"/>
          <p:cNvPicPr/>
          <p:nvPr/>
        </p:nvPicPr>
        <p:blipFill>
          <a:blip r:embed="rId1"/>
          <a:stretch/>
        </p:blipFill>
        <p:spPr>
          <a:xfrm>
            <a:off x="2514600" y="1298520"/>
            <a:ext cx="39625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peaker of a poem is the voice th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ell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poem.  The speaker is NOT the poet.  The speaker is a constructed, imagined voi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oetry, a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l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group of words in one line.  This may or may not be a complete sent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tanz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a group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n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two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four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quatra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rhythmic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atter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Poets create meter through the natural rhythm of stressed and unstressed syllables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essed and unstressed syllables are divided into units that are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e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common type of foot is an iamb which is 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un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 followed by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: wrinkled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xac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both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sona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.  EXAMPLE: sun and r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lan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similar but no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.  EXAMPLE: prove and lo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nd rhyme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ing words that fall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two or more lines.  EXAMPLE: crawls, walls, and fa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nternal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rhyming words pla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 line.  EXAMPLE: the mouse in the house woke the ca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et pattern of end rhyme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hyme sche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hyme scheme of a poem is identified by assigning a different letter of the alphabet to each end rhyme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e scheme helps shap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u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a stanza and clarifie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lationship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mong the lin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2057400" y="3886200"/>
          <a:ext cx="5029200" cy="22096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Rhyme Sche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69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oft, when on my couch I li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In vacant or in pensive moo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y flash upon that inward ey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hich is the bliss of solitude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then my heart with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pleasure fills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  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dances with the daffodils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etition: the use of an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elements more than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own,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lake, and high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rees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iteration: is the repetition of consonant sounds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egin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k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aked past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il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g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 l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a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ves fluttered in the b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z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na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nsonant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ki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sa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 so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omatopoeia: is the use of words that imitat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u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 The bees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buzz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, and the brook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gurgl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relies not only on the sounds and rhythms of language but also on the precise meaning of words.  Poets choose each word carefully, considering both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de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teral defini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and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ssoci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762120" y="3733920"/>
          <a:ext cx="7543800" cy="21333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Denotation of word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Posi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Nega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ise with Mone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rugal, thrif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heap, penny-pinc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Young in 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ks a lo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8:15:02Z</dcterms:created>
  <dc:creator>setupuser</dc:creator>
  <dc:description/>
  <dc:language>en-US</dc:language>
  <cp:lastModifiedBy>jillstahl</cp:lastModifiedBy>
  <dcterms:modified xsi:type="dcterms:W3CDTF">2016-02-29T14:11:42Z</dcterms:modified>
  <cp:revision>17</cp:revision>
  <dc:subject/>
  <dc:title>Poetry Unit- Notes</dc:title>
</cp:coreProperties>
</file>