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0.gif" ContentType="image/gif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CA9-6E83-40F2-8415-09286F94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5EE-A89B-44E9-BE00-95CD764D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EC0-62A7-47E3-8D1C-DB1C7A3B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28C-96D0-4AB5-9CEE-A79F40DF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98AE7-1001-4860-BA4D-1E12D924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42A1D-3125-42E4-9CF6-7B619B86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3B720-551A-4E06-86B8-D54C4528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5AEE6-9C39-4CE2-95D6-8C1A58FA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6A9D7-56E6-478A-AAF3-A02DEDB1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82F92-3A72-44B6-907D-7A12259A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6935E-E313-47CE-8686-96D2AA9F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96B-AA93-4BD3-8AA5-BEECA663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6320A-ACB0-4FE7-AA55-67F19EBE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56F89-AE4F-4E17-8B0C-5FA7D948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C9692-8E42-44CA-8E21-B7C6C458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07465-81E3-48CC-BD50-BFB81520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85E4B-F81A-47FF-A215-494D4F42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1055-57C5-458A-B5DE-2095962F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F7540-D767-40CB-88E0-E581685C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904EB-B9D5-40E5-9492-B43FF916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A35B-A312-40CD-B25D-F38756D5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27F6-781D-4174-A9AB-522EB473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A68-64D0-454E-A174-39A49C1E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EEE5-9948-4C86-A770-546F079A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1BFD-3E84-47E8-A5FA-C56165EB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EC60-8B5D-477F-97D8-72AC031E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A4A8-9DC3-4917-882F-D93563E5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073C-F68C-4712-9A12-473F0586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57AC6-1EAE-4726-9E45-B21272BB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C621-0AFD-490C-B252-B1BC30A6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2E26C-FF76-4091-A499-BA0698F0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2D0AE-4EE4-42A8-AEFD-65F2FE8A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44743-403B-45EE-9F68-D36E86EE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3A3-DFEB-4F57-B331-525FCC47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E77DB6-B837-40A4-8486-086D7D5C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9F5D4-CDC7-4BF8-8CA8-157B5E0D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0A971-CFED-4DFE-95FD-D5134FBD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7601C-3555-4798-AAD0-EA44E3AA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24DD9-D21D-48BC-BF2A-C32AB5FE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D559F-D5FE-4B6C-B485-6CD804F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ED5887-0892-4325-8126-7FEA2885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ECF3E-2001-43A7-8460-BC42A788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A7E34-5C88-45FF-BECB-11001B20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22F-0896-4D5C-B4AE-CDDAE5C9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83D-2E5E-448B-9F73-7371C901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AD6-CB9E-421D-BF6E-50036A9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238-9F85-4AD7-9790-8FE24DEB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6F7-07B8-4669-B4BF-4F37D62F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1791-1123-4675-840D-21EBC7A6E31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547E-FD36-411D-9AC3-4FF9E405903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D3D9-DF89-4A20-B0EB-F71ED7B98C5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1DF2-4EA2-4B37-9D61-C600996E40C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Mrs. Kelle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onnotative meaning of words are especially instrumental in conveying a poem’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to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the poet’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ttitude toward his or her subje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tone of a poem can be formal, informal, lighthearted, solemn, or anything in betwee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ic language is also often rich with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image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scriptive language that creates a vivid pi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agery is a single word or phrase that appeals to one of our 5 SENSES to create an image in our mi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The luscious green grass between my toes and the smell of hot dogs on the grill…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Identify examples of imager from the passage below: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nkelley\Local Settings\Temporary Internet Files\Content.IE5\3INV0QE8\MM900283502[1].gif"/>
          <p:cNvPicPr/>
          <p:nvPr/>
        </p:nvPicPr>
        <p:blipFill>
          <a:blip r:embed="rId2"/>
          <a:stretch/>
        </p:blipFill>
        <p:spPr>
          <a:xfrm>
            <a:off x="7467480" y="2895480"/>
            <a:ext cx="11764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666880" y="3886200"/>
          <a:ext cx="1905120" cy="251460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Ima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251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On that long summer da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ach breath was a labor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air was wet wool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eavy and warm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thick, yellow ha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ung over the cit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ocking out buildings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inding the sun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Not a sound could be heard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was sullen and silent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Save for the whir of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lectric fan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images produced by imagery affect the way the reader FEE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house can be warm and inviting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 a house can be scary and creep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at is why you can’t just say, it took place at a house.  You have to give some images that help describe the hous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nkelley\Local Settings\Temporary Internet Files\Content.IE5\21SUCZSJ\MM900309716[1].gif"/>
          <p:cNvPicPr/>
          <p:nvPr/>
        </p:nvPicPr>
        <p:blipFill>
          <a:blip r:embed="rId2"/>
          <a:stretch/>
        </p:blipFill>
        <p:spPr>
          <a:xfrm>
            <a:off x="2286000" y="2819520"/>
            <a:ext cx="2133720" cy="150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Documents and Settings\nkelley\Local Settings\Temporary Internet Files\Content.IE5\3Z4K73JT\MM900336522[1].gif"/>
          <p:cNvPicPr/>
          <p:nvPr/>
        </p:nvPicPr>
        <p:blipFill>
          <a:blip r:embed="rId3"/>
          <a:stretch/>
        </p:blipFill>
        <p:spPr>
          <a:xfrm>
            <a:off x="6324480" y="2666880"/>
            <a:ext cx="1752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523520" y="1447920"/>
            <a:ext cx="6248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ive senses ar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GHT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EL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OUCH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AST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UN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--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1" name="Title 2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nkelley\Local Settings\Temporary Internet Files\Content.IE5\ERNDXOKZ\MM900315845[1].gif"/>
          <p:cNvPicPr/>
          <p:nvPr/>
        </p:nvPicPr>
        <p:blipFill>
          <a:blip r:embed="rId2"/>
          <a:stretch/>
        </p:blipFill>
        <p:spPr>
          <a:xfrm>
            <a:off x="4876920" y="1523880"/>
            <a:ext cx="1447560" cy="1163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nkelley\Local Settings\Temporary Internet Files\Content.IE5\3INV0QE8\MM900356717[1].gif"/>
          <p:cNvPicPr/>
          <p:nvPr/>
        </p:nvPicPr>
        <p:blipFill>
          <a:blip r:embed="rId3"/>
          <a:stretch/>
        </p:blipFill>
        <p:spPr>
          <a:xfrm>
            <a:off x="3352680" y="2362320"/>
            <a:ext cx="981360" cy="98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nkelley\Local Settings\Temporary Internet Files\Content.IE5\3Z4K73JT\MM900041145[1].gif"/>
          <p:cNvPicPr/>
          <p:nvPr/>
        </p:nvPicPr>
        <p:blipFill>
          <a:blip r:embed="rId4"/>
          <a:stretch/>
        </p:blipFill>
        <p:spPr>
          <a:xfrm>
            <a:off x="5334120" y="3276720"/>
            <a:ext cx="1631880" cy="91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nkelley\Local Settings\Temporary Internet Files\Content.IE5\3INV0QE8\MM900283789[1].gif"/>
          <p:cNvPicPr/>
          <p:nvPr/>
        </p:nvPicPr>
        <p:blipFill>
          <a:blip r:embed="rId5"/>
          <a:stretch/>
        </p:blipFill>
        <p:spPr>
          <a:xfrm>
            <a:off x="3505320" y="3962520"/>
            <a:ext cx="1255680" cy="1218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Documents and Settings\nkelley\Local Settings\Temporary Internet Files\Content.IE5\ZC9ALNL3\MM900283902[1].gif"/>
          <p:cNvPicPr/>
          <p:nvPr/>
        </p:nvPicPr>
        <p:blipFill>
          <a:blip r:embed="rId6"/>
          <a:stretch/>
        </p:blipFill>
        <p:spPr>
          <a:xfrm>
            <a:off x="5943600" y="4419720"/>
            <a:ext cx="9907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also often features figurative language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 that is not meant to be taken literal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st figurative language points out a striking and significant similarity between dissimilar things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 unexpected comparisons, poets help readers see feelings, experiences, and familiar, everyday objects in a fresh new light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imil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using the word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k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r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a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s welcome as a flower in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aph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without the use of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nect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 flower in the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Personific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giv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uma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qualities or abilities to nonhuman thing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alarm clock nagged me to get out of be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dentify the figurative language in the following pass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971800" y="2362320"/>
          <a:ext cx="3276720" cy="29718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Figurative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04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l, strong, and silent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stalks of co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Guarded the gard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Like sentri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ears, they liste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the saws of the crow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birds approached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hungry, invading forc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ree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ormal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out history, poets have invented lyric forms and over time, some of these forms have become part of literary tradition.  Some of these poetic forms includ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pecific types of poems: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Just like automobiles come in different forms with different capabilities and luxuries, so do poem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allad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songlik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narrativ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usually written in a rhymed stanza of 4-6 lines that feature repetition and strong meter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aiku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n unrhym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3-lin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lyric poem, usually focused 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mages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from nature, in which lines 1 and 3 have five syllables and line 2 has seven syllables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nglish Sonnet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14-lin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consisting of thre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quatrain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; usually rhymed abab cdcd efef gg; usually written about LOVE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Ode: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lyr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o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riou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ubject, usually written in a precise structure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crete Poem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 poem with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hap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that suggests its subject; the poet arranges letters, words, punctuation, and lines to creat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ictur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here are three types of poetry-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Lyrical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expresse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hought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feeling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of the speaker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Narrative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tell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tory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Dramatic Poetry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presents the speech of one or more speaker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ramat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ituation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w we’re going to read some examples of these types of poems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C:\Documents and Settings\nkelley\Local Settings\Temporary Internet Files\Content.IE5\QC79P0ZO\MM900283631[1].gif"/>
          <p:cNvPicPr/>
          <p:nvPr/>
        </p:nvPicPr>
        <p:blipFill>
          <a:blip r:embed="rId1"/>
          <a:stretch/>
        </p:blipFill>
        <p:spPr>
          <a:xfrm>
            <a:off x="2514600" y="1298520"/>
            <a:ext cx="39625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peaker of a poem is the voice th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ell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poem.  The speaker is NOT the poet.  The speaker is a constructed, imagined voi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oetry, a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l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group of words in one line.  This may or may not be a complete sent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tanz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a group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n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two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four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quatra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rhythmic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atter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Poets create meter through the natural rhythm of stressed and unstressed syllables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essed and unstressed syllables are divided into units that are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e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common type of foot is an iamb which is 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un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 followed by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: wrinkled s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xac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both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sona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.  EXAMPLE: sun and ru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lan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similar but no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a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.  EXAMPLE: prove and lo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nd rhyme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ing words that fall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two or more lines.  EXAMPLE: crawls, walls, and fa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Internal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rhyming words pla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 line.  EXAMPLE: the mouse in the house woke the ca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et pattern of end rhyme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hyme sche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hyme scheme of a poem is identified by assigning a different letter of the alphabet to each end rhyme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e scheme helps shap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u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a stanza and clarifie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elationship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mong the lin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2057400" y="3886200"/>
          <a:ext cx="5029200" cy="22096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Rhyme Schem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69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oft, when on my couch I li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In vacant or in pensive moo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y flash upon that inward ey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hich is the bliss of solitude;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then my heart with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pleasure fills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  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dances with the daffodils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petition: the use of an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elements more than o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own,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lake, and high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rees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iteration: is the repetition of consonant sounds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begin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k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aked past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il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g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 l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a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ves fluttered in the b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z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na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nsonant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ki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sa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 so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omatopoeia: is the use of words that imitat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ou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 The bees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buzz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, and the brook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gurgl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relies not only on the sounds and rhythms of language but also on the precise meaning of words.  Poets choose each word carefully, considering both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de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teral defini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and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n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ssoci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762120" y="3733920"/>
          <a:ext cx="7543800" cy="213336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Denotation of word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Posi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Nega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ise with Mone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rugal, thrif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heap, penny-pinch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Young in 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ks a lo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8:15:02Z</dcterms:created>
  <dc:creator>setupuser</dc:creator>
  <dc:description/>
  <dc:language>en-US</dc:language>
  <cp:lastModifiedBy>jillstahl</cp:lastModifiedBy>
  <dcterms:modified xsi:type="dcterms:W3CDTF">2016-02-29T14:11:42Z</dcterms:modified>
  <cp:revision>17</cp:revision>
  <dc:subject/>
  <dc:title>Poetry Unit- Notes</dc:title>
</cp:coreProperties>
</file>