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0.gif" ContentType="image/gif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F6B-60DC-43B0-A6BC-E29FE51E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F2C-E459-4869-B9A5-B8256731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564-00D9-4394-82BA-83F65D24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9FC-ADB0-481A-8CF3-106E9559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2C8AC-1064-42EE-AE19-E9F01CA1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D138E-5006-41D7-9582-BBC31A2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357A6-578C-4B74-AF52-A512E07B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D2293-D5B8-47A4-A667-E9062421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AF570-2563-4EA7-B1F2-C8BE375E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06A3E-04C9-4485-9118-7C29BC6B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95330-F762-4D78-BAD0-BA50388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015-81C6-4C5A-9319-955020A8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448EE-E2C1-4271-BE7C-8E871026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FEFA5-1B6F-4B7A-8E54-D3918F6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BB913-C507-41EF-A870-90A92ACA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B5CAD-1FF1-4E75-983E-33339423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180CF-E2D9-4549-9D50-78D7DBA3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56FE-075D-4EA7-8D5C-BC1DF96F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949C-158F-4C81-A1B7-40044FE1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11E1-00FB-496B-ABF9-05D27533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68BE-D66A-4CE6-AD9D-81F05ACE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F360-4C24-4C0F-9ACD-84906529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ED5-2852-4C1D-9F43-69D41EF0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196C-7BF1-4429-A14D-A5795836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E9D8-B486-4DC1-BDC2-95C2C91F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A848-2319-46B0-BC0F-34B9272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46F3-C2A9-4183-B738-4529D20D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0711-A7D3-4A96-9E10-DAA92DF6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E77A-0748-4FCF-A493-BD9C8049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1E94-6E66-4767-A615-A8C8909E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F2D5F-BBD5-4370-ADDB-6FBBF03C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912555-A810-4C38-9594-3B5FE78B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A778E-293B-461B-9642-95A1BDF0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C4E-89F5-44E7-8935-1D0FAB2E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EA13E-AAFC-46B7-A4A0-F6E40916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D4FBA-897D-4C32-8DD1-D3F2519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AF666-293B-4467-A820-9EB846A5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D8BC3-4EBE-4821-A250-7C386E10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5EF03-5851-48F8-A1B2-9D9527A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90BF2-1724-4E63-98B1-A7DBCD46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BD685-1BFC-4BA6-8F98-34A2D596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9FA2D-047A-4A2B-A02A-B76636E9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CA640-90D0-4CB4-89E0-53785792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303-EEE1-44CE-B671-80B241D2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A51-1677-447D-8E86-CF00766D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2EE-4805-422D-A952-D51393E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99F-9752-4B43-BF63-F4D0CEA0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43F-F6B9-4C38-B2CD-ED984E2C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987-C1DF-46F9-85E9-0BD0D504D07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FA66-AC12-483E-863E-10C0B4C965F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20D9-44CD-4DD2-BEBC-83739A8E722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720-639E-4543-8D8E-E5763B95A54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Mrs. Kelle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onnotative meaning of words are especially instrumental in conveying a poem’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to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the poet’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ttitude toward his or her subje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tone of a poem can be formal, informal, lighthearted, solemn, or anything in betwe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ic language is also often rich with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magery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scriptive language that creates a vivid pi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agery is a single word or phrase that appeals to one of our 5 SENSES to create an image in our mi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he luscious green grass between my toes and the smell of hot dogs on the grill…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Identify examples of imager from the passage below: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nkelley\Local Settings\Temporary Internet Files\Content.IE5\3INV0QE8\MM900283502[1].gif"/>
          <p:cNvPicPr/>
          <p:nvPr/>
        </p:nvPicPr>
        <p:blipFill>
          <a:blip r:embed="rId2"/>
          <a:stretch/>
        </p:blipFill>
        <p:spPr>
          <a:xfrm>
            <a:off x="7467480" y="2895480"/>
            <a:ext cx="11764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666880" y="3886200"/>
          <a:ext cx="1905120" cy="251460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Ima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251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On that long summer da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ach breath was a labor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air was wet wool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eavy and warm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thick, yellow ha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Hung over the city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ocking out buildings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linding the sun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Not a sound could be heard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was sullen and silent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Save for the whir of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electric fans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images produced by imagery affect the way the reader FEE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house can be warm and inviting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a house can be scary and creep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t is why you can’t just say, it took place at a house.  You have to give some images that help describe the hous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nkelley\Local Settings\Temporary Internet Files\Content.IE5\21SUCZSJ\MM900309716[1].gif"/>
          <p:cNvPicPr/>
          <p:nvPr/>
        </p:nvPicPr>
        <p:blipFill>
          <a:blip r:embed="rId2"/>
          <a:stretch/>
        </p:blipFill>
        <p:spPr>
          <a:xfrm>
            <a:off x="2286000" y="2819520"/>
            <a:ext cx="2133720" cy="150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nkelley\Local Settings\Temporary Internet Files\Content.IE5\3Z4K73JT\MM900336522[1].gif"/>
          <p:cNvPicPr/>
          <p:nvPr/>
        </p:nvPicPr>
        <p:blipFill>
          <a:blip r:embed="rId3"/>
          <a:stretch/>
        </p:blipFill>
        <p:spPr>
          <a:xfrm>
            <a:off x="6324480" y="2666880"/>
            <a:ext cx="175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523520" y="1447920"/>
            <a:ext cx="6248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ive senses ar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GHT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EL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OUCH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AS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UN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-------------------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Title 2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nkelley\Local Settings\Temporary Internet Files\Content.IE5\ERNDXOKZ\MM900315845[1].gif"/>
          <p:cNvPicPr/>
          <p:nvPr/>
        </p:nvPicPr>
        <p:blipFill>
          <a:blip r:embed="rId2"/>
          <a:stretch/>
        </p:blipFill>
        <p:spPr>
          <a:xfrm>
            <a:off x="4876920" y="1523880"/>
            <a:ext cx="1447560" cy="1163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nkelley\Local Settings\Temporary Internet Files\Content.IE5\3INV0QE8\MM900356717[1].gif"/>
          <p:cNvPicPr/>
          <p:nvPr/>
        </p:nvPicPr>
        <p:blipFill>
          <a:blip r:embed="rId3"/>
          <a:stretch/>
        </p:blipFill>
        <p:spPr>
          <a:xfrm>
            <a:off x="3352680" y="2362320"/>
            <a:ext cx="981360" cy="98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nkelley\Local Settings\Temporary Internet Files\Content.IE5\3Z4K73JT\MM900041145[1].gif"/>
          <p:cNvPicPr/>
          <p:nvPr/>
        </p:nvPicPr>
        <p:blipFill>
          <a:blip r:embed="rId4"/>
          <a:stretch/>
        </p:blipFill>
        <p:spPr>
          <a:xfrm>
            <a:off x="5334120" y="3276720"/>
            <a:ext cx="1631880" cy="91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nkelley\Local Settings\Temporary Internet Files\Content.IE5\3INV0QE8\MM900283789[1].gif"/>
          <p:cNvPicPr/>
          <p:nvPr/>
        </p:nvPicPr>
        <p:blipFill>
          <a:blip r:embed="rId5"/>
          <a:stretch/>
        </p:blipFill>
        <p:spPr>
          <a:xfrm>
            <a:off x="3505320" y="3962520"/>
            <a:ext cx="1255680" cy="121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Documents and Settings\nkelley\Local Settings\Temporary Internet Files\Content.IE5\ZC9ALNL3\MM900283902[1].gif"/>
          <p:cNvPicPr/>
          <p:nvPr/>
        </p:nvPicPr>
        <p:blipFill>
          <a:blip r:embed="rId6"/>
          <a:stretch/>
        </p:blipFill>
        <p:spPr>
          <a:xfrm>
            <a:off x="5943600" y="4419720"/>
            <a:ext cx="990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also often features figurative language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 that is not meant to be taken literal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t figurative language points out a striking and significant similarity between dissimilar things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 unexpected comparisons, poets help readers see feelings, experiences, and familiar, everyday objects in a fresh new ligh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using the word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k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r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a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s welcome as a flower in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apho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compares two unlike things without the use of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nect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Her visit was a flower in the winter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Personific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give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uma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qualities or abilities to nonhuman thing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alarm clock nagged me to get out of bed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dentify the figurative language in the following pass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971800" y="2362320"/>
          <a:ext cx="3276720" cy="29718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Figurative Langu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l, strong, and silent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stalks of co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Guarded the gard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Like sentri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ll ears, they liste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the saws of the crow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 birds approached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 hungry, invading forc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ree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Formal Verse Poetry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 follow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xed patter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oughout history, poets have invented lyric forms and over time, some of these forms have become part of literary tradition.  Some of these poetic forms includ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ific types of poems: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Just like automobiles come in different forms with different capabilities and luxuries, so do poem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llad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songlik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narrativ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usually written in a rhymed stanza of 4-6 lines that feature repetition and strong meter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aiku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n unrhym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3-lin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lyric poem, usually focused 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mages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from nature, in which lines 1 and 3 have five syllables and line 2 has seven syllables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nglish Sonnet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14-line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consisting of thre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quatrain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; usually rhymed abab cdcd efef gg; usually written about LOVE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Ode: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lyr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poem o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eriou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ubject, usually written in a precise structure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crete Poem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A poem wit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hap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that suggests its subject; the poet arranges letters, words, punctuation, and lines to creat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icture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2676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1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here are three types of poetry-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Lyrical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express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ought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feelings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of the speaker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Narrative Poetry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tell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tory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ramatic Poetry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A poem that presents the speech of one or more speakers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amatic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 situation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1"/>
          <a:stretch/>
        </p:blipFill>
        <p:spPr>
          <a:xfrm>
            <a:off x="219240" y="450720"/>
            <a:ext cx="847404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 we’re going to read some examples of these types of poems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2" descr="C:\Documents and Settings\nkelley\Local Settings\Temporary Internet Files\Content.IE5\QC79P0ZO\MM900283631[1].gif"/>
          <p:cNvPicPr/>
          <p:nvPr/>
        </p:nvPicPr>
        <p:blipFill>
          <a:blip r:embed="rId1"/>
          <a:stretch/>
        </p:blipFill>
        <p:spPr>
          <a:xfrm>
            <a:off x="2514600" y="1298520"/>
            <a:ext cx="39625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peaker of a poem is the voice tha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ell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he poem.  The speaker is NOT the poet.  The speaker is a constructed, imagined voi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poetry, 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l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group of words in one line.  This may or may not be a complete sent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tanz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a group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n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two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upl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nza made up of four lines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quatra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Met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rhythmic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atter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 Poets create meter through the natural rhythm of stressed and unstressed syllables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essed and unstressed syllables are divided into units that are call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ee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common type of foot is an iamb which is a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un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 followed by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esse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yllab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: wrinkled se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xac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both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the sam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sonan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.  EXAMPLE: sun and ru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lant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words that end in similar but no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xac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.  EXAMPLE: prove and lo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nd rhyme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ing words that fall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two or more lines.  EXAMPLE: crawls, walls, and fa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nternal Rhy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rhyming words pla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with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 line.  EXAMPLE: the mouse in the house woke the ca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et pattern of end rhyme is called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hyme schem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rhyme scheme of a poem is identified by assigning a different letter of the alphabet to each end rhyme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hyme scheme helps shape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ructur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a stanza and clarifies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relationship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mong the lin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2057400" y="3886200"/>
          <a:ext cx="5029200" cy="22096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Example: Rhyme Sche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69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or oft, when on my couch I li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In vacant or in pensive moo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hey flash upon that inward ey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hich is the bliss of solitude;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then my heart with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pleasure fills,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  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And dances with the daffodils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         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etition: the use of an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anguag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elements more than o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own,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lake, and high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abov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he trees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iteration: is the repetition of consonant sounds at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eginn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of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k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aked past the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sn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il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owe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g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 l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a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ves fluttered in the br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e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z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onance: is the repetition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nal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nsonant sounds within word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The ki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sa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 so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ng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omatopoeia: is the use of words that imitat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ound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 The bees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buzz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, and the brook </a:t>
            </a:r>
            <a:r>
              <a:rPr b="0" lang="en-US" sz="2400" spc="-1" strike="noStrike" u="sng">
                <a:solidFill>
                  <a:srgbClr val="fefac9"/>
                </a:solidFill>
                <a:uFillTx/>
                <a:latin typeface="Constantia"/>
              </a:rPr>
              <a:t>gurgled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etry relies not only on the sounds and rhythms of language but also on the precise meaning of words.  Poets choose each word carefully, considering both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de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literal defini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and it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motional associat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762120" y="3733920"/>
          <a:ext cx="7543800" cy="21333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Denotation of word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Posi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 Light"/>
                          <a:ea typeface="Calibri"/>
                        </a:rPr>
                        <a:t>Negative Connot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Wise with Mone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Frugal, thrift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Cheap, penny-pinching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Young in 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 Light"/>
                          <a:ea typeface="Calibri"/>
                        </a:rPr>
                        <a:t>Talks a lo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8:15:02Z</dcterms:created>
  <dc:creator>setupuser</dc:creator>
  <dc:description/>
  <dc:language>en-US</dc:language>
  <cp:lastModifiedBy>jillstahl</cp:lastModifiedBy>
  <dcterms:modified xsi:type="dcterms:W3CDTF">2016-02-29T14:11:42Z</dcterms:modified>
  <cp:revision>17</cp:revision>
  <dc:subject/>
  <dc:title>Poetry Unit- Notes</dc:title>
</cp:coreProperties>
</file>