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5580-7923-4593-82CC-2699B968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9BDE-0E64-4A77-8B39-B8CF47AD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DE30-35F9-4A57-9C71-798CB65D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CDAB-D4D4-4249-8047-846A73C0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8813-8E10-4091-9766-B1B19F0E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6FB4-FEE9-436C-817C-9D629041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2070-DED2-417E-93DB-E50BAAE2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0ECA-C449-4F0B-8C84-01E474C4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F0D1-E15B-4EDE-A92E-83F69819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0C6C-0FC9-4D25-B2F1-ECA8CE1D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8E54-6381-487C-BA70-30DBA6EF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ED27-C0C1-4FEC-AF47-C23F6493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3BBB-2000-40A2-9827-B92A23FB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FAF4-72A6-40E3-AEF7-F36800CA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0A22-65A4-4897-B668-69A826BA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AD4F-C877-44F6-9DAD-0AE2E58E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AE82-F687-44A0-A391-450AFE0C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6286D-0596-4949-B1B1-B0F559EF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A0C0D-CC86-493F-AC47-A99935D6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5AA6B-E310-4E88-B752-977AF005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223AD-AD51-4E23-AE1A-0E064D5A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57423-A208-4782-8B21-320C2E8F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78A9-A5A9-4C09-A4F1-5E54C2C3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6297B-95F0-475B-84E9-EA9AE1F5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1D3F3-282B-4A70-83C0-75B99FC9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96B07-5D43-49CE-8E43-E22014B4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E9DAB-D404-4B96-B54B-D875C8C7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E4AD7-394E-4AF4-B164-71081B5A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A8EDB-69A5-4011-9CBF-8A0F429B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EA420-D436-4474-BD49-0B7F20AB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5BE9B-E4DB-4F7F-8F1F-F6484E3F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208FC-5922-4DDD-8C28-72A2AC92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FAEBD-6310-4CBC-8D97-40437263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87B4-EA9C-4D46-A31A-5DA3EEE0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B8672-C6D3-4D6E-80E8-9603A4CE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2B194-C485-4757-817B-96F278DC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64AD5-65E3-4CDB-B77F-CF86A367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2C762-5604-4621-9515-A2C48A27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E4DD6-B3CC-4E80-A925-D7B0C51E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9F62B-F04D-44B6-8CEE-29F24F8E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8BA4E-1353-4CC9-B39F-03F2FFEF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ADCD4-EAC5-4E62-9678-6B467FD6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C90EF-0F39-45D1-8678-D9000251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4CAE1-2E39-465F-8639-8A6AB12F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3003-01F2-43F5-BA6D-6794429A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0AA2A-7527-4B7F-B02F-10936E2C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74A88-06B0-4710-A64B-BCB6F7C2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97732-35E3-43ED-B3DA-5A1C0DC8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89974-0CB2-483E-B526-27FD39DE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C9100-9484-4F2B-9A44-FF7580EF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267C1-CDCC-4201-B89E-664CCDF8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07923-BDB1-42CE-A719-64CA801F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DC380-FFF9-4EB5-9A91-817060ED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CAAE9-11DA-4D5F-B70A-3D37984A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86B49-5654-4CC2-8AFD-2627765A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A755-6067-4B1C-BEBC-CCD718B4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EE404-6ADC-47CA-BD4C-3C22E1BF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838B7-9293-40F1-B4D6-606C457D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48F23-5410-4949-B76F-275A701B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19A58-DFF1-4E3A-8954-EEFD43AD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A1BD1-EA86-4B84-BD8B-C01F6D03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D3D1B-0FFE-4FD6-8B0A-019E8BCB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78D70-5B3E-4E84-BCB3-26B9D911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9AD03-D5B3-44E3-A104-C52EE16A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78A81-2536-48E5-8930-2E7BDF99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4A9C1-8BC7-43E7-9A8B-B3B4760A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233A-A811-407D-BFEB-1010A2FC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FE2EE-E500-431C-85DC-7C4F9B0B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5DBB6-047F-446E-B840-9DDAABFA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8B0C5-B1F9-46F9-931E-37D59D0A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B263-ACB2-4DD3-A15E-3CCB133C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539-9772-4955-8DA6-D80F0E33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2A63-93CB-4316-B027-C1AFB96F5A3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A627-098A-4F6D-8DC1-9314285A483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E14E-2FDF-4FE6-9C45-617D6611552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1D24-B0F1-44F3-BACC-626E2A6F102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A22B-2405-410D-928C-BF58F315862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BD01-5F96-4CCE-B469-3746DB3633A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07880" y="3200400"/>
            <a:ext cx="6973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lish 9- Mrs. Kell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Franklin Gothic Book"/>
              </a:rPr>
              <a:t>SYMBOLIS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 of an ordinary object, event, person or animal in which the author has attached extraordinary meaning or signific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3" descr="SurrenderFlag.gif"/>
          <p:cNvPicPr/>
          <p:nvPr/>
        </p:nvPicPr>
        <p:blipFill>
          <a:blip r:embed="rId1"/>
          <a:stretch/>
        </p:blipFill>
        <p:spPr>
          <a:xfrm>
            <a:off x="1676520" y="3962520"/>
            <a:ext cx="1428480" cy="1143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C:\Users\nkelley\AppData\Local\Microsoft\Windows\Temporary Internet Files\Content.IE5\XSSBRWA2\MC900441792[1].png"/>
          <p:cNvPicPr/>
          <p:nvPr/>
        </p:nvPicPr>
        <p:blipFill>
          <a:blip r:embed="rId2"/>
          <a:stretch/>
        </p:blipFill>
        <p:spPr>
          <a:xfrm>
            <a:off x="3124080" y="36576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scarlet ibis.jpg"/>
          <p:cNvPicPr/>
          <p:nvPr/>
        </p:nvPicPr>
        <p:blipFill>
          <a:blip r:embed="rId3"/>
          <a:stretch/>
        </p:blipFill>
        <p:spPr>
          <a:xfrm>
            <a:off x="6172200" y="342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Franklin Gothic Book"/>
              </a:rPr>
              <a:t>ALLEGOR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story in which characters, settings, and actions represent something larg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3" descr="allegory.jpg"/>
          <p:cNvPicPr/>
          <p:nvPr/>
        </p:nvPicPr>
        <p:blipFill>
          <a:blip r:embed="rId1"/>
          <a:stretch/>
        </p:blipFill>
        <p:spPr>
          <a:xfrm>
            <a:off x="762120" y="2971800"/>
            <a:ext cx="3063600" cy="2286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allegory-fable-moral-120417193105-phpapp01-thumbnail-4.jpg"/>
          <p:cNvPicPr/>
          <p:nvPr/>
        </p:nvPicPr>
        <p:blipFill>
          <a:blip r:embed="rId2"/>
          <a:stretch/>
        </p:blipFill>
        <p:spPr>
          <a:xfrm>
            <a:off x="5638680" y="4267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animal Farm cover.jpg"/>
          <p:cNvPicPr/>
          <p:nvPr/>
        </p:nvPicPr>
        <p:blipFill>
          <a:blip r:embed="rId3"/>
          <a:stretch/>
        </p:blipFill>
        <p:spPr>
          <a:xfrm>
            <a:off x="4038480" y="3124080"/>
            <a:ext cx="1667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Franklin Gothic Book"/>
              </a:rPr>
              <a:t>SATIR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use of humor, irony, exaggeration, or ridicule to expose and criticize people’s stupidity or vices, particularly in the context of contemporary politics and other topical issu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Satire-cartoon-School-China-1ekgk14.png"/>
          <p:cNvPicPr/>
          <p:nvPr/>
        </p:nvPicPr>
        <p:blipFill>
          <a:blip r:embed="rId1"/>
          <a:stretch/>
        </p:blipFill>
        <p:spPr>
          <a:xfrm>
            <a:off x="4343400" y="3886200"/>
            <a:ext cx="43434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Franklin Gothic Book"/>
              </a:rPr>
              <a:t>AGEND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gend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nou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list of items to be discussed at a formal meeting: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the question of nuclear weapons had been removed from the agen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plan of things to be done or problems to be addressed: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he vowed to put jobs at the top of his agen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the underlying intentions or motives of a particular person or group: </a:t>
            </a:r>
            <a:r>
              <a:rPr b="0" i="1" lang="en-US" sz="2600" spc="-1" strike="noStrike">
                <a:solidFill>
                  <a:srgbClr val="ffff00"/>
                </a:solidFill>
                <a:latin typeface="Arial"/>
              </a:rPr>
              <a:t>Miller has his own agenda and it has nothing to do with footb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at agenda is represented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Content Placeholder 3" descr="funny-satire-cartoons.gif"/>
          <p:cNvPicPr/>
          <p:nvPr/>
        </p:nvPicPr>
        <p:blipFill>
          <a:blip r:embed="rId1"/>
          <a:stretch/>
        </p:blipFill>
        <p:spPr>
          <a:xfrm>
            <a:off x="1809720" y="1982880"/>
            <a:ext cx="47624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at is being ridiculed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4" name="Content Placeholder 3" descr="GasPricesToon04.jpg"/>
          <p:cNvPicPr/>
          <p:nvPr/>
        </p:nvPicPr>
        <p:blipFill>
          <a:blip r:embed="rId1"/>
          <a:stretch/>
        </p:blipFill>
        <p:spPr>
          <a:xfrm>
            <a:off x="1503360" y="1600200"/>
            <a:ext cx="5375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hat methods of satire does the Cartoonist use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6" name="Content Placeholder 3" descr="Satirical-Sunday-2.16.14-Gov-Christie.jpg"/>
          <p:cNvPicPr/>
          <p:nvPr/>
        </p:nvPicPr>
        <p:blipFill>
          <a:blip r:embed="rId1"/>
          <a:stretch/>
        </p:blipFill>
        <p:spPr>
          <a:xfrm>
            <a:off x="1085760" y="1600200"/>
            <a:ext cx="6210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30T14:39:39Z</dcterms:created>
  <dc:creator>nkelley</dc:creator>
  <dc:description/>
  <dc:language>en-US</dc:language>
  <cp:lastModifiedBy>setupuser</cp:lastModifiedBy>
  <dcterms:modified xsi:type="dcterms:W3CDTF">2014-10-10T13:52:20Z</dcterms:modified>
  <cp:revision>21</cp:revision>
  <dc:subject/>
  <dc:title>Symbolism, allegory, &amp; satire</dc:title>
</cp:coreProperties>
</file>