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9257-70E9-48A7-A325-5D388C7AB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352A-FBD3-41E9-B325-49BD503C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9669-CE80-4268-85F0-C1DD6EF39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AD05-80D5-4880-85D7-28A22211A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1482-2D19-493C-93DB-B70C72B74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1C17-064B-41F3-9121-D6A47B4E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6033-FA0D-4DE2-A432-01A53D46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B978-B72D-4E66-BF2E-542472EB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9521-9990-403B-85DF-787699F2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E119-25B0-476B-998C-7912F357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BB5B-A33E-4F9B-8921-0429E8B9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8693-6EFB-4DB0-9710-4247E501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A2B8-9017-431D-B1F3-E6E959F1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41E8-CAE3-417E-AA1B-C77F3EB6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1FF8-618A-46E5-A32B-94670C4A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0F79-C007-4779-B0DD-96978C2DA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0A4D-52E1-4350-B84C-D6B1F6C1D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7C097-F29E-43A2-8E33-43C5232EA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05C02-C876-4DEB-9A02-AB8510AD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0D1DD-1D23-4074-BCB9-36E7ECA4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4194A-890D-4D64-A873-11EA49DD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234C2-C237-4A39-966A-6375CDCB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DE1D-D19F-4D30-91C4-74C8D588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A6F65-3571-4AEC-BDDC-FF99A1A7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F88B7-FA53-4F82-9BA1-B7ABE2B9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D7209-8A20-45FF-BC67-F8DF4947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2718B-4E5F-4E7F-AD7F-A035D731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CBEAB-974F-4658-891F-25762582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35AFF-677B-4F8C-95DF-E2D374CD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2D6D2-5C9B-4866-B4C8-1426FFE32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9A58F-ECDC-491E-9021-E6AB2C42E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A250E-CC32-4791-ABE2-B0AB4DDF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D6711-6990-4FD2-9814-FA0071A1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D3BF-5D69-4516-BF9E-D5E8A959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47B00-9165-46D7-AB6D-207929DF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0B1F3-29F2-4AAA-8972-E5314C87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B4B50-BFF9-4C85-8666-E0734FDD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0AF0D-F1D4-4D9C-84C2-93F3B443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9ED37-5DBC-43A8-8422-37AB09BE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31BA8-704D-4947-B635-2A642FE3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CA00B-DD05-451E-849E-D750A60D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017CA-4AF0-46E9-B87B-537EC4EC8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5042F-FEEC-4500-A43C-ABFE2F5A1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9F733-1CFD-438A-AE9E-88165B82B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53D3-A5E4-4799-9198-00086348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54922-47F2-41F9-A136-2382DF9B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25CFE-DE48-4014-9E89-97FC58FB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AF7BE-011C-422E-B80D-86EFC395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D8B3B-2299-4219-B12D-F16BECCA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B3B55-C3EE-4416-B2B0-93A9C848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7FD23-9C38-4C84-BCEC-3EC6802A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F3301-E3A2-4EA1-9C03-0C191783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E4EF6-6A7D-41D6-B051-831D204C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E8977-34BD-44CB-A040-162030D4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D7B77-DA4B-48F0-94DD-1E87FB955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D9FC-78BA-4F24-BDC4-9088B402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A41A8-443D-4CEF-8E57-3A0EB00D9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59972-BAF9-4F44-8F2E-D6848F32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5FB84-48E3-4107-9689-AE69B88A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F57EB-85C2-4B41-9357-D81724F4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95E8C-5609-4113-A1A9-3BA65568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B4D3D-0537-44F8-BF51-BE73467C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A0922-8242-491A-87BC-18FB647F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D60EE-C1A3-452F-B0F3-D7ACE4B9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E8136-6BEF-4580-8CEF-D8220A97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21AAB-4B37-4A2E-A439-B64C33C3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D36B-7CFC-424F-AF59-3608CEA7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05B9F-103C-4EFC-B86C-B4D2D983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5DE0C-DC58-416C-9B30-19D599A20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7BEA9-45CF-4CF1-A57C-D5D524515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ED0E-D123-4461-B5B6-32D9CE80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6508-E87F-49FB-8CC7-16DC616B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91D0-BC24-494D-AF33-E4A62455194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A290-9ED1-4EC8-95BB-20734455659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2673-EC90-4779-93FE-F6A7D845439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B76D-CCAC-4427-8577-69172D3E182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0FFD-EC7E-43B3-AA34-E0F1140B40D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EB8F-5673-4E20-A256-37D567B8CAD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07880" y="3200400"/>
            <a:ext cx="6973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glish 9- Mrs. Kell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Franklin Gothic Book"/>
              </a:rPr>
              <a:t>SYMBOLIS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se of an ordinary object, event, person or animal in which the author has attached extraordinary meaning or significan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3" descr="SurrenderFlag.gif"/>
          <p:cNvPicPr/>
          <p:nvPr/>
        </p:nvPicPr>
        <p:blipFill>
          <a:blip r:embed="rId1"/>
          <a:stretch/>
        </p:blipFill>
        <p:spPr>
          <a:xfrm>
            <a:off x="1676520" y="3962520"/>
            <a:ext cx="1428480" cy="1143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C:\Users\nkelley\AppData\Local\Microsoft\Windows\Temporary Internet Files\Content.IE5\XSSBRWA2\MC900441792[1].png"/>
          <p:cNvPicPr/>
          <p:nvPr/>
        </p:nvPicPr>
        <p:blipFill>
          <a:blip r:embed="rId2"/>
          <a:stretch/>
        </p:blipFill>
        <p:spPr>
          <a:xfrm>
            <a:off x="3124080" y="36576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scarlet ibis.jpg"/>
          <p:cNvPicPr/>
          <p:nvPr/>
        </p:nvPicPr>
        <p:blipFill>
          <a:blip r:embed="rId3"/>
          <a:stretch/>
        </p:blipFill>
        <p:spPr>
          <a:xfrm>
            <a:off x="6172200" y="3429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Franklin Gothic Book"/>
              </a:rPr>
              <a:t>ALLEGOR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story in which characters, settings, and actions represent something large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3" descr="allegory.jpg"/>
          <p:cNvPicPr/>
          <p:nvPr/>
        </p:nvPicPr>
        <p:blipFill>
          <a:blip r:embed="rId1"/>
          <a:stretch/>
        </p:blipFill>
        <p:spPr>
          <a:xfrm>
            <a:off x="762120" y="2971800"/>
            <a:ext cx="3063600" cy="2286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allegory-fable-moral-120417193105-phpapp01-thumbnail-4.jpg"/>
          <p:cNvPicPr/>
          <p:nvPr/>
        </p:nvPicPr>
        <p:blipFill>
          <a:blip r:embed="rId2"/>
          <a:stretch/>
        </p:blipFill>
        <p:spPr>
          <a:xfrm>
            <a:off x="5638680" y="42670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animal Farm cover.jpg"/>
          <p:cNvPicPr/>
          <p:nvPr/>
        </p:nvPicPr>
        <p:blipFill>
          <a:blip r:embed="rId3"/>
          <a:stretch/>
        </p:blipFill>
        <p:spPr>
          <a:xfrm>
            <a:off x="4038480" y="3124080"/>
            <a:ext cx="1667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Franklin Gothic Book"/>
              </a:rPr>
              <a:t>SATIR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use of humor, irony, exaggeration, or ridicule to expose and criticize people’s stupidity or vices, particularly in the context of contemporary politics and other topical issu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4" descr="Satire-cartoon-School-China-1ekgk14.png"/>
          <p:cNvPicPr/>
          <p:nvPr/>
        </p:nvPicPr>
        <p:blipFill>
          <a:blip r:embed="rId1"/>
          <a:stretch/>
        </p:blipFill>
        <p:spPr>
          <a:xfrm>
            <a:off x="4343400" y="3886200"/>
            <a:ext cx="434340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Franklin Gothic Book"/>
              </a:rPr>
              <a:t>AGEND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genda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nou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list of items to be discussed at a formal meeting: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the question of nuclear weapons had been removed from the agend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plan of things to be done or problems to be addressed: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he vowed to put jobs at the top of his agend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the underlying intentions or motives of a particular person or group: </a:t>
            </a:r>
            <a:r>
              <a:rPr b="0" i="1" lang="en-US" sz="2600" spc="-1" strike="noStrike">
                <a:solidFill>
                  <a:srgbClr val="ffff00"/>
                </a:solidFill>
                <a:latin typeface="Arial"/>
              </a:rPr>
              <a:t>Miller has his own agenda and it has nothing to do with footba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hat agenda is represented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2" name="Content Placeholder 3" descr="funny-satire-cartoons.gif"/>
          <p:cNvPicPr/>
          <p:nvPr/>
        </p:nvPicPr>
        <p:blipFill>
          <a:blip r:embed="rId1"/>
          <a:stretch/>
        </p:blipFill>
        <p:spPr>
          <a:xfrm>
            <a:off x="1809720" y="1982880"/>
            <a:ext cx="476244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hat is being ridiculed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4" name="Content Placeholder 3" descr="GasPricesToon04.jpg"/>
          <p:cNvPicPr/>
          <p:nvPr/>
        </p:nvPicPr>
        <p:blipFill>
          <a:blip r:embed="rId1"/>
          <a:stretch/>
        </p:blipFill>
        <p:spPr>
          <a:xfrm>
            <a:off x="1503360" y="1600200"/>
            <a:ext cx="5375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What methods of satire does the Cartoonist use?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6" name="Content Placeholder 3" descr="Satirical-Sunday-2.16.14-Gov-Christie.jpg"/>
          <p:cNvPicPr/>
          <p:nvPr/>
        </p:nvPicPr>
        <p:blipFill>
          <a:blip r:embed="rId1"/>
          <a:stretch/>
        </p:blipFill>
        <p:spPr>
          <a:xfrm>
            <a:off x="1085760" y="1600200"/>
            <a:ext cx="6210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30T14:39:39Z</dcterms:created>
  <dc:creator>nkelley</dc:creator>
  <dc:description/>
  <dc:language>en-US</dc:language>
  <cp:lastModifiedBy>setupuser</cp:lastModifiedBy>
  <dcterms:modified xsi:type="dcterms:W3CDTF">2014-10-10T13:52:20Z</dcterms:modified>
  <cp:revision>21</cp:revision>
  <dc:subject/>
  <dc:title>Symbolism, allegory, &amp; satire</dc:title>
</cp:coreProperties>
</file>