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8E3-E723-4EAA-9EB6-10E3B0A0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343-D3DF-4BBE-A962-E2A5AE7B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832-BBB3-4D2F-B774-B4A0C916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318-0F1A-4451-ACF6-7EC9E8A9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5734-9EF6-41ED-8BC7-909CC83F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8527-C349-478E-9DD0-B97AAA2E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B63D-C85B-4342-B816-247393D0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0A71-5AF4-43E4-A308-2E07EDDD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C038-AC31-4FF1-98E8-6D1B2AA7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9D70-0744-4A2B-9F80-903B8746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3856-8A23-419D-8B5C-59031054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F65-242E-4F36-AE21-25705206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32C4-00ED-4A40-8B3C-2B0A027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9A32-37BC-4066-BEA8-C6B86E3C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659C-BE48-41C7-B56A-2952D86C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F4FD-BFA3-4CE0-8557-323868CD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26A9-3E05-4AA8-B8CC-DF5A2084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2BF1D-FFE1-40A1-8537-59DBA0AA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D8305-5036-4C1E-9238-1F424E2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15B2-175E-4440-8C1E-408F021B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9AE46-FD6E-4986-8CCC-6D20D361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5D7D-1278-4DB2-9031-2F64F124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B14-E35F-4D3D-9C84-BB938328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14EA-2DD3-423F-B32E-CEF2D721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F959-9048-4F98-AFEE-DC7ACDC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ECAA-9101-4A33-B746-F8D26AA6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9112-FF5E-468E-8C5A-B6AA7DA9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5D402-7D56-4724-B9BF-C72E0D52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BCDC-F80D-4DEC-9760-D66849AD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4F8E-FC07-420B-B081-85061D52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E159E-BA95-4775-A809-A7C0743A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6B9CE-953B-4A8E-961F-690B8B55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A9985-B410-434E-904A-ABBEAD43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511-F720-4EC8-9959-F90F3512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D636-F1C3-411D-9B65-46D87029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F9753-E475-4B9E-8920-D65ADAB2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404E-B48F-4A63-ABE7-76298B18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361C-59FA-45A5-AA74-13A50EA6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9EDE6-A9F8-4E2A-A86E-1BB5A172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680CF-81DA-412F-8263-C7A3F1C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E5188-F671-4712-B7F1-C1387676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87989-AEEC-49F1-98E4-186EF0F0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46AC9-8685-406E-94CD-ABC05DE8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1B52-DC64-4CCD-8060-2EE6E34C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F27-863E-47D6-AC7E-562B163E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0CE53-0890-4DB5-891E-D47A0F73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2E06B-ECE2-4BC6-89F6-CC22D0AA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7D95F-2A59-4551-A886-FDBA5A00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7CB7-4AB9-40C8-87AF-E329A38C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EC5F4-7F62-4406-A282-C947022E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681C7-CE32-4648-9171-C002A32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D0867-5FC4-496C-B7C0-33BF08D3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2034F-B1BD-478E-8BFE-652F1BC1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60587-7D81-4B3A-84AD-8C644EC3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B91B-2053-4097-B81C-7D48F8A2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0D0-43A4-4DA8-9FC9-281046D9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8DAC-6E95-4DCB-B2E8-EA6435A2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7A5F3-7BE6-4B20-B2F5-EA11B02F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16DE0-396E-4857-BD9A-458D33F8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252DE-2B7D-4600-A037-5CA718F9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124AF-777A-483B-BFDF-42C4C6D5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D0143-060C-42BE-B13D-A84D932C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F080-4848-40E7-8F88-DEDCA432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B561E-8E0F-4C85-A2DB-D62529F6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0B54B-BC2B-4963-B4E2-4714D39B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55FB7-57C8-4444-BE45-7F5739A2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31B-1243-4EA1-B3FE-F1D13A7E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D23DD-5664-451F-AC78-30561AC4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D7935-0379-4426-BE78-E5528935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F17B8-C51A-45A4-B262-9D27A143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A8D-CBA0-4607-B96D-D84D245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6EC-1D60-4EA2-A7DA-598217EE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B946-7720-4B44-B250-1DA421A3D04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93A-F6C2-4AE1-8C73-945CA6B7230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8761-A370-45B8-82B1-2A8145AC514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7D9B-EC4B-4F09-B9F2-0074EC94372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F5B0-9541-4075-B243-F43EC5FF09E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E979-4479-4FBB-A4EA-81A6E78DD12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07880" y="3200400"/>
            <a:ext cx="6973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9- Mrs. Ke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YMBOLIS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of an ordinary object, event, person or animal in which the author has attached extraordinary meaning or signific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SurrenderFlag.gif"/>
          <p:cNvPicPr/>
          <p:nvPr/>
        </p:nvPicPr>
        <p:blipFill>
          <a:blip r:embed="rId1"/>
          <a:stretch/>
        </p:blipFill>
        <p:spPr>
          <a:xfrm>
            <a:off x="1676520" y="396252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C:\Users\nkelley\AppData\Local\Microsoft\Windows\Temporary Internet Files\Content.IE5\XSSBRWA2\MC900441792[1].png"/>
          <p:cNvPicPr/>
          <p:nvPr/>
        </p:nvPicPr>
        <p:blipFill>
          <a:blip r:embed="rId2"/>
          <a:stretch/>
        </p:blipFill>
        <p:spPr>
          <a:xfrm>
            <a:off x="3124080" y="3657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scarlet ibis.jpg"/>
          <p:cNvPicPr/>
          <p:nvPr/>
        </p:nvPicPr>
        <p:blipFill>
          <a:blip r:embed="rId3"/>
          <a:stretch/>
        </p:blipFill>
        <p:spPr>
          <a:xfrm>
            <a:off x="617220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ALLEG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ory in which characters, settings, and actions represent something larg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" descr="allegory.jpg"/>
          <p:cNvPicPr/>
          <p:nvPr/>
        </p:nvPicPr>
        <p:blipFill>
          <a:blip r:embed="rId1"/>
          <a:stretch/>
        </p:blipFill>
        <p:spPr>
          <a:xfrm>
            <a:off x="762120" y="2971800"/>
            <a:ext cx="306360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allegory-fable-moral-120417193105-phpapp01-thumbnail-4.jpg"/>
          <p:cNvPicPr/>
          <p:nvPr/>
        </p:nvPicPr>
        <p:blipFill>
          <a:blip r:embed="rId2"/>
          <a:stretch/>
        </p:blipFill>
        <p:spPr>
          <a:xfrm>
            <a:off x="563868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animal Farm cover.jpg"/>
          <p:cNvPicPr/>
          <p:nvPr/>
        </p:nvPicPr>
        <p:blipFill>
          <a:blip r:embed="rId3"/>
          <a:stretch/>
        </p:blipFill>
        <p:spPr>
          <a:xfrm>
            <a:off x="4038480" y="3124080"/>
            <a:ext cx="1667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ATI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humor, irony, exaggeration, or ridicule to expose and criticize people’s stupidity or vices, particularly in the context of contemporary politics and other top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Satire-cartoon-School-China-1ekgk14.png"/>
          <p:cNvPicPr/>
          <p:nvPr/>
        </p:nvPicPr>
        <p:blipFill>
          <a:blip r:embed="rId1"/>
          <a:stretch/>
        </p:blipFill>
        <p:spPr>
          <a:xfrm>
            <a:off x="4343400" y="3886200"/>
            <a:ext cx="43434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AGEND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gend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u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ist of items to be discussed at a formal meeting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he question of nuclear weapons had been removed from the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lan of things to be done or problems to be addressed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he vowed to put jobs at the top of his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he underlying intentions or motives of a particular person or group: 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Miller has his own agenda and it has nothing to do with footb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agenda is represent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Content Placeholder 3" descr="funny-satire-cartoons.gif"/>
          <p:cNvPicPr/>
          <p:nvPr/>
        </p:nvPicPr>
        <p:blipFill>
          <a:blip r:embed="rId1"/>
          <a:stretch/>
        </p:blipFill>
        <p:spPr>
          <a:xfrm>
            <a:off x="1809720" y="1982880"/>
            <a:ext cx="47624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is being ridicul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Content Placeholder 3" descr="GasPricesToon04.jpg"/>
          <p:cNvPicPr/>
          <p:nvPr/>
        </p:nvPicPr>
        <p:blipFill>
          <a:blip r:embed="rId1"/>
          <a:stretch/>
        </p:blipFill>
        <p:spPr>
          <a:xfrm>
            <a:off x="1503360" y="1600200"/>
            <a:ext cx="537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methods of satire does the Cartoonist use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Content Placeholder 3" descr="Satirical-Sunday-2.16.14-Gov-Christie.jpg"/>
          <p:cNvPicPr/>
          <p:nvPr/>
        </p:nvPicPr>
        <p:blipFill>
          <a:blip r:embed="rId1"/>
          <a:stretch/>
        </p:blipFill>
        <p:spPr>
          <a:xfrm>
            <a:off x="1085760" y="1600200"/>
            <a:ext cx="621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14:39:39Z</dcterms:created>
  <dc:creator>nkelley</dc:creator>
  <dc:description/>
  <dc:language>en-US</dc:language>
  <cp:lastModifiedBy>setupuser</cp:lastModifiedBy>
  <dcterms:modified xsi:type="dcterms:W3CDTF">2014-10-10T13:52:20Z</dcterms:modified>
  <cp:revision>21</cp:revision>
  <dc:subject/>
  <dc:title>Symbolism, allegory, &amp; satire</dc:title>
</cp:coreProperties>
</file>