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7A4-64B5-4307-A666-1C38A5E5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A3A-B4C1-4B3A-AA79-806F4FA4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2FA-F687-4988-9CF8-7A87CBDB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008-A54D-4A86-AA7E-5495E11B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C21D-80DC-4118-BFBB-2A7B4EBA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4153-63C5-468B-A622-7877816C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8FCA-815B-4700-B338-4E20EF1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35B7-EF89-47EF-97D0-95060BBC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2D05-C5CD-48AA-B355-00AC9E72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F189-CB0A-4F66-8D77-3EBBCE49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ABCB-3280-4DDD-9F02-4CD3A1A5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A33-1631-4418-8A3A-A19D8C9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200F-2FAA-42E4-9BFC-FA3AD182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E5CB-082B-419C-98C6-89084BE7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3B65-E715-4EC3-94D7-86FDFC11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8C05-1951-4703-8D38-85B1D0B8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17C8-2D55-4FDA-826B-C3E8E9AB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034D-CF0C-47E9-8297-FDF5499B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F483-C0C6-4DFD-BD0C-BA9C2D29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7EEB-8C10-4AE0-91B9-A915C2FE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5ED6-4F5F-4105-9959-B6CC496E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8CE0-40C5-431F-A313-7F6EF579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F3A-3AE5-4F69-936D-063454A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E390-8719-4172-B175-753110A0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6600-DF16-4218-8551-610D1CE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E76F-C67F-4C77-8E32-D614C9E7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5D78-89D0-4C6F-B1E4-411D7A5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A402-321A-44D3-92FB-FD18B091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E28E-5F59-49B0-8565-410B4FA9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D643-0E7E-4DE9-9E5F-F5BBBC57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F5D98-D7CE-4971-BD86-79C28C66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4B19-519E-42BA-B6D2-E32E284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B5C0-66CE-46F9-B6C4-A5CCB639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9B7-68FC-4335-BBE2-5E1AE425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EDFA-18BB-43FB-9747-A08C61D3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2E2D4-5D44-48AB-9A90-70A9AC3A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8579-95D7-4196-B212-E8E8138D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9C32-78F1-4199-8982-08596843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0BB3-EBFE-4FF1-930F-4A2FE7D8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20A7-2557-4878-92B1-FF561BC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522DA-F6F4-4E73-801F-B169DBDE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1FE5A-3DCC-4C03-8624-1E88CE8C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F238-99B0-4269-8D1A-FD87189C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C6F4-F90A-42B1-BBC8-909BA2D8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B62-8A6C-4F02-9777-2AA15D0C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31B80-2F6D-489D-9BEE-3D5B7FF0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710D-4878-4536-9111-6356621E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999E-57FD-4FE9-8027-B3E32D59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6981-3359-4BA1-990F-FB5E936D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ED84-EB9E-4021-85D6-9A846E2B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A7400-B94B-4DDD-B385-C36844B3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7000B-1145-4E38-8AD7-838FCC4C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B627A-AD33-4C2E-955D-F12C538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545BD-5E49-469D-B883-AFC481F1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542F1-B893-4839-9F6B-968D907F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8C6-ABEC-4C61-A8F7-74115704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51A34-72AD-4BE2-9487-0650EB38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F522-8893-4157-BAD6-73385D12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1826-E40A-49D5-BDFF-96472A7B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3D566-2418-44A5-95EF-7D746A80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C6AC5-7C70-46C9-A103-C375C5B2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12785-56AD-4B61-BBDE-DBDC17B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4A965-44C0-48FF-80B7-1BA5638C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38E6E-C3DD-437F-8705-E8E754E0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062A-627D-4986-A818-4593973E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5554C-A04D-4CF2-8AFA-5622BA0E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527-13E6-478B-B6FB-CBC338E6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4FE5-1543-415A-9EF8-BAA38B1D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C101-068D-4C61-A8F2-777EA375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5ABEE-5A4B-4D7E-B31B-A90D86FB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B01-7707-44C3-A2E0-E898E3B7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AC9-D420-4ACD-9CFF-124DC5A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6587-E5AC-4954-8BEF-D3C26308B45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DED4-E2DA-4210-8571-FB1F8BDCEE0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0D40-4CB5-4C12-A585-18FC8D3F4C7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1238-2E60-468F-B6B0-05EDF2684EB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FB09-18CC-4A1B-9FEF-5F1658DA626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D7AA-8F55-4314-BFCA-0BB0F7B917F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07880" y="3200400"/>
            <a:ext cx="6973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9- Mrs. Ke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YMBOL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of an ordinary object, event, person or animal in which the author has attached extraordinary meaning or signific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SurrenderFlag.gif"/>
          <p:cNvPicPr/>
          <p:nvPr/>
        </p:nvPicPr>
        <p:blipFill>
          <a:blip r:embed="rId1"/>
          <a:stretch/>
        </p:blipFill>
        <p:spPr>
          <a:xfrm>
            <a:off x="1676520" y="396252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Users\nkelley\AppData\Local\Microsoft\Windows\Temporary Internet Files\Content.IE5\XSSBRWA2\MC900441792[1].png"/>
          <p:cNvPicPr/>
          <p:nvPr/>
        </p:nvPicPr>
        <p:blipFill>
          <a:blip r:embed="rId2"/>
          <a:stretch/>
        </p:blipFill>
        <p:spPr>
          <a:xfrm>
            <a:off x="3124080" y="3657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scarlet ibis.jpg"/>
          <p:cNvPicPr/>
          <p:nvPr/>
        </p:nvPicPr>
        <p:blipFill>
          <a:blip r:embed="rId3"/>
          <a:stretch/>
        </p:blipFill>
        <p:spPr>
          <a:xfrm>
            <a:off x="617220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ALLEG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ory in which characters, settings, and actions represent something larg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allegory.jpg"/>
          <p:cNvPicPr/>
          <p:nvPr/>
        </p:nvPicPr>
        <p:blipFill>
          <a:blip r:embed="rId1"/>
          <a:stretch/>
        </p:blipFill>
        <p:spPr>
          <a:xfrm>
            <a:off x="762120" y="2971800"/>
            <a:ext cx="30636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allegory-fable-moral-120417193105-phpapp01-thumbnail-4.jpg"/>
          <p:cNvPicPr/>
          <p:nvPr/>
        </p:nvPicPr>
        <p:blipFill>
          <a:blip r:embed="rId2"/>
          <a:stretch/>
        </p:blipFill>
        <p:spPr>
          <a:xfrm>
            <a:off x="56386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animal Farm cover.jpg"/>
          <p:cNvPicPr/>
          <p:nvPr/>
        </p:nvPicPr>
        <p:blipFill>
          <a:blip r:embed="rId3"/>
          <a:stretch/>
        </p:blipFill>
        <p:spPr>
          <a:xfrm>
            <a:off x="4038480" y="3124080"/>
            <a:ext cx="1667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ATI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humor, irony, exaggeration, or ridicule to expose and criticize people’s stupidity or vices, particularly in the context of contemporary politics and other top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Satire-cartoon-School-China-1ekgk14.png"/>
          <p:cNvPicPr/>
          <p:nvPr/>
        </p:nvPicPr>
        <p:blipFill>
          <a:blip r:embed="rId1"/>
          <a:stretch/>
        </p:blipFill>
        <p:spPr>
          <a:xfrm>
            <a:off x="4343400" y="3886200"/>
            <a:ext cx="4343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AGEND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end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u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ist of items to be discussed at a formal meeting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he question of nuclear weapons had been removed from the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lan of things to be done or problems to be addressed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he vowed to put jobs at the top of his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he underlying intentions or motives of a particular person or group: 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Miller has his own agenda and it has nothing to do with footb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agenda is represent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Content Placeholder 3" descr="funny-satire-cartoons.gif"/>
          <p:cNvPicPr/>
          <p:nvPr/>
        </p:nvPicPr>
        <p:blipFill>
          <a:blip r:embed="rId1"/>
          <a:stretch/>
        </p:blipFill>
        <p:spPr>
          <a:xfrm>
            <a:off x="1809720" y="1982880"/>
            <a:ext cx="47624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is being ridicul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Content Placeholder 3" descr="GasPricesToon04.jpg"/>
          <p:cNvPicPr/>
          <p:nvPr/>
        </p:nvPicPr>
        <p:blipFill>
          <a:blip r:embed="rId1"/>
          <a:stretch/>
        </p:blipFill>
        <p:spPr>
          <a:xfrm>
            <a:off x="1503360" y="1600200"/>
            <a:ext cx="537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methods of satire does the Cartoonist use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Content Placeholder 3" descr="Satirical-Sunday-2.16.14-Gov-Christie.jpg"/>
          <p:cNvPicPr/>
          <p:nvPr/>
        </p:nvPicPr>
        <p:blipFill>
          <a:blip r:embed="rId1"/>
          <a:stretch/>
        </p:blipFill>
        <p:spPr>
          <a:xfrm>
            <a:off x="1085760" y="1600200"/>
            <a:ext cx="621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14:39:39Z</dcterms:created>
  <dc:creator>nkelley</dc:creator>
  <dc:description/>
  <dc:language>en-US</dc:language>
  <cp:lastModifiedBy>setupuser</cp:lastModifiedBy>
  <dcterms:modified xsi:type="dcterms:W3CDTF">2014-10-10T13:52:20Z</dcterms:modified>
  <cp:revision>21</cp:revision>
  <dc:subject/>
  <dc:title>Symbolism, allegory, &amp; satire</dc:title>
</cp:coreProperties>
</file>