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04B-8C6E-45FB-801A-176212DA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95A-444B-4D61-BCB3-3AE43CC6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B69-BA22-424B-A6F8-3466B3D8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047-7A0C-4E8C-8BEF-1DBB6783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AEB8-3261-498D-9508-DB42F20E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8164-FFDB-4A5E-873A-DEC09CDA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659D-F202-4140-92D9-ED8DFB27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BD5E-5008-4431-81A9-CFA6F27A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947A-E1FC-4061-A405-5C4F599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997D-F06A-4382-9279-5B13972C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7909-C965-4537-9089-724A618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A87-5F80-48B6-AAE8-11F48878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68B0-C70C-44E6-B987-EE7B0758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7226-2035-41F0-8AEE-CF215AB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B7AF-8941-4B11-A413-5C29A9F0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559A-9D36-4888-A8CA-3258C9AD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17BC-A908-40EC-AA38-C6299AE5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13B19-1C8E-4CAC-B1E9-0D881B40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1292-652E-4836-9451-A6977D8F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BB0A-18F6-46F2-8BEE-A0A765E2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304D-2094-42C7-9C58-DBADE1E4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6286-CB40-4482-8F37-CE8FDBF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BD6-89D3-4FC3-A4DF-130A172D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4552-7568-4D50-BEC0-2230099D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5302-7FF0-4D53-B0C5-EDDF22C6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9006-1E78-4FA9-AE4D-4BB1EED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3E48-9008-4FB0-90D0-229ACE8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5268-E1AA-49DA-B3D5-19074BF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1528-3CCF-410A-919B-34D10ADA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1CE3-FC04-41D7-AD6F-6DCA3405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9FE9-1A83-4346-95AD-3C026DA7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A6E2-A027-4222-9CC5-4C24A569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8441-44EF-492B-B9AD-8C8CE5E0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96D-26F8-4FC5-9359-C570489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CD3B7-F731-4B99-8147-70C661D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6F35-A1D5-4B2E-B5A9-C108C002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F89F-2B8E-4CB8-9E09-7E6DC70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77AC-EFE8-45BE-8BEC-1BB4E96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B5A03-4369-4F80-A1D7-2901CE9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BD8D-7438-471C-9A28-BC7B842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9C3A-723B-4D21-8D22-2CC2741F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0248-EB99-4106-A7AC-025D5152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8DC0-2C59-4A53-98D7-D5C553ED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B21EF-1B0F-424D-B189-B8D404A2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8A9-0C60-4A23-ACAA-372FC835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5BC3-5C06-4549-8286-71ACF63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AF9D-EEA9-47F2-BD63-F1F4B489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F84C-022F-4CB0-8BF1-84CA102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DB05-ACA9-435E-884C-6CB29A98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F256-D7E1-4E12-A447-F4106669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F622-58ED-4D8C-A9BA-A2050DC2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7E5C-1933-4B9E-90B0-7263BA51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B49F-802D-46F4-878A-26DEC55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086CB-7AF7-4ED0-9182-1F52B77E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9B65-63CC-4229-BE97-DC95BA36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EE0-37EC-4402-AD4E-6DFF54C0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6F70-340A-4068-A6E8-534978ED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85C7-34D2-44A4-B1D8-186D5492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A5F9-74C6-4544-BF9D-2E17D7FF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57A1B-A33E-4D3D-AA24-BC0338D8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29A3-0B34-4D5E-9B08-D86E3668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47582-AC3C-413A-891F-80E3E8A6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4A797-F056-45C0-800A-E2236AA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1788D-1435-4C52-B335-F907A497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2252-B5A3-46FF-AD22-F8D7C9D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267D-4533-4646-98A4-E4D9FCE1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CCA-844C-4B29-BD11-083604E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719E-CEFA-4F06-AA8D-A99A6690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4039A-229E-4A54-893F-A8B7BD60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4600-3032-4CC0-8C94-5C3DB052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718-496F-4541-9586-6CFA14CD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B34-62F8-4A74-BED5-AF416532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4B59-228E-4396-AB3C-916052880AA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8BEC-56F6-46F3-9FF4-005C9AC27DE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3346-2255-4ABD-B87D-6554528A2AB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F83F-A8B6-4DB7-9CDB-AC8282721A2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5C8-0D8C-4DF5-B657-77A72DA014A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43C-8A0C-4ACC-8C39-04D0E7FE65E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07880" y="3200400"/>
            <a:ext cx="6973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9- Mrs. Kel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YMBOLIS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f an ordinary object, event, person or animal in which the author has attached extraordinary meaning or significan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SurrenderFlag.gif"/>
          <p:cNvPicPr/>
          <p:nvPr/>
        </p:nvPicPr>
        <p:blipFill>
          <a:blip r:embed="rId1"/>
          <a:stretch/>
        </p:blipFill>
        <p:spPr>
          <a:xfrm>
            <a:off x="1676520" y="396252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C:\Users\nkelley\AppData\Local\Microsoft\Windows\Temporary Internet Files\Content.IE5\XSSBRWA2\MC900441792[1].png"/>
          <p:cNvPicPr/>
          <p:nvPr/>
        </p:nvPicPr>
        <p:blipFill>
          <a:blip r:embed="rId2"/>
          <a:stretch/>
        </p:blipFill>
        <p:spPr>
          <a:xfrm>
            <a:off x="3124080" y="3657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carlet ibis.jpg"/>
          <p:cNvPicPr/>
          <p:nvPr/>
        </p:nvPicPr>
        <p:blipFill>
          <a:blip r:embed="rId3"/>
          <a:stretch/>
        </p:blipFill>
        <p:spPr>
          <a:xfrm>
            <a:off x="617220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ALLEGO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story in which characters, settings, and actions represent something larg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allegory.jpg"/>
          <p:cNvPicPr/>
          <p:nvPr/>
        </p:nvPicPr>
        <p:blipFill>
          <a:blip r:embed="rId1"/>
          <a:stretch/>
        </p:blipFill>
        <p:spPr>
          <a:xfrm>
            <a:off x="762120" y="2971800"/>
            <a:ext cx="30636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allegory-fable-moral-120417193105-phpapp01-thumbnail-4.jpg"/>
          <p:cNvPicPr/>
          <p:nvPr/>
        </p:nvPicPr>
        <p:blipFill>
          <a:blip r:embed="rId2"/>
          <a:stretch/>
        </p:blipFill>
        <p:spPr>
          <a:xfrm>
            <a:off x="56386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animal Farm cover.jpg"/>
          <p:cNvPicPr/>
          <p:nvPr/>
        </p:nvPicPr>
        <p:blipFill>
          <a:blip r:embed="rId3"/>
          <a:stretch/>
        </p:blipFill>
        <p:spPr>
          <a:xfrm>
            <a:off x="4038480" y="3124080"/>
            <a:ext cx="1667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Franklin Gothic Book"/>
              </a:rPr>
              <a:t>SATIR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humor, irony, exaggeration, or ridicule to expose and criticize people’s stupidity or vices, particularly in the context of contemporary politics and other top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Satire-cartoon-School-China-1ekgk14.png"/>
          <p:cNvPicPr/>
          <p:nvPr/>
        </p:nvPicPr>
        <p:blipFill>
          <a:blip r:embed="rId1"/>
          <a:stretch/>
        </p:blipFill>
        <p:spPr>
          <a:xfrm>
            <a:off x="4343400" y="3886200"/>
            <a:ext cx="4343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AGEND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gend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ist of items to be discussed at a formal meeting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he question of nuclear weapons had been removed from the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lan of things to be done or problems to be addressed: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he vowed to put jobs at the top of his ag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he underlying intentions or motives of a particular person or group: </a:t>
            </a: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Miller has his own agenda and it has nothing to do with footb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agenda is represent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Content Placeholder 3" descr="funny-satire-cartoons.gif"/>
          <p:cNvPicPr/>
          <p:nvPr/>
        </p:nvPicPr>
        <p:blipFill>
          <a:blip r:embed="rId1"/>
          <a:stretch/>
        </p:blipFill>
        <p:spPr>
          <a:xfrm>
            <a:off x="1809720" y="1982880"/>
            <a:ext cx="47624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is being ridiculed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Content Placeholder 3" descr="GasPricesToon04.jpg"/>
          <p:cNvPicPr/>
          <p:nvPr/>
        </p:nvPicPr>
        <p:blipFill>
          <a:blip r:embed="rId1"/>
          <a:stretch/>
        </p:blipFill>
        <p:spPr>
          <a:xfrm>
            <a:off x="1503360" y="1600200"/>
            <a:ext cx="537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methods of satire does the Cartoonist use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Content Placeholder 3" descr="Satirical-Sunday-2.16.14-Gov-Christie.jpg"/>
          <p:cNvPicPr/>
          <p:nvPr/>
        </p:nvPicPr>
        <p:blipFill>
          <a:blip r:embed="rId1"/>
          <a:stretch/>
        </p:blipFill>
        <p:spPr>
          <a:xfrm>
            <a:off x="1085760" y="1600200"/>
            <a:ext cx="621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30T14:39:39Z</dcterms:created>
  <dc:creator>nkelley</dc:creator>
  <dc:description/>
  <dc:language>en-US</dc:language>
  <cp:lastModifiedBy>setupuser</cp:lastModifiedBy>
  <dcterms:modified xsi:type="dcterms:W3CDTF">2014-10-10T13:52:20Z</dcterms:modified>
  <cp:revision>21</cp:revision>
  <dc:subject/>
  <dc:title>Symbolism, allegory, &amp; satire</dc:title>
</cp:coreProperties>
</file>