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9.jpeg" ContentType="image/jpeg"/>
  <Override PartName="/ppt/media/image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5751-C954-486A-B326-28DD869E5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FB1D-D5A9-46D0-A2C2-AA3D3198A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E3A4-3A3D-44E7-AD55-C5933CD3F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2701-94BC-4D98-9E34-524677F3A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71A12-BE24-46C7-A642-5E2F6D3A8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BEDA4-41C9-466A-8AB7-F021E24F0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50B76-67E1-4637-AEB8-039C1817B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3BB72-E51C-4294-ACFA-1C15710DC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265A0-CC6E-4D21-9251-E9037A313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83558-0027-44CD-91D8-FF5AFEAD5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CA8EA-A1A8-49AE-80AC-270F1285A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7E92-4973-4A50-AC91-630CE7B9F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105D4-CC9F-42EC-A655-0B23C5DE2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B08F7-612D-41D4-AD74-A68496BEE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632F2-7499-4FC1-ABBC-0BEB9BEB9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48984-8A87-49C3-A575-88CCCB44E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EF5DA-0300-400E-9998-7D263F105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BC9BF-4C40-4174-A868-366AD7E1D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69CE8-C611-4129-BC07-28A17FF4B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E2974-91CD-49BD-AD04-18DAF1FAE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1F0D2-5A48-47C4-A66E-9E5499670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ED0AD-1F3D-4B44-A8C7-A60A80E22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E3E6-2A17-432D-891C-7E179C142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DC599-E604-4970-B840-6D86F9B9F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B3D07-06AB-4B8B-9F8B-D4AF6EEC0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8029B-D6F3-4E59-8372-6FAF6227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CD457-E33A-44E4-9F2B-945C3F94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7F837-5170-4D8E-A1EC-B9D60B555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61D56-0278-4035-B1D6-0306811C7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149D6-636E-4F5B-B711-58E798BA3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7A4AA-86A4-4129-B727-7E06AC53D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4EC53-FCCA-4C2B-BD18-19D415E9A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4587B-C620-47F6-928C-47ADE9E53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B04E-276A-4026-B28B-274658BCC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CBD56-F62C-4756-A2D0-51A307820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B27F6-070F-4A9A-98F8-FDA45DBD3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7239A-6DD4-4320-BB7E-0DDAE138B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B4C29-ABB2-4E32-A182-778CAD207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D9353-9C1F-441F-84EE-F8204E4D4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20207-EEF6-436D-A85E-926125BD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5997D-E8B3-4568-8290-B29731A02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8E5C4-8426-4AAC-8566-DE4457D9A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FC576-7A6C-4791-9DF9-D954BBFB8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0C4140-B7FB-4CBF-8CE7-FAF2D149A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97F9-1E19-4EC7-9FCA-BD52913BB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DA82D4-A6C8-4725-A5B2-FA0533606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BDD8D-E3FB-4DB8-A927-89B70879B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D8D5AB-3EE4-498A-9DA2-A87C9F6D7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AE2CB1-F006-47F3-882C-EC1B2E33B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0515F8-75D4-414A-8C0F-74F6BC630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B7EF7-D081-4EFE-92A6-BBB173447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510560-1047-45AB-B6DE-EA996260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DCB705-4F4C-4037-B0E0-C319DA30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88C824-D941-4A47-9D9F-0D790329C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8CA8B-74D7-498B-911D-F57784032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2541-4F55-4A33-BC87-012FFDB79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8F35C6-8F13-42AE-B542-800B9E60C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4F75-C2DD-41C9-8F49-C15F6FA5D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F0EB-2003-4329-96BC-0FF71257E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E38B-FD1E-4570-A053-CC134964E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916A4-C59E-4DAF-839F-B368D869E08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D38D1-FEC8-44D3-8B9A-35A1A030608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417C4-718F-4CEC-945D-13F91B430E1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22AE0-6257-4A71-8A87-14BB5CC5D8C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CFF20-D45B-47B1-B244-938A01DB8B9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Basic Literary Elements Note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9" name="TextBox 12"/>
          <p:cNvSpPr/>
          <p:nvPr/>
        </p:nvSpPr>
        <p:spPr>
          <a:xfrm>
            <a:off x="609480" y="36576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Unit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traight Connector 7"/>
          <p:cNvSpPr/>
          <p:nvPr/>
        </p:nvSpPr>
        <p:spPr>
          <a:xfrm>
            <a:off x="762120" y="4191120"/>
            <a:ext cx="2590560" cy="0"/>
          </a:xfrm>
          <a:prstGeom prst="line">
            <a:avLst/>
          </a:prstGeom>
          <a:ln w="63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traight Connector 9"/>
          <p:cNvSpPr/>
          <p:nvPr/>
        </p:nvSpPr>
        <p:spPr>
          <a:xfrm>
            <a:off x="5867280" y="4191120"/>
            <a:ext cx="2590920" cy="0"/>
          </a:xfrm>
          <a:prstGeom prst="line">
            <a:avLst/>
          </a:prstGeom>
          <a:ln w="63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0"/>
          <p:cNvSpPr/>
          <p:nvPr/>
        </p:nvSpPr>
        <p:spPr>
          <a:xfrm>
            <a:off x="4572000" y="1905120"/>
            <a:ext cx="1295280" cy="2286000"/>
          </a:xfrm>
          <a:prstGeom prst="line">
            <a:avLst/>
          </a:prstGeom>
          <a:ln w="63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1"/>
          <p:cNvSpPr/>
          <p:nvPr/>
        </p:nvSpPr>
        <p:spPr>
          <a:xfrm flipV="1">
            <a:off x="3351960" y="1905120"/>
            <a:ext cx="1219320" cy="2286000"/>
          </a:xfrm>
          <a:prstGeom prst="line">
            <a:avLst/>
          </a:prstGeom>
          <a:ln w="63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5"/>
          <p:cNvSpPr/>
          <p:nvPr/>
        </p:nvSpPr>
        <p:spPr>
          <a:xfrm>
            <a:off x="1371600" y="2438280"/>
            <a:ext cx="24382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6"/>
          <p:cNvSpPr/>
          <p:nvPr/>
        </p:nvSpPr>
        <p:spPr>
          <a:xfrm rot="17883000">
            <a:off x="2517120" y="2602080"/>
            <a:ext cx="258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Rising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7"/>
          <p:cNvSpPr/>
          <p:nvPr/>
        </p:nvSpPr>
        <p:spPr>
          <a:xfrm>
            <a:off x="838080" y="373392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Ex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9"/>
          <p:cNvSpPr/>
          <p:nvPr/>
        </p:nvSpPr>
        <p:spPr>
          <a:xfrm rot="3613800">
            <a:off x="3965760" y="2634840"/>
            <a:ext cx="2581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alling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20"/>
          <p:cNvSpPr/>
          <p:nvPr/>
        </p:nvSpPr>
        <p:spPr>
          <a:xfrm>
            <a:off x="6400800" y="3733920"/>
            <a:ext cx="187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Re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21"/>
          <p:cNvSpPr/>
          <p:nvPr/>
        </p:nvSpPr>
        <p:spPr>
          <a:xfrm>
            <a:off x="3962520" y="1371600"/>
            <a:ext cx="129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lim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Rectangle 22" descr=""/>
          <p:cNvPicPr/>
          <p:nvPr/>
        </p:nvPicPr>
        <p:blipFill>
          <a:blip r:embed="rId1"/>
          <a:stretch/>
        </p:blipFill>
        <p:spPr>
          <a:xfrm>
            <a:off x="1249200" y="4780080"/>
            <a:ext cx="6731280" cy="1139760"/>
          </a:xfrm>
          <a:prstGeom prst="rect">
            <a:avLst/>
          </a:prstGeom>
          <a:ln w="0">
            <a:noFill/>
          </a:ln>
        </p:spPr>
      </p:pic>
      <p:sp>
        <p:nvSpPr>
          <p:cNvPr id="265" name="TextBox 13"/>
          <p:cNvSpPr/>
          <p:nvPr/>
        </p:nvSpPr>
        <p:spPr>
          <a:xfrm>
            <a:off x="762120" y="60948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s have five stages**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5 Plot Stages: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26440" indent="-226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Exposition: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characters, setting, and basic situation are introduced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26440" indent="-226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Rising action: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central conflict begins and develop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26440" indent="-226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Climax: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conflict reaches its highest point of tension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26440" indent="-226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Falling action: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tension in the story decrease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26440" indent="-226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Resolution: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conflict ends and any remaining issues are resolved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26440" indent="-226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26440" indent="-226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**However, some authors change the order of these stages to create a unique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structure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in their storie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26440" indent="-226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9144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Structure Definition: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way in which a plot unfolds and the reader learns about characters and situat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37240" indent="-2372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715320" indent="-19872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Chronological order: 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(the most common structure) when unfold in a sequence from beginning to end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715320" indent="-19872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Flashbacks: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moments that interrupt the flow of a chronological sequence to describe earlier event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715320" indent="-19872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Foreshadowing: 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when authors include details that hint at later event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715320" indent="-19872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Parallel Plots: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when an author develops two distinct storylines, with two sets of characters, in a single work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715320" indent="-19872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Pacing: 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he speed or rhythm of the writing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37240" indent="-2372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914400" y="5335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foundation of a story’s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structure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is its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plot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; however, the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structure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of a text might also be shaped by its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genre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.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Genre Definition: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a classification of literary works that share certain elements, such as character types or common plot patter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1800" indent="-2260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Common Genres of Fiction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Realistic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-Speculative (science fiction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-Historical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-Humorou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-Parody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-Mystery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Them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ll of the elements of a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short story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contribute to its deeper meaning, or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 theme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Definition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:  the central insight about life conveyed in a stor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theme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is not a summary of a story’s events. Instead, it is a generalization about what the events </a:t>
            </a: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mean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. A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theme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may be stated directly, but more often it’s implied. The reader must examine the relationships among the story’s elements to arrive at an interpretation of its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theme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6858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Definition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: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techniques authors use to portray character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Creating Characters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riters reveal their characters’ traits either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directly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or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indirectly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Direct characterization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: the narrator directly states a character’s trai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Indirect characterization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: (trickier to figure out) the writer subtly reveals the characters’ traits in 5 different ways…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1" name="TextBox 3"/>
          <p:cNvSpPr/>
          <p:nvPr/>
        </p:nvSpPr>
        <p:spPr>
          <a:xfrm>
            <a:off x="685800" y="533520"/>
            <a:ext cx="7467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f7f7f"/>
                </a:solidFill>
                <a:latin typeface="Franklin Gothic Book"/>
              </a:rPr>
              <a:t>Characterization or Characte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914400" y="6854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riters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indirectly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reveal their characters through…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04000" indent="-50400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ppearance/physical descrip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04000" indent="-50400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ialogue- the words that characters speak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04000" indent="-50400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rivate thoughts and feeling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04000" indent="-50400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ehavio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04000" indent="-50400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teractions with other character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04000" indent="-504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04000" indent="-504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ll of these reveal who the character is, including his or her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motivation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04000" indent="-504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Motivations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: The characters’ reasons for feeling and behaving as they do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Types of Characters in Literatur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914400" y="14475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Flat or Stock character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Have just one or two trait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Round or Complex character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Have many traits, including both faults and virtu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5" name="Picture 4" descr="C:\Documents and Settings\jhammond\Local Settings\Temporary Internet Files\Content.IE5\ORF86VUD\MP900441037[1].jpg"/>
          <p:cNvPicPr/>
          <p:nvPr/>
        </p:nvPicPr>
        <p:blipFill>
          <a:blip r:embed="rId1"/>
          <a:stretch/>
        </p:blipFill>
        <p:spPr>
          <a:xfrm>
            <a:off x="1295280" y="4114800"/>
            <a:ext cx="3314880" cy="2209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C:\Documents and Settings\jhammond\Local Settings\Temporary Internet Files\Content.IE5\ORF86VUD\MC900037073[1].wmf"/>
          <p:cNvPicPr/>
          <p:nvPr/>
        </p:nvPicPr>
        <p:blipFill>
          <a:blip r:embed="rId2"/>
          <a:stretch/>
        </p:blipFill>
        <p:spPr>
          <a:xfrm>
            <a:off x="5041800" y="3657600"/>
            <a:ext cx="296856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haracter Interaction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914400" y="14479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Protagonis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main characte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Antagonis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Opposes the main character, creating conflict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9" name="Picture 5" descr="http://ts1.mm.bing.net/images/thumbnail.aspx?q=1166957416856&amp;id=1350fd67ad2c4b75b0be9e52457a6bc7&amp;url=http%3a%2f%2fwww.lionking.org%2f%7ekubo%2fClipArt%2fCharacters%2fAdultSimba%2fAdultSimba2.gif"/>
          <p:cNvPicPr/>
          <p:nvPr/>
        </p:nvPicPr>
        <p:blipFill>
          <a:blip r:embed="rId1"/>
          <a:stretch/>
        </p:blipFill>
        <p:spPr>
          <a:xfrm>
            <a:off x="5181480" y="3581280"/>
            <a:ext cx="2633760" cy="29592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7" descr="http://ts2.mm.bing.net/images/thumbnail.aspx?q=1056558885689&amp;id=383177d7a20b6f158b5174d7cd6dabba&amp;url=http%3a%2f%2fwww.arthursclipart.org%2fjustforkids%2flionking%2fscar%25204.gif"/>
          <p:cNvPicPr/>
          <p:nvPr/>
        </p:nvPicPr>
        <p:blipFill>
          <a:blip r:embed="rId2"/>
          <a:stretch/>
        </p:blipFill>
        <p:spPr>
          <a:xfrm>
            <a:off x="609480" y="4191120"/>
            <a:ext cx="3676680" cy="21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haracter Developmen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914400" y="14475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Dynamic Character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hange as a result of experiences they undergo in the story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Static Character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Do not change during the story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3" name="Picture 5" descr="http://www.peexa.com/wallpapers/the_dark_knights_joker-1280x960.jpg"/>
          <p:cNvPicPr/>
          <p:nvPr/>
        </p:nvPicPr>
        <p:blipFill>
          <a:blip r:embed="rId1"/>
          <a:stretch/>
        </p:blipFill>
        <p:spPr>
          <a:xfrm rot="20971800">
            <a:off x="1168200" y="4062240"/>
            <a:ext cx="2984400" cy="22384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7" descr="http://ts1.mm.bing.net/images/thumbnail.aspx?q=1055570075176&amp;id=fc6d54538cd93f08458dbb653192652b&amp;url=http%3a%2f%2fi.clevver.com%2ffullphoto%2f107575%2f500%2f950%2fthe-dark-knight-production-photos-46.jpg"/>
          <p:cNvPicPr/>
          <p:nvPr/>
        </p:nvPicPr>
        <p:blipFill>
          <a:blip r:embed="rId2"/>
          <a:stretch/>
        </p:blipFill>
        <p:spPr>
          <a:xfrm rot="600000">
            <a:off x="5398560" y="3300120"/>
            <a:ext cx="205128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etting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Definition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: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 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time and place in which a story occur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Time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= hour of day, the season, and the historical era (including the practices and beliefs common to the perio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Place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= the general location, such as a specific country, city, or village. It also includes specific locations, such as a grocery store, a farm, or a school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7" name="Picture 3" descr="Picture1.jpg"/>
          <p:cNvPicPr/>
          <p:nvPr/>
        </p:nvPicPr>
        <p:blipFill>
          <a:blip r:embed="rId1"/>
          <a:stretch/>
        </p:blipFill>
        <p:spPr>
          <a:xfrm>
            <a:off x="1523880" y="5105520"/>
            <a:ext cx="2133720" cy="14223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4" descr="Picture4.jpg"/>
          <p:cNvPicPr/>
          <p:nvPr/>
        </p:nvPicPr>
        <p:blipFill>
          <a:blip r:embed="rId2"/>
          <a:stretch/>
        </p:blipFill>
        <p:spPr>
          <a:xfrm>
            <a:off x="5257800" y="4876920"/>
            <a:ext cx="217476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onflic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Definition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A struggle or problem characters fa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External conflict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: Takes place between a character and an outside force, such as…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nother characte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ociety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Natur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Internal conflict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: A struggle a character experiences between his/her own feelings, desires, or belief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1" name="Picture 3" descr="conflict.jpg"/>
          <p:cNvPicPr/>
          <p:nvPr/>
        </p:nvPicPr>
        <p:blipFill>
          <a:blip r:embed="rId1"/>
          <a:stretch/>
        </p:blipFill>
        <p:spPr>
          <a:xfrm>
            <a:off x="5334120" y="3048120"/>
            <a:ext cx="2344680" cy="14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Plot, Structure, and Genr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914400" y="21333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Perpetua"/>
              </a:rPr>
              <a:t>Plot Definition</a:t>
            </a:r>
            <a:r>
              <a:rPr b="0" lang="en-US" sz="4800" spc="-1" strike="noStrike">
                <a:solidFill>
                  <a:srgbClr val="000000"/>
                </a:solidFill>
                <a:latin typeface="Perpetua"/>
              </a:rPr>
              <a:t>:  The sequence of interrelated events in a story</a:t>
            </a:r>
            <a:endParaRPr b="0" lang="en-US" sz="4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2:58:55Z</dcterms:created>
  <dc:creator>setupuser</dc:creator>
  <dc:description/>
  <dc:language>en-US</dc:language>
  <cp:lastModifiedBy>jhammond</cp:lastModifiedBy>
  <dcterms:modified xsi:type="dcterms:W3CDTF">2015-08-28T15:17:10Z</dcterms:modified>
  <cp:revision>67</cp:revision>
  <dc:subject/>
  <dc:title>Characterization</dc:title>
</cp:coreProperties>
</file>