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0A31-1D4C-475E-9A46-21887822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1D9E-2DDF-4C8E-8139-DEF7E727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D5E6-873A-4FA7-885E-8E653882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4AA-F01A-4147-9E3D-917837B6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110E-10BE-462D-AF94-1E709231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45A8-6E98-455F-B632-3EAF220D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9E8D-2FE5-4685-AAF8-3B5BE8B5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F9C7-D873-47D1-9747-AA79A722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6FB6-B843-4D42-9799-D8CEF9CF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3DDC-0C90-48D9-932F-D630C43A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17DA-F10F-4516-860E-F219B610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795-F0A4-4885-BA6D-8357CE31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2863-6999-4927-B9FA-12C9188F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CDDE-F042-4125-AA2C-9B53E58F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5F46-FAAB-4E56-8233-E0CB4620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F540-A3F2-4941-B366-938BD2D1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6500-96D6-4356-AB72-B3187ACD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75563-89A2-4E7A-B1D0-1A3D31E6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3DC95-3938-4435-AB6A-6B938126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CD5F1-A7DA-4F75-87DF-CD7EF767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BD7A5-154A-451C-83B1-14D823B2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BAD7A-5F05-4599-A9CC-927DE3D5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A4F4-D8C3-4418-A16F-D7381976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6836-2ACC-48DB-B42F-6EBEF1F9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E8220-644B-440D-9A41-37558E33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593BD-2B0B-4BE0-B771-8918867A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6145E-8507-4974-BE13-1796EF36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CF8D1-40C8-4DBE-94CB-B7698D4F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70BC3-9C29-4059-AA64-3C9363E5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9884A-E61A-44DF-9239-066040FC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A230B-0FCC-4BED-A82D-903A818C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B958C-812B-4B5E-9E05-350190C3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C3746-A61A-4197-8EAF-A798E93A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B733-A37C-4CE8-AD18-86DEC675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AE07B-2B9E-4459-88FA-D8759A29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1F9F2-5C11-4D66-88EA-6CC5EC92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6F093-91AB-4F08-AAEB-240F57A0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E201C-DD9F-4545-B6EE-64E605DD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05AA3-6A85-4C0C-9711-568F49FC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B2077-7E03-4E9D-97B8-3F98D718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7910D-99A3-4FD8-88C9-F7850B92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A9682-FC1D-4080-9F30-024FA828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C0B7D-7266-4F86-AB05-3DE14DC9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307ED-0A49-4858-AD7A-8E52B69B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AFE-F89E-4810-9826-52E81B4E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9338A-4E4C-44B0-953E-8737BCDE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80D73-B43A-4BDB-96E0-D1DD124A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88B06-BA87-4A87-97F5-A7839B0E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154BF-9880-45BD-9EE3-EE7C9CC8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BCF72-159D-42BE-8FC4-7D06BA05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F7DAE-15C5-48F1-9AC3-723E7566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F422C-214A-4828-A831-E53F7411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C24B0-AD3A-4BFC-B0F7-E3F5E293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8FC54-4ED4-40FD-A700-C4EC517B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95A38-350F-4618-B21E-B82A6046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29C-1D3A-45E9-B415-6AF2B3DF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A02D2-0D28-4AB5-9BCD-A3624295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A4E7-F50D-4EC1-8DEC-8B9337BF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214-308B-46F2-B931-E1EA4E9C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E1CD-A2A5-480D-8807-3B05C5DA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8D89-AF2C-4178-815E-E059654CF79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F295-92DB-4F72-87C3-467CA9F3379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7DF0-7A2B-4202-8C06-25BC5C637CD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79AD-27B0-453E-BC73-BD017D9806C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CE97-15C4-4FD0-BC7D-46E83340E26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Basic Literary Elements Not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609480" y="3657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Uni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7"/>
          <p:cNvSpPr/>
          <p:nvPr/>
        </p:nvSpPr>
        <p:spPr>
          <a:xfrm>
            <a:off x="762120" y="4191120"/>
            <a:ext cx="2590560" cy="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9"/>
          <p:cNvSpPr/>
          <p:nvPr/>
        </p:nvSpPr>
        <p:spPr>
          <a:xfrm>
            <a:off x="5867280" y="4191120"/>
            <a:ext cx="2590920" cy="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0"/>
          <p:cNvSpPr/>
          <p:nvPr/>
        </p:nvSpPr>
        <p:spPr>
          <a:xfrm>
            <a:off x="4572000" y="1905120"/>
            <a:ext cx="1295280" cy="228600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1"/>
          <p:cNvSpPr/>
          <p:nvPr/>
        </p:nvSpPr>
        <p:spPr>
          <a:xfrm flipV="1">
            <a:off x="3351960" y="1905120"/>
            <a:ext cx="1219320" cy="228600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5"/>
          <p:cNvSpPr/>
          <p:nvPr/>
        </p:nvSpPr>
        <p:spPr>
          <a:xfrm>
            <a:off x="1371600" y="2438280"/>
            <a:ext cx="2438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6"/>
          <p:cNvSpPr/>
          <p:nvPr/>
        </p:nvSpPr>
        <p:spPr>
          <a:xfrm rot="17883000">
            <a:off x="2517120" y="260208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ising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7"/>
          <p:cNvSpPr/>
          <p:nvPr/>
        </p:nvSpPr>
        <p:spPr>
          <a:xfrm>
            <a:off x="838080" y="37339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9"/>
          <p:cNvSpPr/>
          <p:nvPr/>
        </p:nvSpPr>
        <p:spPr>
          <a:xfrm rot="3613800">
            <a:off x="3965760" y="2634840"/>
            <a:ext cx="258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lling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0"/>
          <p:cNvSpPr/>
          <p:nvPr/>
        </p:nvSpPr>
        <p:spPr>
          <a:xfrm>
            <a:off x="6400800" y="373392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1"/>
          <p:cNvSpPr/>
          <p:nvPr/>
        </p:nvSpPr>
        <p:spPr>
          <a:xfrm>
            <a:off x="3962520" y="137160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Rectangle 22" descr=""/>
          <p:cNvPicPr/>
          <p:nvPr/>
        </p:nvPicPr>
        <p:blipFill>
          <a:blip r:embed="rId1"/>
          <a:stretch/>
        </p:blipFill>
        <p:spPr>
          <a:xfrm>
            <a:off x="1249200" y="4780080"/>
            <a:ext cx="6731280" cy="11397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3"/>
          <p:cNvSpPr/>
          <p:nvPr/>
        </p:nvSpPr>
        <p:spPr>
          <a:xfrm>
            <a:off x="762120" y="6094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s have five stages**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5 Plot Stages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Exposi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haracters, setting, and basic situation are introduce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ising ac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entral conflict begins and develop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limax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onflict reaches its highest point of tens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Falling ac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ension in the story decreas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esolu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onflict ends and any remaining issues are resolve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**However, some authors change the order of these stages to create a uniqu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truc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 their stor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9144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Structure Defini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way in which a plot unfolds and the reader learns about characters and situ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Chronological order: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the most common structure) when unfold in a sequence from beginning to en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Flashbacks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moments that interrupt the flow of a chronological sequence to describe earlier ev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Foreshadowing: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en authors include details that hint at later ev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arallel Plots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when an author develops two distinct storylines, with two sets of characters, in a single work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acing: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speed or rhythm of the writ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91440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foundation of a story’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truc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s it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lo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; however, th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truc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of a text might also be shaped by it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gen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Genre Defini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 classification of literary works that share certain elements, such as character types or common plot patte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ommon Genres of Fiction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alistic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Speculative (science fictio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Historical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Humorou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Parod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Myste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m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l of the elements of a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hort stor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contribute to its deeper meaning, or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the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 the central insight about life conveyed in a sto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hem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s not a summary of a story’s events. Instead, it is a generalization about what the events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mea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A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hem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may be stated directly, but more often it’s implied. The reader must examine the relationships among the story’s elements to arrive at an interpretation of it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hem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echniques authors use to portray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Creating Characters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riters reveal their characters’ traits either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directl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or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ndirectl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irect characteriz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the narrator directly states a character’s trai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Indirect characteriz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(trickier to figure out) the writer subtly reveals the characters’ traits in 5 different way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685800" y="53352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Franklin Gothic Book"/>
              </a:rPr>
              <a:t>Characterization or Characte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1440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riter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ndirectl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reveal their characters through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ppearance/physical descrip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logue- the words that characters spea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ivate thoughts and feeling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havi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actions with other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l of these reveal who the character is, including his or her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motiv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Motivation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The characters’ reasons for feeling and behaving as they d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ypes of Characters in Literatu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Flat or Stock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ave just one or two trai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Round or Complex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ave many traits, including both faults and virtu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Picture 4" descr="C:\Documents and Settings\jhammond\Local Settings\Temporary Internet Files\Content.IE5\ORF86VUD\MP900441037[1].jpg"/>
          <p:cNvPicPr/>
          <p:nvPr/>
        </p:nvPicPr>
        <p:blipFill>
          <a:blip r:embed="rId1"/>
          <a:stretch/>
        </p:blipFill>
        <p:spPr>
          <a:xfrm>
            <a:off x="1295280" y="4114800"/>
            <a:ext cx="3314880" cy="2209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Documents and Settings\jhammond\Local Settings\Temporary Internet Files\Content.IE5\ORF86VUD\MC900037073[1].wmf"/>
          <p:cNvPicPr/>
          <p:nvPr/>
        </p:nvPicPr>
        <p:blipFill>
          <a:blip r:embed="rId2"/>
          <a:stretch/>
        </p:blipFill>
        <p:spPr>
          <a:xfrm>
            <a:off x="5041800" y="3657600"/>
            <a:ext cx="2968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aracter Interac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Protagon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ain charac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Antagon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pposes the main character, creating conflic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5" descr="http://ts1.mm.bing.net/images/thumbnail.aspx?q=1166957416856&amp;id=1350fd67ad2c4b75b0be9e52457a6bc7&amp;url=http%3a%2f%2fwww.lionking.org%2f%7ekubo%2fClipArt%2fCharacters%2fAdultSimba%2fAdultSimba2.gif"/>
          <p:cNvPicPr/>
          <p:nvPr/>
        </p:nvPicPr>
        <p:blipFill>
          <a:blip r:embed="rId1"/>
          <a:stretch/>
        </p:blipFill>
        <p:spPr>
          <a:xfrm>
            <a:off x="5181480" y="3581280"/>
            <a:ext cx="2633760" cy="2959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http://ts2.mm.bing.net/images/thumbnail.aspx?q=1056558885689&amp;id=383177d7a20b6f158b5174d7cd6dabba&amp;url=http%3a%2f%2fwww.arthursclipart.org%2fjustforkids%2flionking%2fscar%25204.gif"/>
          <p:cNvPicPr/>
          <p:nvPr/>
        </p:nvPicPr>
        <p:blipFill>
          <a:blip r:embed="rId2"/>
          <a:stretch/>
        </p:blipFill>
        <p:spPr>
          <a:xfrm>
            <a:off x="609480" y="4191120"/>
            <a:ext cx="36766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aracter Developmen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ynamic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hange as a result of experiences they undergo in the sto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Static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 not change during the sto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5" descr="http://www.peexa.com/wallpapers/the_dark_knights_joker-1280x960.jpg"/>
          <p:cNvPicPr/>
          <p:nvPr/>
        </p:nvPicPr>
        <p:blipFill>
          <a:blip r:embed="rId1"/>
          <a:stretch/>
        </p:blipFill>
        <p:spPr>
          <a:xfrm rot="20971800">
            <a:off x="1168200" y="4062240"/>
            <a:ext cx="2984400" cy="2238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http://ts1.mm.bing.net/images/thumbnail.aspx?q=1055570075176&amp;id=fc6d54538cd93f08458dbb653192652b&amp;url=http%3a%2f%2fi.clevver.com%2ffullphoto%2f107575%2f500%2f950%2fthe-dark-knight-production-photos-46.jpg"/>
          <p:cNvPicPr/>
          <p:nvPr/>
        </p:nvPicPr>
        <p:blipFill>
          <a:blip r:embed="rId2"/>
          <a:stretch/>
        </p:blipFill>
        <p:spPr>
          <a:xfrm rot="600000">
            <a:off x="5398560" y="3300120"/>
            <a:ext cx="20512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tt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ime and place in which a story occu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im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 hour of day, the season, and the historical era (including the practices and beliefs common to the peri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lac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 the general location, such as a specific country, city, or village. It also includes specific locations, such as a grocery store, a farm, or a schoo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7" name="Picture 3" descr="Picture1.jpg"/>
          <p:cNvPicPr/>
          <p:nvPr/>
        </p:nvPicPr>
        <p:blipFill>
          <a:blip r:embed="rId1"/>
          <a:stretch/>
        </p:blipFill>
        <p:spPr>
          <a:xfrm>
            <a:off x="1523880" y="5105520"/>
            <a:ext cx="2133720" cy="1422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Picture4.jpg"/>
          <p:cNvPicPr/>
          <p:nvPr/>
        </p:nvPicPr>
        <p:blipFill>
          <a:blip r:embed="rId2"/>
          <a:stretch/>
        </p:blipFill>
        <p:spPr>
          <a:xfrm>
            <a:off x="5257800" y="4876920"/>
            <a:ext cx="21747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flic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 struggle or problem characters f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External conflic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Takes place between a character and an outside force, such a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other charac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Internal conflic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A struggle a character experiences between his/her own feelings, desires, or belief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3" descr="conflict.jpg"/>
          <p:cNvPicPr/>
          <p:nvPr/>
        </p:nvPicPr>
        <p:blipFill>
          <a:blip r:embed="rId1"/>
          <a:stretch/>
        </p:blipFill>
        <p:spPr>
          <a:xfrm>
            <a:off x="5334120" y="3048120"/>
            <a:ext cx="234468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lot, Structure, and Gen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2133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Perpetua"/>
              </a:rPr>
              <a:t>Plot Definition</a:t>
            </a: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:  The sequence of interrelated events in a story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2:58:55Z</dcterms:created>
  <dc:creator>setupuser</dc:creator>
  <dc:description/>
  <dc:language>en-US</dc:language>
  <cp:lastModifiedBy>jhammond</cp:lastModifiedBy>
  <dcterms:modified xsi:type="dcterms:W3CDTF">2015-08-28T15:17:10Z</dcterms:modified>
  <cp:revision>67</cp:revision>
  <dc:subject/>
  <dc:title>Characterization</dc:title>
</cp:coreProperties>
</file>