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355-0D48-4A3F-BB24-F9A12291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F62-F2CC-41ED-BAF3-452632C9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BB3-5EDB-46C0-9489-D376A661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F09-28ED-42E7-96D0-A493B4AA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1A28-8EEA-42F3-BDFE-2940A35B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8979-099D-4FD4-8307-EC124074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DE33-CDB2-4808-ABF4-D309E058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6215-B194-478F-8E40-212F8512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1FE5-63A6-4F47-9115-15250CB8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8BA9-1A38-4C83-A3D7-26968C2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D85B-4964-4A85-BE04-4862D9C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25D-61AF-4D7F-8FDC-68C7247E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B0F7-87B4-43A6-8347-4520FF3D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AF3C-3B25-4C8F-948B-7C441C18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2B1C-C59C-44A0-A867-036C39A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4F08-6BB6-403E-A5A3-7DA07AAB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CB27-5B20-4105-A6D5-257FBD7C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BCCD-57FC-4C46-938A-CEEDC13C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A3C8-6B2F-4CEA-8C91-83914824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0CCD-DD07-4269-993E-BD5B73E4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FC3A-E72A-4E68-BDBD-C2C7044F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C5FC-405B-4C6E-B1C1-C0C88F5E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8AF-59C5-49CF-BB52-37A6ACA6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5FCB-0F4E-442E-883D-6371365C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A12E-04A4-47B4-8F69-85615CB3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4E7B-0E43-49F8-AF15-BE226CA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5315-D505-44B4-AAEB-9ED65001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9004-E0A7-4690-93D5-B0B00CD9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07C7-13DD-4A27-BDF0-8C625145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EA39-ABD2-49B9-A443-3D5F5A88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E883-E8A5-4CA0-8E21-8E14036B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0DA00-16CC-4D19-893B-5265A209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FFE9-1662-4873-8CC9-7A7ED451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664-586F-4FF2-9A8A-15A9C7A4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BB8B-3914-4652-8B9F-30B27ADB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6C29-37E4-4162-BE37-E5A602F3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C44B4-0AC9-4A3E-9AD5-557F5F1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E56D-F325-4428-A0DB-45EB242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8BF0-D623-4132-8D5A-9AD5DE5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CF8E-A615-4B57-A6D2-DAFFC9B4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030E-A999-4FDB-AE66-0D53AFC3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8EF2-3FD6-4DF6-BBAD-7070A0B9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3913-50BD-4722-A770-3245DEC8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64A0-E19A-4765-97D2-722ED417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96E-1969-49A4-86E1-62AE408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2B9E-2936-4236-AB95-2F34A72F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15DD-4006-439F-9C19-3569AE08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54700-24C4-4E03-B23D-6FB7B554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E66B-DF5F-45ED-BB8C-E874AF5C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B1194-8C01-4A05-94ED-2E3D026A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7EB6-0EE3-454F-9C83-B4F5523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DAB7-671A-4150-954A-0622623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A8E4-6AC6-4098-B36D-D96CE88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5F274-C86B-40B6-9CF6-88B4E5DF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7BADF-B9CF-422D-BEDC-39A972BB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A7E-AC57-4F0E-A007-6E6C759C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A9D5-8F09-4134-BC7E-81237AC4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1E06-72A2-4E2D-8671-652C10CB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9392-36A1-413E-AEF4-8C568214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BF6CB-6EF0-4E6A-85EE-86E36A4A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5AEB-DCDD-47F7-9C5C-8002E63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E1680-EB98-4CD7-A32A-CF4AD74D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2F8C8-82B7-42A5-950D-6118DCB7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D946-DAE9-4E8B-BC7D-8E1E9E6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A1B24-20B3-402F-B3E0-D37A6BDB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A212-6B9D-4954-A6F1-CA59D27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F86-3EC2-417E-8F44-F9F89D0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5601-4CBA-4B03-9C97-E95194D8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A734B-0E4E-4618-B76E-A991C2D9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EC58-4B9D-4106-8B1A-0F516790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EFF50-236B-46D5-A888-208E9E87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98B7F-9BE9-477D-98B8-0C5CA1E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A6460-20C9-4682-AA56-9B195569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8B002-40FB-40AD-856C-1411C127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9897-F57A-43B6-A7E6-B853C79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6488-7C57-4C29-9EE1-848741C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A59A-8D43-4477-81F4-23E88EF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99A-1DAC-411F-AA51-0590CEC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7E878-0FEC-4FE4-B5CA-9C3EF9D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A1E53-BE02-49A0-B6C7-40240CC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CB4B-6AC2-4F07-AC48-0907E675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2CF7-E018-4BCF-9343-48A61230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575D-D51F-4691-B850-E61609EA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845-7E3A-4620-99DC-B978DE7C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555B-E736-4570-8D34-88346302211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20C4-6B79-46FB-8766-AA39409AE63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90F2-999F-47B9-945F-02AD929FC83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4EF6-2B02-4BB7-9E8C-397FD48C286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BEF6-31DD-4224-BA28-A0EBB615A29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75AD-26F6-4D3F-8EEB-5A1B0C1395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BFC6-1519-422F-966F-BB59FEB3455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nit 4: To what extend does experience determine what we perceive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C:\Users\jhammond\AppData\Local\Microsoft\Windows\Temporary Internet Files\Content.IE5\96OK9KJ0\gif_9_drama_masks[1].gif"/>
          <p:cNvPicPr/>
          <p:nvPr/>
        </p:nvPicPr>
        <p:blipFill>
          <a:blip r:embed="rId2"/>
          <a:stretch/>
        </p:blipFill>
        <p:spPr>
          <a:xfrm>
            <a:off x="3048120" y="762120"/>
            <a:ext cx="3049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a story that is written as a script and intended for performance by acto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other narratives, a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ortray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haracte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aught up i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struggles that characters face in a drama spark a sequence of events, call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plo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hich eventually reache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limax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 point of highest intensity in the action.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esolu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or settling of the conflict, allows the story to wind down and leads to the drama’s conclus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914400" y="1523880"/>
          <a:ext cx="7772400" cy="480708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laywr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th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central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ess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bout life explored by the playwright 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cts and Sc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basic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ivis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 (like chapters in books or stanzas in poet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29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tage Dir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Notes that tell how a play should b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erform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tag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; stage directions may include information such 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ackground about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et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tell how the actors should move or sp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etails abou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cene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lighting,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ostu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914400" y="838080"/>
          <a:ext cx="7772400" cy="4876920"/>
        </p:xfrm>
        <a:graphic>
          <a:graphicData uri="http://schemas.openxmlformats.org/drawingml/2006/table">
            <a:tbl>
              <a:tblPr/>
              <a:tblGrid>
                <a:gridCol w="1447920"/>
                <a:gridCol w="63244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defined area in which the play’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ccurs; the physical elements placed on the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ro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ov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bject used to ad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realis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o the action in a p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traces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ownfa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who is often called th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Usually an important figure (such as a king or general) who 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dmir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is defeated by his/h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mistake or charact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ef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leads to a tragic hero’s downfal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914400" y="380880"/>
          <a:ext cx="7772400" cy="6019920"/>
        </p:xfrm>
        <a:graphic>
          <a:graphicData uri="http://schemas.openxmlformats.org/drawingml/2006/table">
            <a:tbl>
              <a:tblPr/>
              <a:tblGrid>
                <a:gridCol w="1600200"/>
                <a:gridCol w="6172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8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has 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happ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ending for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ialog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words spoken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betwee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aracte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o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group of actors on stage who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bse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nd comment on the action but do not participate in it. In some modern dramas, a singl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narrat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may replace the chor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2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long speech th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character deliver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other charac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oliloq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speech in which a character,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lon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“thinks aloud” and reveals private thoughts and true motiv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remark that a character mak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th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die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th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other characters do not h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miliar 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1760" y="1371240"/>
            <a:ext cx="79246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he following are other essential 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elements of drama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, with which you should already be familiar from our work with other literary genr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Ex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In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Characterization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(direct and indirect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Motivation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Round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Flat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Dynam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Stat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If you are unfamiliar or unsure of any of these terms, please say so now!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9:28Z</dcterms:created>
  <dc:creator>jhammond</dc:creator>
  <dc:description/>
  <dc:language>en-US</dc:language>
  <cp:lastModifiedBy>jhammond</cp:lastModifiedBy>
  <dcterms:modified xsi:type="dcterms:W3CDTF">2015-01-28T13:02:04Z</dcterms:modified>
  <cp:revision>4</cp:revision>
  <dc:subject/>
  <dc:title>Elements of drama</dc:title>
</cp:coreProperties>
</file>