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397-876F-4BEA-A36E-DA04DB69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BE2-31D6-4B4C-8428-ED879AA3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B97-89FC-40AC-A102-D6A5269D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9E6-8F10-4E2B-AD3A-34E78BA3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E33-D19A-47E5-84DE-B888F07C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3044-7727-469B-B4B8-B11E610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2B0-294D-4931-8792-C5AEDF11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5288-89A4-4C64-BC00-D9B2D6A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F8FF-56BB-4243-BBA0-F2939EF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1FAA-B8F9-4A30-A7E9-8351EABE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275F-26A5-4D69-B7BE-16CC844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E3C-2598-4599-85F1-F03D1F81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0819-B253-4029-8C81-6188E013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CDC7-0E7B-4261-8BE1-9DAA59E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AB7-3D10-4EA4-A8E0-A1FFCB8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9C8-13A6-44D3-BAA2-3C90A1ED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E066-6F47-45AC-82C7-D4BA2B6C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1CC7-A71A-4845-B1DE-872D8E60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88F9-36E4-4379-B6AD-53FE2F5D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B3C75-EEE0-4A25-B8DB-CDAC4A74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232B-269A-422A-9D04-B47797BD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F24F-FEAA-4C8C-BE19-29E4ABED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FB3-AE5E-44A9-BAC6-7396776E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C51F-2858-4EE7-B714-214B231A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15B2-502C-4BB9-8802-F621EF36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E70C-B8C9-4899-AE49-5F0D0BCE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2CA9-6C24-48C5-BB6A-CA0B9C3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E83F-764E-4C36-9733-1507B34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A74F-4C69-4891-8F26-D922DBB3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6B09-608A-4012-A9E6-BEC2B554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41E9-3949-4E46-B766-E642534D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AA0C-F8E2-4CCF-AD3B-A747E11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14E6-3333-4DD1-AC70-3CA6460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4E2-2C7F-4702-A7CA-F850D25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C9C4-8529-4398-B2E4-D425830F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3469-0862-4F6C-998B-89A7416D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96BC-2C90-4E84-B5C7-047A8B3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1BF2-637A-4AFB-829F-B03E2EE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7E36-A86D-4F54-85BA-2CB06312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9593-82AF-4507-AC43-963BE2B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C969-16D1-448A-8A93-E54F486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238B0-5A2C-437A-8E6A-8C6A3E8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1250-D2FF-4E91-BC5F-411B4B22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7827-40FA-46C9-A05E-553D83D5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48B-B199-41CE-B1CE-0579005C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9A69-DFF6-40C5-B937-FC62130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6FDEE-46E1-44C7-B51B-BA6E02FC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5899-D550-4A32-A0D8-4AA7203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9946-54F0-4828-85DE-DC5EEA4B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582E3-1F24-433D-85C1-7747BDE9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0BB8-F13B-4634-8A76-C8CD2DF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378A-E592-4193-979C-140C0F5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7D47-B238-42EA-8464-8873F77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D699-D3F9-4B3F-A5F4-92B40B5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604C-060F-427D-A29B-D4E7C558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6AB-1AB5-48A8-BB96-800EB27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B280-0C89-4194-81B8-83FD30C2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5130-A1C7-44B9-8A66-233DF662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31D17-75D4-4C98-BDF3-3395D2F1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3DE5-12D5-47CF-A716-6625AC90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065A-411E-441B-9A8C-7608A99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D6F3-0D17-4854-9B2F-6E09D812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B19C-9C63-4BAF-BCC7-10E4362B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25667-C2A4-42A9-9F1C-3389C59F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0C8F-F3C9-4401-9542-E45C5E2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32D0-C9F0-4916-B33C-51FBC59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F24-963C-42B4-96D2-C57ED9A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CC2E1-5C72-4BAD-9DE6-563228A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ECEC-F2A3-440B-89EF-E52DB70F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8CB7-473C-42EF-B89A-3CADADBA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7A900-17FA-4B8A-99A9-A91A44A6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25FB0-DDEF-4716-808A-77BD797D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AE120-314C-4F6B-BF37-BAE234AC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C5975-F04B-4092-9533-DB4343DC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2245-D00A-412B-85D7-AEA08A86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CC1D-A2A7-40A4-BD02-9E00AE1F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FD92-D243-4F17-B343-8BFFC22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95E-7312-4FD5-B5A9-DE0AE8B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E246-011D-476A-B80C-F163257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8736C-6C22-4099-8E30-A61BBDD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C317-61A6-43C6-A114-AF4914C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FAA1-C5DC-4004-9F3F-C77966D2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00C3-F316-451C-8F2C-1E81759C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85E-9B74-4329-B052-7DB750B0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0BAB-DF46-4113-B83A-CD84673E001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F100-C1C6-46E2-8780-160CCC92E67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D790-2E71-40E1-8D12-335AF0D82C7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7C6-60B1-4BE6-8ACB-67A127B0BB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F81-06A7-464D-A018-802DFBD126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28B-ABE2-4C3C-9FCC-42CF6C2F879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9E11-B1F5-4EC9-AD6A-5E86DC7E33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nit 4: To what extend does experience determine what we perceive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C:\Users\jhammond\AppData\Local\Microsoft\Windows\Temporary Internet Files\Content.IE5\96OK9KJ0\gif_9_drama_masks[1].gif"/>
          <p:cNvPicPr/>
          <p:nvPr/>
        </p:nvPicPr>
        <p:blipFill>
          <a:blip r:embed="rId2"/>
          <a:stretch/>
        </p:blipFill>
        <p:spPr>
          <a:xfrm>
            <a:off x="3048120" y="762120"/>
            <a:ext cx="3049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 story that is written as a script and intended for performance by acto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other narratives, a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ortray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harac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aught up i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struggles that characters face in a drama spark a sequence of events, call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lo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hich eventually reache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limax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 point of highest intensity in the action.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s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or settling of the conflict, allows the story to wind down and leads to the drama’s conclus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1523880"/>
          <a:ext cx="7772400" cy="480708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laywr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th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central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ess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bout life explored by the playwright 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cts and Sc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basic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ivis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 (like chapters in books or stanzas in poet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29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tage Dir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Notes that tell how a play should b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erform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tag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; stage directions may include information such 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ackground about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et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tell how the actors should move or sp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etails abou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cene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lighting,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ostu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14400" y="838080"/>
          <a:ext cx="7772400" cy="48769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defined area in which the play’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ccurs; the physical elements placed on the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ro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ov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bject used to ad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realis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o the action in a p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traces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ownfa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who is often called th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Usually an important figure (such as a king or general) who 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dmir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is defeated by his/h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mistake or charact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ef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leads to a tragic hero’s downfal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914400" y="380880"/>
          <a:ext cx="7772400" cy="6019920"/>
        </p:xfrm>
        <a:graphic>
          <a:graphicData uri="http://schemas.openxmlformats.org/drawingml/2006/table">
            <a:tbl>
              <a:tblPr/>
              <a:tblGrid>
                <a:gridCol w="1600200"/>
                <a:gridCol w="6172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8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has 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happ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ending for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ialog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words spoken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betwee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aracte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o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group of actors on stage who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bse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nd comment on the action but do not participate in it. In some modern dramas, a singl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narrat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may replace the chor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2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long speech th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character deliver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other charac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oliloq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speech in which a character,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lon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“thinks aloud” and reveals private thoughts and true motiv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remark that a character mak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th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die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th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other characters do not h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miliar 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1760" y="1371240"/>
            <a:ext cx="79246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he following are other essential 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elements of drama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, with which you should already be familiar from our work with other literary genr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Ex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In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Characterization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(direct and indirect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Motivatio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Round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Flat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Dynam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Stat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If you are unfamiliar or unsure of any of these terms, please say so now!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9:28Z</dcterms:created>
  <dc:creator>jhammond</dc:creator>
  <dc:description/>
  <dc:language>en-US</dc:language>
  <cp:lastModifiedBy>jhammond</cp:lastModifiedBy>
  <dcterms:modified xsi:type="dcterms:W3CDTF">2015-01-28T13:02:04Z</dcterms:modified>
  <cp:revision>4</cp:revision>
  <dc:subject/>
  <dc:title>Elements of drama</dc:title>
</cp:coreProperties>
</file>