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E40-0A7D-4036-917A-2C39CD0C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A4A-D486-4B68-8CB5-4DED8F8D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17D-6F35-4119-AD9B-E425184A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37B-933A-4BC9-A67D-990EAFC7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C684-3946-49A5-8C67-E2C0756C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F09A-8194-466A-A4BD-1820A628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E248-84B3-469E-A6F0-FCD376F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7C8E-865B-40A0-8CBD-8150FC7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09B3-B633-48F2-BCEF-E35430F3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3F28-B6A8-4D50-AADB-4846B9E1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5DBE-9037-418C-855F-E845092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08D-19A4-42FB-9D5D-2C7AA79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3EC2-B3E9-498E-AD8B-851B6F0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955C-A092-4C0B-986A-70CAB49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416C-237C-4DBA-A034-0196E92B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1A06-2BCD-4DE4-87A8-236ED98C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0EAE-CB17-451B-B0D5-C3D703A5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D410-B9E2-47D9-BD68-A288E65F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690E-AB13-4F64-912F-F6CF6A4B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6726-7D9E-40F2-857B-9C66BB7A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BB31-01B3-49C5-85B7-26D08CD0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9415-A9FB-4B64-8D88-53F8397B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E7B-48C5-43DE-B0A9-5C6DB001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03A1-603E-4A9E-88D9-F30E4493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AC57-DB4A-459E-A4FA-DF3AD49B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6991-5CF8-49C7-9C33-485FB40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0082E-81B0-4129-A0FA-0E1787E0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4B51-C670-4DD2-9C69-834DDC8E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2DF8-01AA-4640-A6C7-038C742B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9DC9-B9CA-4D6A-8760-959C80DE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B56E-30E7-49B2-B8C9-FE79E90C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08AC8-255C-4A11-80D2-8C2007B1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467B-D9E3-413C-A1E5-DC5DF95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BED-0998-4FE9-9FA1-B154AEB2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630A1-C4ED-465F-9549-BD6C40B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2D3D-66F6-43B6-89F1-EB1C22A6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C747-1848-40A3-8047-A3D8B44C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CD663-2D6D-4534-AD19-853CA24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235D-1BC4-4001-A55A-4C39D8C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B11B-715E-473C-8E6B-4CF0307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BB10-E935-4F1F-9BA7-A3077C61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7334-8467-46E2-BF9D-18E3BABA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C153-A2CA-4A2C-9BF3-6158E2AF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7480-D593-419C-AF7B-0082634A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A8D-EE84-45DB-9374-2CA2E255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B1DF2-647A-4310-8301-53D09D9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438DF-A475-4A0B-B374-A21437E1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C857-77BA-4D87-B208-EE1232C2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7F1B-AF01-458A-BAFC-C098E1A6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4C4F-C276-4EE7-AAA7-283F6AF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B1379-EA5F-4162-AB90-435FC15E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27704-77E0-419C-8606-7BB2E76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B153-7855-4CAB-85CA-6551FCF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BA5D5-4830-45D1-99A7-F943808B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3A85-B808-4910-BF15-F19CDABC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3B0-E558-4128-97A9-D31534A3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B2F5-D38B-488D-961B-1BEC3502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D1A-6481-4F35-B433-AE014E0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32D-B1E8-4FE9-A556-54AED07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A97-5D62-4874-B8ED-70AB9BC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0D50-EE9C-4AD8-BD05-136695755D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78E3-2DBF-4A34-8AA8-721118B1B8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3AF-6979-4F31-B68B-BEABEB264EE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8F6-8CE9-4187-A991-84ACB914D1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3A7B-7156-40A0-AF0F-18F339A5AB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Literary Elements No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Uni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7"/>
          <p:cNvSpPr/>
          <p:nvPr/>
        </p:nvSpPr>
        <p:spPr>
          <a:xfrm>
            <a:off x="762120" y="4191120"/>
            <a:ext cx="259056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5867280" y="4191120"/>
            <a:ext cx="259092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>
            <a:off x="4572000" y="1905120"/>
            <a:ext cx="129528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 flipV="1">
            <a:off x="3351960" y="1905120"/>
            <a:ext cx="121932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1371600" y="2438280"/>
            <a:ext cx="2438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 rot="17883000">
            <a:off x="2517120" y="26020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ising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8380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 rot="3613800">
            <a:off x="3965760" y="2634840"/>
            <a:ext cx="25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ing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6400800" y="37339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3962520" y="13716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22" descr=""/>
          <p:cNvPicPr/>
          <p:nvPr/>
        </p:nvPicPr>
        <p:blipFill>
          <a:blip r:embed="rId1"/>
          <a:stretch/>
        </p:blipFill>
        <p:spPr>
          <a:xfrm>
            <a:off x="1249200" y="4780080"/>
            <a:ext cx="6731280" cy="1139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609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s have five stages*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5 Plot Stage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xpos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haracters, setting, and basic situation are introduc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is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entral conflict begins and develop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limax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reaches its highest point of tens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all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nsion in the story decr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ends and any remaining issues are resolv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**However, some authors change the order of these stages to create a uniqu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their stor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144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ructu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way in which a plot unfolds and the reader learns about characters and situ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hronological order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the most common structure) when unfold in a sequence from beginning to en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lashback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oments that interrupt the flow of a chronological sequence to describe earli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eshadow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en authors include details that hint at lat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rallel Plot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hen an author develops two distinct storylines, with two sets of characters, in a single 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c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speed or rhythm of the writ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144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foundation of a story’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; however,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a text might also be shaped by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en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classification of literary works that share certain elements, such as character types or common plot patte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mmon Genres of Fictio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alist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Speculative (science fic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istorica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umoro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Paro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Myste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 elements of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hort sto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ontribute to its deeper meaning, or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the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 the central insight about life conveyed in a sto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not a summary of a story’s events. Instead, it is a generalization about what the event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ay be stated directly, but more often it’s implied. The reader must examine the relationships among the story’s elements to arrive at an interpretation of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chniques authors use to portray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reating Character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reveal their characters’ traits eit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narrator directly states a character’s trai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(trickier to figure out) the writer subtly reveals the characters’ traits in 5 different way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85800" y="5335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Characterization or Characte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4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reveal their characters through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earance/physical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logue- the words that characters spea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ivate thoughts and feeling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ons with other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se reveal who the character is, including his or 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otiv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otivatio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characters’ reasons for feeling and behaving as they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Characters in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Flat or Stock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just one or two trai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Round or Complex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many traits, including both faults and virtu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4" descr="C:\Documents and Settings\jhammond\Local Settings\Temporary Internet Files\Content.IE5\ORF86VUD\MP900441037[1].jpg"/>
          <p:cNvPicPr/>
          <p:nvPr/>
        </p:nvPicPr>
        <p:blipFill>
          <a:blip r:embed="rId1"/>
          <a:stretch/>
        </p:blipFill>
        <p:spPr>
          <a:xfrm>
            <a:off x="1295280" y="4114800"/>
            <a:ext cx="3314880" cy="22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jhammond\Local Settings\Temporary Internet Files\Content.IE5\ORF86VUD\MC900037073[1].wmf"/>
          <p:cNvPicPr/>
          <p:nvPr/>
        </p:nvPicPr>
        <p:blipFill>
          <a:blip r:embed="rId2"/>
          <a:stretch/>
        </p:blipFill>
        <p:spPr>
          <a:xfrm>
            <a:off x="5041800" y="3657600"/>
            <a:ext cx="2968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Interac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ain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An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poses the main character, creating confli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5" descr="http://ts1.mm.bing.net/images/thumbnail.aspx?q=1166957416856&amp;id=1350fd67ad2c4b75b0be9e52457a6bc7&amp;url=http%3a%2f%2fwww.lionking.org%2f%7ekubo%2fClipArt%2fCharacters%2fAdultSimba%2fAdultSimba2.gif"/>
          <p:cNvPicPr/>
          <p:nvPr/>
        </p:nvPicPr>
        <p:blipFill>
          <a:blip r:embed="rId1"/>
          <a:stretch/>
        </p:blipFill>
        <p:spPr>
          <a:xfrm>
            <a:off x="5181480" y="3581280"/>
            <a:ext cx="2633760" cy="295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ts2.mm.bing.net/images/thumbnail.aspx?q=1056558885689&amp;id=383177d7a20b6f158b5174d7cd6dabba&amp;url=http%3a%2f%2fwww.arthursclipart.org%2fjustforkids%2flionking%2fscar%25204.gif"/>
          <p:cNvPicPr/>
          <p:nvPr/>
        </p:nvPicPr>
        <p:blipFill>
          <a:blip r:embed="rId2"/>
          <a:stretch/>
        </p:blipFill>
        <p:spPr>
          <a:xfrm>
            <a:off x="609480" y="4191120"/>
            <a:ext cx="36766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Develop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ynam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ange as a result of experiences they undergo in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at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not change during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5" descr="http://www.peexa.com/wallpapers/the_dark_knights_joker-1280x960.jpg"/>
          <p:cNvPicPr/>
          <p:nvPr/>
        </p:nvPicPr>
        <p:blipFill>
          <a:blip r:embed="rId1"/>
          <a:stretch/>
        </p:blipFill>
        <p:spPr>
          <a:xfrm rot="20971800">
            <a:off x="1168200" y="4062240"/>
            <a:ext cx="2984400" cy="2238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http://ts1.mm.bing.net/images/thumbnail.aspx?q=1055570075176&amp;id=fc6d54538cd93f08458dbb653192652b&amp;url=http%3a%2f%2fi.clevver.com%2ffullphoto%2f107575%2f500%2f950%2fthe-dark-knight-production-photos-46.jpg"/>
          <p:cNvPicPr/>
          <p:nvPr/>
        </p:nvPicPr>
        <p:blipFill>
          <a:blip r:embed="rId2"/>
          <a:stretch/>
        </p:blipFill>
        <p:spPr>
          <a:xfrm rot="600000">
            <a:off x="5398560" y="3300120"/>
            <a:ext cx="2051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t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ime and place in which a story occ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hour of day, the season, and the historical era (including the practices and beliefs common to the peri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a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the general location, such as a specific country, city, or village. It also includes specific locations, such as a grocery store, a farm, or a schoo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Picture1.jpg"/>
          <p:cNvPicPr/>
          <p:nvPr/>
        </p:nvPicPr>
        <p:blipFill>
          <a:blip r:embed="rId1"/>
          <a:stretch/>
        </p:blipFill>
        <p:spPr>
          <a:xfrm>
            <a:off x="1523880" y="510552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Picture4.jpg"/>
          <p:cNvPicPr/>
          <p:nvPr/>
        </p:nvPicPr>
        <p:blipFill>
          <a:blip r:embed="rId2"/>
          <a:stretch/>
        </p:blipFill>
        <p:spPr>
          <a:xfrm>
            <a:off x="5257800" y="4876920"/>
            <a:ext cx="21747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fli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struggle or problem characters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akes place between a character and an outside force, such a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ther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A struggle a character experiences between his/her own feelings, desires, or belie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3" descr="conflict.jpg"/>
          <p:cNvPicPr/>
          <p:nvPr/>
        </p:nvPicPr>
        <p:blipFill>
          <a:blip r:embed="rId1"/>
          <a:stretch/>
        </p:blipFill>
        <p:spPr>
          <a:xfrm>
            <a:off x="5334120" y="3048120"/>
            <a:ext cx="23446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ot, Structure, and Gen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Perpetua"/>
              </a:rPr>
              <a:t>Plot Definition</a:t>
            </a: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:  The sequence of interrelated events in a story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58:55Z</dcterms:created>
  <dc:creator>setupuser</dc:creator>
  <dc:description/>
  <dc:language>en-US</dc:language>
  <cp:lastModifiedBy>jhammond</cp:lastModifiedBy>
  <dcterms:modified xsi:type="dcterms:W3CDTF">2015-08-28T15:17:10Z</dcterms:modified>
  <cp:revision>67</cp:revision>
  <dc:subject/>
  <dc:title>Characterization</dc:title>
</cp:coreProperties>
</file>