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A02-B1FF-416E-B6E8-BA2A3F78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568-7A70-4058-B3D0-37554757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13F-D619-413C-98C4-4DF109A8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011-C207-464F-8B23-95E43FDC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6D56-263C-4D01-BD8F-5C321AF3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A142-52F6-4E1B-B883-34E8CC9F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B285-F028-40CE-934B-2B2A93C5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1AA9-14D0-4A56-A8BF-365307F3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BA8E-2DF0-4735-90C2-36E12932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80FA-E442-463B-BB4A-F0A7C3B0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61E7-EB53-4EAD-8244-22C1AC6D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3C2-A3A5-4D2D-ACA1-CDEDF1A6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C789-3A6E-4175-8279-5EBE8CEA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56EB-88A7-49DF-8C51-E8DF2D22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648D-73AA-44EC-95C2-43EE43AE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F9A2-D08E-4949-A7DA-F58802A7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27CA-505F-4572-89F1-CEABB280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04E6-D68C-41DB-B028-DB245CFD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735D6-32DA-4C53-BC74-E34C8A05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A7D38-4247-402D-ACF9-A539D66E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310B-59CF-44F6-A5EF-152BCEB8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35FF-AC04-4103-91B4-4F888DDC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861-16AA-47A0-A60C-E47F5E6C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FFCC0-8D91-4308-9509-BEA9DBD3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4441C-306B-432D-B122-217F6E22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E755-0D01-4E09-9413-0CE31E92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EF5C6-7F84-4110-8D90-D9327FB2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E0722-11ED-4D2B-AA4F-97F77B06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1CB18-9099-4D78-8CBF-126CED46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B201C-C997-49BB-BEF0-28EFAF28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0B5F8-5889-4B1A-9DB8-1A94424B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CA578-E9D3-410F-AA5D-AD1E37ED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6142A-45DA-49D3-B55A-05D3C0CA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4FB-4A82-46C2-9C7C-F418BBA7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CBB4B-1A74-421A-9408-2CDEB362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452F3-27AA-4958-A28C-69400FAA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EC39-EBD8-4F5E-9BC2-FADF12D0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E30CC-E697-446D-A772-D3063959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1908C-2971-4B1E-B5DE-9D079BF4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7A8C4-426B-46F7-86E9-FFEF1F16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7C9D8-F2DD-4827-BE66-15F6BE43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40755-8FDC-4AD7-9F49-ADE95FF9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94B56-1890-4937-BDC3-97871532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5BC12-C280-4A8B-956B-A348D5CA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483-E4E0-49C3-85FC-35607BD6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994BB-59A5-46D4-9320-D90A71C5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4B9A4-F05A-474E-A245-7924BCB2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204B8-4D77-4695-AC30-ECD7958C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2D615-7C51-4949-BC50-578E4AB8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3578F-FB67-4421-9C15-CB28FA84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92B16-621D-4BD3-B6FC-1F4B8561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2F3BC-5757-4719-B8D8-5DAEEFD3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D625D-E63A-46CA-9C90-7A6A5BDC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1122B-FE1E-4CF4-91EB-8D250441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5B8C0-057D-45A1-AA42-8D53A52B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604-D69D-44F3-B061-EF303610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5CAE3-EA01-4AA3-9894-F90F328E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D0B9-F158-4A0A-8B45-88909E83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9A82-4A7A-4365-889A-54D73ABD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3C3-EB92-4402-B670-8E89FBD2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691C-B63E-454A-B890-AACC03D9495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F854-D3F9-4674-B418-D7F14FFCC9B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87CB-0594-4253-ABD7-9820DFD1661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D595-2DCA-48C9-B720-D35B83174CB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668D-F106-4E0D-97D8-B5ED89A4430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Basic Literary Elements Not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609480" y="3657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Uni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7"/>
          <p:cNvSpPr/>
          <p:nvPr/>
        </p:nvSpPr>
        <p:spPr>
          <a:xfrm>
            <a:off x="762120" y="4191120"/>
            <a:ext cx="2590560" cy="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9"/>
          <p:cNvSpPr/>
          <p:nvPr/>
        </p:nvSpPr>
        <p:spPr>
          <a:xfrm>
            <a:off x="5867280" y="4191120"/>
            <a:ext cx="2590920" cy="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0"/>
          <p:cNvSpPr/>
          <p:nvPr/>
        </p:nvSpPr>
        <p:spPr>
          <a:xfrm>
            <a:off x="4572000" y="1905120"/>
            <a:ext cx="1295280" cy="228600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1"/>
          <p:cNvSpPr/>
          <p:nvPr/>
        </p:nvSpPr>
        <p:spPr>
          <a:xfrm flipV="1">
            <a:off x="3351960" y="1905120"/>
            <a:ext cx="1219320" cy="228600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1371600" y="2438280"/>
            <a:ext cx="2438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 rot="17883000">
            <a:off x="2517120" y="260208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ising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838080" y="3733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9"/>
          <p:cNvSpPr/>
          <p:nvPr/>
        </p:nvSpPr>
        <p:spPr>
          <a:xfrm rot="3613800">
            <a:off x="3965760" y="2634840"/>
            <a:ext cx="25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lling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0"/>
          <p:cNvSpPr/>
          <p:nvPr/>
        </p:nvSpPr>
        <p:spPr>
          <a:xfrm>
            <a:off x="6400800" y="373392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1"/>
          <p:cNvSpPr/>
          <p:nvPr/>
        </p:nvSpPr>
        <p:spPr>
          <a:xfrm>
            <a:off x="3962520" y="13716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Rectangle 22" descr=""/>
          <p:cNvPicPr/>
          <p:nvPr/>
        </p:nvPicPr>
        <p:blipFill>
          <a:blip r:embed="rId1"/>
          <a:stretch/>
        </p:blipFill>
        <p:spPr>
          <a:xfrm>
            <a:off x="1249200" y="4780080"/>
            <a:ext cx="6731280" cy="11397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3"/>
          <p:cNvSpPr/>
          <p:nvPr/>
        </p:nvSpPr>
        <p:spPr>
          <a:xfrm>
            <a:off x="762120" y="6094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s have five stages**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5 Plot Stages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xpos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haracters, setting, and basic situation are introduc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ising ac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entral conflict begins and develop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limax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flict reaches its highest point of tens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Falling ac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ension in the story decrea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esolu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flict ends and any remaining issues are resolv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**However, some authors change the order of these stages to create a uniqu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their stor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9144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tructure Defin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way in which a plot unfolds and the reader learns about characters and situ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Chronological order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the most common structure) when unfold in a sequence from beginning to en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lashbacks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oments that interrupt the flow of a chronological sequence to describe earlie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oreshadowing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en authors include details that hint at late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arallel Plots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hen an author develops two distinct storylines, with two sets of characters, in a single work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acing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speed or rhythm of the writ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91440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foundation of a story’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s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lo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; however,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f a text might also be shaped by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en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Genre Defin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 classification of literary works that share certain elements, such as character types or common plot patte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mmon Genres of Fictio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alistic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Speculative (science fictio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Historical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Humorou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Parod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Myste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m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 of the elements of 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hort stor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contribute to its deeper meaning, or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the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 the central insight about life conveyed in a sto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s not a summary of a story’s events. Instead, it is a generalization about what the event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mea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may be stated directly, but more often it’s implied. The reader must examine the relationships among the story’s elements to arrive at an interpretation of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echniques authors use to portray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Creating Characters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rs reveal their characters’ traits eithe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n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irect characteriz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he narrator directly states a character’s trai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direct characteriz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(trickier to figure out) the writer subtly reveals the characters’ traits in 5 different way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85800" y="5335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Characterization or Characte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144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r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n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reveal their characters through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ppearance/physical descrip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logue- the words that characters spea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ivate thoughts and feeling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havi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actions with other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 of these reveal who the character is, including his or he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motiv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Motivation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he characters’ reasons for feeling and behaving as they 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ypes of Characters in Litera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Flat or Stock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ave just one or two trai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Round or Complex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ave many traits, including both faults and virtu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4" descr="C:\Documents and Settings\jhammond\Local Settings\Temporary Internet Files\Content.IE5\ORF86VUD\MP900441037[1].jpg"/>
          <p:cNvPicPr/>
          <p:nvPr/>
        </p:nvPicPr>
        <p:blipFill>
          <a:blip r:embed="rId1"/>
          <a:stretch/>
        </p:blipFill>
        <p:spPr>
          <a:xfrm>
            <a:off x="1295280" y="4114800"/>
            <a:ext cx="3314880" cy="2209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jhammond\Local Settings\Temporary Internet Files\Content.IE5\ORF86VUD\MC900037073[1].wmf"/>
          <p:cNvPicPr/>
          <p:nvPr/>
        </p:nvPicPr>
        <p:blipFill>
          <a:blip r:embed="rId2"/>
          <a:stretch/>
        </p:blipFill>
        <p:spPr>
          <a:xfrm>
            <a:off x="5041800" y="3657600"/>
            <a:ext cx="2968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racter Interac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Protagon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ain charac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Antagon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pposes the main character, creating conflic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5" descr="http://ts1.mm.bing.net/images/thumbnail.aspx?q=1166957416856&amp;id=1350fd67ad2c4b75b0be9e52457a6bc7&amp;url=http%3a%2f%2fwww.lionking.org%2f%7ekubo%2fClipArt%2fCharacters%2fAdultSimba%2fAdultSimba2.gif"/>
          <p:cNvPicPr/>
          <p:nvPr/>
        </p:nvPicPr>
        <p:blipFill>
          <a:blip r:embed="rId1"/>
          <a:stretch/>
        </p:blipFill>
        <p:spPr>
          <a:xfrm>
            <a:off x="5181480" y="3581280"/>
            <a:ext cx="2633760" cy="2959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http://ts2.mm.bing.net/images/thumbnail.aspx?q=1056558885689&amp;id=383177d7a20b6f158b5174d7cd6dabba&amp;url=http%3a%2f%2fwww.arthursclipart.org%2fjustforkids%2flionking%2fscar%25204.gif"/>
          <p:cNvPicPr/>
          <p:nvPr/>
        </p:nvPicPr>
        <p:blipFill>
          <a:blip r:embed="rId2"/>
          <a:stretch/>
        </p:blipFill>
        <p:spPr>
          <a:xfrm>
            <a:off x="609480" y="4191120"/>
            <a:ext cx="36766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racter Developmen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ynamic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hange as a result of experiences they undergo in the s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tatic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not change during the s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5" descr="http://www.peexa.com/wallpapers/the_dark_knights_joker-1280x960.jpg"/>
          <p:cNvPicPr/>
          <p:nvPr/>
        </p:nvPicPr>
        <p:blipFill>
          <a:blip r:embed="rId1"/>
          <a:stretch/>
        </p:blipFill>
        <p:spPr>
          <a:xfrm rot="20971800">
            <a:off x="1168200" y="4062240"/>
            <a:ext cx="2984400" cy="2238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http://ts1.mm.bing.net/images/thumbnail.aspx?q=1055570075176&amp;id=fc6d54538cd93f08458dbb653192652b&amp;url=http%3a%2f%2fi.clevver.com%2ffullphoto%2f107575%2f500%2f950%2fthe-dark-knight-production-photos-46.jpg"/>
          <p:cNvPicPr/>
          <p:nvPr/>
        </p:nvPicPr>
        <p:blipFill>
          <a:blip r:embed="rId2"/>
          <a:stretch/>
        </p:blipFill>
        <p:spPr>
          <a:xfrm rot="600000">
            <a:off x="5398560" y="3300120"/>
            <a:ext cx="20512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t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ime and place in which a story occu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im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 hour of day, the season, and the historical era (including the practices and beliefs common to the peri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lac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 the general location, such as a specific country, city, or village. It also includes specific locations, such as a grocery store, a farm, or a schoo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Picture 3" descr="Picture1.jpg"/>
          <p:cNvPicPr/>
          <p:nvPr/>
        </p:nvPicPr>
        <p:blipFill>
          <a:blip r:embed="rId1"/>
          <a:stretch/>
        </p:blipFill>
        <p:spPr>
          <a:xfrm>
            <a:off x="1523880" y="510552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Picture4.jpg"/>
          <p:cNvPicPr/>
          <p:nvPr/>
        </p:nvPicPr>
        <p:blipFill>
          <a:blip r:embed="rId2"/>
          <a:stretch/>
        </p:blipFill>
        <p:spPr>
          <a:xfrm>
            <a:off x="5257800" y="4876920"/>
            <a:ext cx="21747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fli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 struggle or problem characters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External conflic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akes place between a character and an outside force, such a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other charac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ternal conflic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A struggle a character experiences between his/her own feelings, desires, or belief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3" descr="conflict.jpg"/>
          <p:cNvPicPr/>
          <p:nvPr/>
        </p:nvPicPr>
        <p:blipFill>
          <a:blip r:embed="rId1"/>
          <a:stretch/>
        </p:blipFill>
        <p:spPr>
          <a:xfrm>
            <a:off x="5334120" y="3048120"/>
            <a:ext cx="234468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lot, Structure, and Gen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Perpetua"/>
              </a:rPr>
              <a:t>Plot Definition</a:t>
            </a: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:  The sequence of interrelated events in a story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2:58:55Z</dcterms:created>
  <dc:creator>setupuser</dc:creator>
  <dc:description/>
  <dc:language>en-US</dc:language>
  <cp:lastModifiedBy>jhammond</cp:lastModifiedBy>
  <dcterms:modified xsi:type="dcterms:W3CDTF">2015-08-28T15:17:10Z</dcterms:modified>
  <cp:revision>67</cp:revision>
  <dc:subject/>
  <dc:title>Characterization</dc:title>
</cp:coreProperties>
</file>