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972-1036-45B1-9AB7-7182BF4A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C733-D2C8-40A7-8308-790BEEFA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AA2-2882-4555-A399-58C4870E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954-E995-4ABC-B2EB-0040D3C5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1005-10E5-4BA2-9CCB-2F38C5A4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7A68-5E40-4056-802F-2F508A28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6839-DC8F-4762-BBD2-1637BB86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3070-B1D5-4FF9-B849-F19C0C69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086E-9035-4329-9A36-1D87D863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D920-2683-406C-8DFC-856D716B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61DC-94AA-4718-9EA9-B07E4E6F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FB9-589A-4362-8CFA-E4BF7023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F70F-CF72-41EE-ADDF-6B4067AF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50D7-A0A3-4FD0-9BC1-1FD966B9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109B-A0A8-46C6-B557-15F6FAD6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2251-CA5D-43E2-AC05-C802332B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87A1-5926-4C68-9419-8C55E9D1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A1EA6-87F6-4B5A-8142-1F701B28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5B58B-F71B-408F-845E-4B134CFB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70681-B80F-4837-AC6D-3A766A1C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37D4E-AF62-450D-B0A8-63A18FD3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88B81-2711-4390-B149-ECE5B760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EBF-B23B-49D7-8C3D-57A3FCC5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AFC73-45A3-48AD-B2A8-B9748074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0EA8E-993A-4A59-944A-3E87CA5F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ABBF7-B7CD-40BC-BD61-F49FE427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A3DD6-0C25-4894-8A1A-8431C4E9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D61F5-9D64-48D4-86D2-2E9B57D0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ACDFA-59C5-4F02-A4AB-FF9F6999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167EC-2347-4337-A7F3-DC198197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713FD-F003-4742-A165-94B64EEC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5BAF9-F0EE-4400-B591-B3A668BD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DD61F-EE83-41BB-91D5-5D4E32A0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556-FF59-4639-8D71-318EC52D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AD150-F4E9-4901-B124-15832B51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FEBA0-4C7C-41FF-8165-2F96B18D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CD345-1502-4169-A73D-6C04530B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404BB-9C0B-46DB-AF21-87C8AA2A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DC83E-A235-4623-96FB-B9D6D49F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CBE9F-5876-41BE-94E4-3BABEFFE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1B50B-FFF1-4A6E-90A6-7D1C4F9F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2A5FE-34E0-47C7-B574-E7B64544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33090-F51C-4914-8375-12FED895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B0973-321C-4625-B11C-6DBACCC0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AE3-F02B-4AE2-A51F-8337661B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A53E7-E00F-44F7-A73F-60937F68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661F4-A488-4F39-A6C1-049B862A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2544B-D7A4-453A-808D-42AF0233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0CD89-F083-4DD2-AEFD-E78D172F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4720F-40C2-4FB6-BCBF-248F12A7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EEE80-B258-40E9-A786-621B2CFE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1AAF8-E1E2-4D70-8FA3-9B3AC4D1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C5D99-6CA4-4F31-A6F6-47E32A86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68CE9-CAA6-4542-B958-DA145E42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FA37F-21EF-4324-B751-B3DB3663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611-EE7B-4270-BF50-1B686BFB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6F306-9237-4E50-BA01-111354DA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5E7-4BE9-4D4E-A386-A37B4FD7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A2A-1369-4EF8-8E31-37A12EB5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7E3B-26F6-4269-AE96-95F06E3A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1D47-4804-45B6-80E1-9E3D31ECAD3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6A66-E775-4553-9963-F95BA978DF3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6715-2B94-49B5-A159-7D2E69D1454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336D-6904-4A94-82DA-578F925DC22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A342-5512-4DCC-96D6-EF48545180F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Basic Literary Elements Not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609480" y="3657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Uni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7"/>
          <p:cNvSpPr/>
          <p:nvPr/>
        </p:nvSpPr>
        <p:spPr>
          <a:xfrm>
            <a:off x="762120" y="4191120"/>
            <a:ext cx="2590560" cy="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9"/>
          <p:cNvSpPr/>
          <p:nvPr/>
        </p:nvSpPr>
        <p:spPr>
          <a:xfrm>
            <a:off x="5867280" y="4191120"/>
            <a:ext cx="2590920" cy="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0"/>
          <p:cNvSpPr/>
          <p:nvPr/>
        </p:nvSpPr>
        <p:spPr>
          <a:xfrm>
            <a:off x="4572000" y="1905120"/>
            <a:ext cx="1295280" cy="228600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1"/>
          <p:cNvSpPr/>
          <p:nvPr/>
        </p:nvSpPr>
        <p:spPr>
          <a:xfrm flipV="1">
            <a:off x="3351960" y="1905120"/>
            <a:ext cx="1219320" cy="2286000"/>
          </a:xfrm>
          <a:prstGeom prst="line">
            <a:avLst/>
          </a:prstGeom>
          <a:ln w="63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5"/>
          <p:cNvSpPr/>
          <p:nvPr/>
        </p:nvSpPr>
        <p:spPr>
          <a:xfrm>
            <a:off x="1371600" y="2438280"/>
            <a:ext cx="2438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6"/>
          <p:cNvSpPr/>
          <p:nvPr/>
        </p:nvSpPr>
        <p:spPr>
          <a:xfrm rot="17883000">
            <a:off x="2517120" y="260208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ising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7"/>
          <p:cNvSpPr/>
          <p:nvPr/>
        </p:nvSpPr>
        <p:spPr>
          <a:xfrm>
            <a:off x="838080" y="37339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9"/>
          <p:cNvSpPr/>
          <p:nvPr/>
        </p:nvSpPr>
        <p:spPr>
          <a:xfrm rot="3613800">
            <a:off x="3965760" y="2634840"/>
            <a:ext cx="258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lling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0"/>
          <p:cNvSpPr/>
          <p:nvPr/>
        </p:nvSpPr>
        <p:spPr>
          <a:xfrm>
            <a:off x="6400800" y="373392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1"/>
          <p:cNvSpPr/>
          <p:nvPr/>
        </p:nvSpPr>
        <p:spPr>
          <a:xfrm>
            <a:off x="3962520" y="137160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Rectangle 22" descr=""/>
          <p:cNvPicPr/>
          <p:nvPr/>
        </p:nvPicPr>
        <p:blipFill>
          <a:blip r:embed="rId1"/>
          <a:stretch/>
        </p:blipFill>
        <p:spPr>
          <a:xfrm>
            <a:off x="1249200" y="4780080"/>
            <a:ext cx="6731280" cy="11397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3"/>
          <p:cNvSpPr/>
          <p:nvPr/>
        </p:nvSpPr>
        <p:spPr>
          <a:xfrm>
            <a:off x="762120" y="6094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s have five stages**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5 Plot Stages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Exposi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haracters, setting, and basic situation are introduce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ising ac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entral conflict begins and develop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Climax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onflict reaches its highest point of tens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Falling ac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ension in the story decreas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esolu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conflict ends and any remaining issues are resolve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**However, some authors change the order of these stages to create a uniqu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truc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 their stor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9144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Structure Defini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way in which a plot unfolds and the reader learns about characters and situ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Chronological order: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the most common structure) when unfold in a sequence from beginning to end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Flashbacks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moments that interrupt the flow of a chronological sequence to describe earlier ev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Foreshadowing: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en authors include details that hint at later ev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arallel Plots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when an author develops two distinct storylines, with two sets of characters, in a single work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15320" indent="-198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acing: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speed or rhythm of the writ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91440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foundation of a story’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truc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s it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lo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; however, the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truc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of a text might also be shaped by it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gen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Genre Definition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 classification of literary works that share certain elements, such as character types or common plot patte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ommon Genres of Fiction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alistic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Speculative (science fictio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Historical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Humorou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Parod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-Myste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m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l of the elements of a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hort stor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contribute to its deeper meaning, or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them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 the central insight about life conveyed in a sto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hem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s not a summary of a story’s events. Instead, it is a generalization about what the events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mea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A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hem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may be stated directly, but more often it’s implied. The reader must examine the relationships among the story’s elements to arrive at an interpretation of it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hem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echniques authors use to portray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Creating Characters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riters reveal their characters’ traits either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directl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or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ndirectl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irect characteriz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the narrator directly states a character’s trai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Indirect characteriz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(trickier to figure out) the writer subtly reveals the characters’ traits in 5 different way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685800" y="53352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Franklin Gothic Book"/>
              </a:rPr>
              <a:t>Characterization or Characte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1440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riters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indirectl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reveal their characters through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ppearance/physical descrip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alogue- the words that characters spea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ivate thoughts and feeling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havi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actions with other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l of these reveal who the character is, including his or her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motiv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4000" indent="-504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Motivation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The characters’ reasons for feeling and behaving as they d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ypes of Characters in Literatu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Flat or Stock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ave just one or two trai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Round or Complex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ave many traits, including both faults and virtu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Picture 4" descr="C:\Documents and Settings\jhammond\Local Settings\Temporary Internet Files\Content.IE5\ORF86VUD\MP900441037[1].jpg"/>
          <p:cNvPicPr/>
          <p:nvPr/>
        </p:nvPicPr>
        <p:blipFill>
          <a:blip r:embed="rId1"/>
          <a:stretch/>
        </p:blipFill>
        <p:spPr>
          <a:xfrm>
            <a:off x="1295280" y="4114800"/>
            <a:ext cx="3314880" cy="2209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Documents and Settings\jhammond\Local Settings\Temporary Internet Files\Content.IE5\ORF86VUD\MC900037073[1].wmf"/>
          <p:cNvPicPr/>
          <p:nvPr/>
        </p:nvPicPr>
        <p:blipFill>
          <a:blip r:embed="rId2"/>
          <a:stretch/>
        </p:blipFill>
        <p:spPr>
          <a:xfrm>
            <a:off x="5041800" y="3657600"/>
            <a:ext cx="2968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aracter Interac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Protagon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ain charac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Antagoni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pposes the main character, creating conflic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5" descr="http://ts1.mm.bing.net/images/thumbnail.aspx?q=1166957416856&amp;id=1350fd67ad2c4b75b0be9e52457a6bc7&amp;url=http%3a%2f%2fwww.lionking.org%2f%7ekubo%2fClipArt%2fCharacters%2fAdultSimba%2fAdultSimba2.gif"/>
          <p:cNvPicPr/>
          <p:nvPr/>
        </p:nvPicPr>
        <p:blipFill>
          <a:blip r:embed="rId1"/>
          <a:stretch/>
        </p:blipFill>
        <p:spPr>
          <a:xfrm>
            <a:off x="5181480" y="3581280"/>
            <a:ext cx="2633760" cy="2959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http://ts2.mm.bing.net/images/thumbnail.aspx?q=1056558885689&amp;id=383177d7a20b6f158b5174d7cd6dabba&amp;url=http%3a%2f%2fwww.arthursclipart.org%2fjustforkids%2flionking%2fscar%25204.gif"/>
          <p:cNvPicPr/>
          <p:nvPr/>
        </p:nvPicPr>
        <p:blipFill>
          <a:blip r:embed="rId2"/>
          <a:stretch/>
        </p:blipFill>
        <p:spPr>
          <a:xfrm>
            <a:off x="609480" y="4191120"/>
            <a:ext cx="36766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aracter Developmen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ynamic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hange as a result of experiences they undergo in the sto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Static Charact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6400" indent="-2239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 not change during the sto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5" descr="http://www.peexa.com/wallpapers/the_dark_knights_joker-1280x960.jpg"/>
          <p:cNvPicPr/>
          <p:nvPr/>
        </p:nvPicPr>
        <p:blipFill>
          <a:blip r:embed="rId1"/>
          <a:stretch/>
        </p:blipFill>
        <p:spPr>
          <a:xfrm rot="20971800">
            <a:off x="1168200" y="4062240"/>
            <a:ext cx="2984400" cy="2238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http://ts1.mm.bing.net/images/thumbnail.aspx?q=1055570075176&amp;id=fc6d54538cd93f08458dbb653192652b&amp;url=http%3a%2f%2fi.clevver.com%2ffullphoto%2f107575%2f500%2f950%2fthe-dark-knight-production-photos-46.jpg"/>
          <p:cNvPicPr/>
          <p:nvPr/>
        </p:nvPicPr>
        <p:blipFill>
          <a:blip r:embed="rId2"/>
          <a:stretch/>
        </p:blipFill>
        <p:spPr>
          <a:xfrm rot="600000">
            <a:off x="5398560" y="3300120"/>
            <a:ext cx="20512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tt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time and place in which a story occu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im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 hour of day, the season, and the historical era (including the practices and beliefs common to the peri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lac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 the general location, such as a specific country, city, or village. It also includes specific locations, such as a grocery store, a farm, or a schoo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7" name="Picture 3" descr="Picture1.jpg"/>
          <p:cNvPicPr/>
          <p:nvPr/>
        </p:nvPicPr>
        <p:blipFill>
          <a:blip r:embed="rId1"/>
          <a:stretch/>
        </p:blipFill>
        <p:spPr>
          <a:xfrm>
            <a:off x="1523880" y="5105520"/>
            <a:ext cx="2133720" cy="1422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Picture4.jpg"/>
          <p:cNvPicPr/>
          <p:nvPr/>
        </p:nvPicPr>
        <p:blipFill>
          <a:blip r:embed="rId2"/>
          <a:stretch/>
        </p:blipFill>
        <p:spPr>
          <a:xfrm>
            <a:off x="5257800" y="4876920"/>
            <a:ext cx="21747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flic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finition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 struggle or problem characters f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External conflic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Takes place between a character and an outside force, such a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other charac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Internal conflic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A struggle a character experiences between his/her own feelings, desires, or belief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3" descr="conflict.jpg"/>
          <p:cNvPicPr/>
          <p:nvPr/>
        </p:nvPicPr>
        <p:blipFill>
          <a:blip r:embed="rId1"/>
          <a:stretch/>
        </p:blipFill>
        <p:spPr>
          <a:xfrm>
            <a:off x="5334120" y="3048120"/>
            <a:ext cx="234468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lot, Structure, and Gen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2133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Perpetua"/>
              </a:rPr>
              <a:t>Plot Definition</a:t>
            </a: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:  The sequence of interrelated events in a story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2:58:55Z</dcterms:created>
  <dc:creator>setupuser</dc:creator>
  <dc:description/>
  <dc:language>en-US</dc:language>
  <cp:lastModifiedBy>jhammond</cp:lastModifiedBy>
  <dcterms:modified xsi:type="dcterms:W3CDTF">2015-08-28T15:17:10Z</dcterms:modified>
  <cp:revision>67</cp:revision>
  <dc:subject/>
  <dc:title>Characterization</dc:title>
</cp:coreProperties>
</file>