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DCF4-8A27-4BF9-B837-957DB9EF0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D2F1-60B3-4E06-AC7A-6512ED1D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A1FF-D875-4602-A301-73727C810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5620-58BE-4926-B6B5-4002777A2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526B-B4E5-442B-BC78-5BBFE2848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0600-36C3-4AF3-B3A9-F8BA6913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8C6C-AF90-4E73-8228-208940F5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CDCC-E977-4DD1-A104-37BAB1D0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8FED-8D66-4361-BF9B-31CB89F2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0375-F87A-4885-BD78-2611B4E7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BF30-18DD-4EF8-8F6E-93936DFC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02A6-A626-4C0B-B82E-B0238DCF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0ED9-67EB-4966-9353-F3058D62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19EC-A23F-481D-851F-D1C68D65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C6C5-9EBD-4442-A9A6-EB8F19B6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1030-913F-4D23-8A49-2DCA487A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59E0-1642-4F7E-AB3C-6E9B5FAAE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6902A-802A-44C5-A185-9F415B042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A8372-3ECF-41CC-9642-7D0453AF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8DEA1-DB9F-4D47-95F3-2123366C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18D84-7047-471E-8E19-7DE434E7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8C5E5-027D-416C-88DD-F3C498C9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5BC4-7B95-4A49-AD70-F5EE7F68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8653C-C529-468E-AFA0-368CBAA6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02012-59C8-4CE5-87FF-F8957047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3176F-CB6B-429B-BCEB-F3D2B064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7751B-9DCD-456D-AA70-AC26F881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0BE3A-2E92-4F5E-A1F7-D4125BFE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3375A-F185-43BA-8812-90E111B7F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82939-6A62-4844-9A24-558D36C7E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CE58B-3A85-422E-A907-63B87B24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D7266-7A56-40AC-AB62-4ECEF0D5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A3948-340C-4FC1-A7C8-A35C4691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0168-712A-4120-BA53-6872DB29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E8334-69D6-4220-9420-6C01680C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76AD0-B667-4D5F-BE54-F2FDBABE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46736-874B-4E3F-8240-D394C0D3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9299A-2A37-4663-83B8-60ED3E38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5CB81-1692-4F60-9BC6-C53916C1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21159-0193-4886-AE48-3568C7FC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FF8AE-BBAB-45E9-B183-B6AB71F6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DD406-071C-4F5F-B7DF-F8DA2D87A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8F68B-F998-4EF0-8266-5EDD651C7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C8381-3022-45E6-A2FC-8A053CBA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3EED-96FF-42B6-905E-6171BEA4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4120E-CAF1-4554-A7BC-9DF0ADAE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28A2D-E335-43F8-AD14-53A31933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9F41F-641A-43EB-8F8E-75C1D35D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4EBBF-8B60-40A3-90C1-8E820C84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BCCA9-FFD2-4AC6-BB20-455E6443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861B3-5E7B-44E6-8C83-5F4EBBE5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EE9FC-D442-4887-B13E-0B608542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6573B-DB80-4788-919B-6B7000C3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1BECB-C61F-44EA-9392-479C8EC7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F023F-8CAD-42B5-ACC3-10DBC70B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D3EC-FB3D-4DF9-B5A2-C22D5F83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73CC3-F475-4C2F-81F8-B0E1A2E73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E797-ED97-4E58-9761-3EC2BC9A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AAD3-78EF-46EB-8251-EEF1A1EA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0718-5C5A-4ED5-8EFD-B66F9E0F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9202-DDF3-42EE-B4F2-EBA45A155B6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41A6-9077-4B75-A93A-1FD03A527B0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444D-3441-43C6-8116-E4C8B9A2346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E405-054D-443C-ADD2-0F3F6902634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DEB9-F7F3-41E0-BDE5-EFA4A0DD880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Basic Literary Elements Not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TextBox 12"/>
          <p:cNvSpPr/>
          <p:nvPr/>
        </p:nvSpPr>
        <p:spPr>
          <a:xfrm>
            <a:off x="609480" y="3657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Unit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traight Connector 7"/>
          <p:cNvSpPr/>
          <p:nvPr/>
        </p:nvSpPr>
        <p:spPr>
          <a:xfrm>
            <a:off x="762120" y="4191120"/>
            <a:ext cx="2590560" cy="0"/>
          </a:xfrm>
          <a:prstGeom prst="line">
            <a:avLst/>
          </a:prstGeom>
          <a:ln w="63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9"/>
          <p:cNvSpPr/>
          <p:nvPr/>
        </p:nvSpPr>
        <p:spPr>
          <a:xfrm>
            <a:off x="5867280" y="4191120"/>
            <a:ext cx="2590920" cy="0"/>
          </a:xfrm>
          <a:prstGeom prst="line">
            <a:avLst/>
          </a:prstGeom>
          <a:ln w="63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0"/>
          <p:cNvSpPr/>
          <p:nvPr/>
        </p:nvSpPr>
        <p:spPr>
          <a:xfrm>
            <a:off x="4572000" y="1905120"/>
            <a:ext cx="1295280" cy="2286000"/>
          </a:xfrm>
          <a:prstGeom prst="line">
            <a:avLst/>
          </a:prstGeom>
          <a:ln w="63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1"/>
          <p:cNvSpPr/>
          <p:nvPr/>
        </p:nvSpPr>
        <p:spPr>
          <a:xfrm flipV="1">
            <a:off x="3351960" y="1905120"/>
            <a:ext cx="1219320" cy="2286000"/>
          </a:xfrm>
          <a:prstGeom prst="line">
            <a:avLst/>
          </a:prstGeom>
          <a:ln w="63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5"/>
          <p:cNvSpPr/>
          <p:nvPr/>
        </p:nvSpPr>
        <p:spPr>
          <a:xfrm>
            <a:off x="1371600" y="2438280"/>
            <a:ext cx="2438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6"/>
          <p:cNvSpPr/>
          <p:nvPr/>
        </p:nvSpPr>
        <p:spPr>
          <a:xfrm rot="17883000">
            <a:off x="2517120" y="2602080"/>
            <a:ext cx="25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ising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7"/>
          <p:cNvSpPr/>
          <p:nvPr/>
        </p:nvSpPr>
        <p:spPr>
          <a:xfrm>
            <a:off x="838080" y="37339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x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9"/>
          <p:cNvSpPr/>
          <p:nvPr/>
        </p:nvSpPr>
        <p:spPr>
          <a:xfrm rot="3613800">
            <a:off x="3965760" y="2634840"/>
            <a:ext cx="258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alling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20"/>
          <p:cNvSpPr/>
          <p:nvPr/>
        </p:nvSpPr>
        <p:spPr>
          <a:xfrm>
            <a:off x="6400800" y="373392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1"/>
          <p:cNvSpPr/>
          <p:nvPr/>
        </p:nvSpPr>
        <p:spPr>
          <a:xfrm>
            <a:off x="3962520" y="137160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li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Rectangle 22" descr=""/>
          <p:cNvPicPr/>
          <p:nvPr/>
        </p:nvPicPr>
        <p:blipFill>
          <a:blip r:embed="rId1"/>
          <a:stretch/>
        </p:blipFill>
        <p:spPr>
          <a:xfrm>
            <a:off x="1249200" y="4780080"/>
            <a:ext cx="6731280" cy="1139760"/>
          </a:xfrm>
          <a:prstGeom prst="rect">
            <a:avLst/>
          </a:prstGeom>
          <a:ln w="0">
            <a:noFill/>
          </a:ln>
        </p:spPr>
      </p:pic>
      <p:sp>
        <p:nvSpPr>
          <p:cNvPr id="265" name="TextBox 13"/>
          <p:cNvSpPr/>
          <p:nvPr/>
        </p:nvSpPr>
        <p:spPr>
          <a:xfrm>
            <a:off x="762120" y="60948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s have five stages**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5 Plot Stages: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Exposition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characters, setting, and basic situation are introduced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Rising action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central conflict begins and develop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Climax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conflict reaches its highest point of tensio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Falling action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tension in the story decreas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Resolution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conflict ends and any remaining issues are resolved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**However, some authors change the order of these stages to create a unique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structur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in their stori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9144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Structure Definition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way in which a plot unfolds and the reader learns about characters and situa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715320" indent="-19872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Chronological order: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(the most common structure) when unfold in a sequence from beginning to end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15320" indent="-19872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Flashbacks: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moments that interrupt the flow of a chronological sequence to describe earlier even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15320" indent="-19872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Foreshadowing: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hen authors include details that hint at later even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15320" indent="-19872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Parallel Plots: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when an author develops two distinct storylines, with two sets of characters, in a single work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15320" indent="-19872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Pacing: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speed or rhythm of the writ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91440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foundation of a story’s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structur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is its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plot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; however, the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structur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of a text might also be shaped by its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genr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Genre Definition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a classification of literary works that share certain elements, such as character types or common plot patte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1800" indent="-226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Common Genres of Fiction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alistic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Speculative (science fiction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Historical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Humorou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Parody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Myster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m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ll of the elements of a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short story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contribute to its deeper meaning, or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 them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Definit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 the central insight about life conveyed in a sto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them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is not a summary of a story’s events. Instead, it is a generalization about what the events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mea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 A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them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may be stated directly, but more often it’s implied. The reader must examine the relationships among the story’s elements to arrive at an interpretation of its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them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Definition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techniques authors use to portray charact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Creating Characters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riters reveal their characters’ traits either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directly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or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indirectly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Direct characterizat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the narrator directly states a character’s trai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Indirect characterizat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(trickier to figure out) the writer subtly reveals the characters’ traits in 5 different way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685800" y="53352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Franklin Gothic Book"/>
              </a:rPr>
              <a:t>Characterization or Characte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14400" y="685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riters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indirectly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reveal their characters through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4000" indent="-50400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ppearance/physical descrip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4000" indent="-50400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alogue- the words that characters spea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4000" indent="-50400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ivate thoughts and feeling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4000" indent="-50400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havio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4000" indent="-50400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eractions with other charact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4000" indent="-504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4000" indent="-504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ll of these reveal who the character is, including his or her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motivat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4000" indent="-504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Motivations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The characters’ reasons for feeling and behaving as they do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ypes of Characters in Literatur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14400" y="14475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Flat or Stock charact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ave just one or two trai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Round or Complex charact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ave many traits, including both faults and virtu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5" name="Picture 4" descr="C:\Documents and Settings\jhammond\Local Settings\Temporary Internet Files\Content.IE5\ORF86VUD\MP900441037[1].jpg"/>
          <p:cNvPicPr/>
          <p:nvPr/>
        </p:nvPicPr>
        <p:blipFill>
          <a:blip r:embed="rId1"/>
          <a:stretch/>
        </p:blipFill>
        <p:spPr>
          <a:xfrm>
            <a:off x="1295280" y="4114800"/>
            <a:ext cx="3314880" cy="2209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C:\Documents and Settings\jhammond\Local Settings\Temporary Internet Files\Content.IE5\ORF86VUD\MC900037073[1].wmf"/>
          <p:cNvPicPr/>
          <p:nvPr/>
        </p:nvPicPr>
        <p:blipFill>
          <a:blip r:embed="rId2"/>
          <a:stretch/>
        </p:blipFill>
        <p:spPr>
          <a:xfrm>
            <a:off x="5041800" y="3657600"/>
            <a:ext cx="296856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haracter Interac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Protagonis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main charact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Antagonis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pposes the main character, creating conflic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9" name="Picture 5" descr="http://ts1.mm.bing.net/images/thumbnail.aspx?q=1166957416856&amp;id=1350fd67ad2c4b75b0be9e52457a6bc7&amp;url=http%3a%2f%2fwww.lionking.org%2f%7ekubo%2fClipArt%2fCharacters%2fAdultSimba%2fAdultSimba2.gif"/>
          <p:cNvPicPr/>
          <p:nvPr/>
        </p:nvPicPr>
        <p:blipFill>
          <a:blip r:embed="rId1"/>
          <a:stretch/>
        </p:blipFill>
        <p:spPr>
          <a:xfrm>
            <a:off x="5181480" y="3581280"/>
            <a:ext cx="2633760" cy="2959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http://ts2.mm.bing.net/images/thumbnail.aspx?q=1056558885689&amp;id=383177d7a20b6f158b5174d7cd6dabba&amp;url=http%3a%2f%2fwww.arthursclipart.org%2fjustforkids%2flionking%2fscar%25204.gif"/>
          <p:cNvPicPr/>
          <p:nvPr/>
        </p:nvPicPr>
        <p:blipFill>
          <a:blip r:embed="rId2"/>
          <a:stretch/>
        </p:blipFill>
        <p:spPr>
          <a:xfrm>
            <a:off x="609480" y="4191120"/>
            <a:ext cx="367668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haracter Developmen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Dynamic Charact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hange as a result of experiences they undergo in the stor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Static Charact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o not change during the stor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3" name="Picture 5" descr="http://www.peexa.com/wallpapers/the_dark_knights_joker-1280x960.jpg"/>
          <p:cNvPicPr/>
          <p:nvPr/>
        </p:nvPicPr>
        <p:blipFill>
          <a:blip r:embed="rId1"/>
          <a:stretch/>
        </p:blipFill>
        <p:spPr>
          <a:xfrm rot="20971800">
            <a:off x="1168200" y="4062240"/>
            <a:ext cx="2984400" cy="22384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http://ts1.mm.bing.net/images/thumbnail.aspx?q=1055570075176&amp;id=fc6d54538cd93f08458dbb653192652b&amp;url=http%3a%2f%2fi.clevver.com%2ffullphoto%2f107575%2f500%2f950%2fthe-dark-knight-production-photos-46.jpg"/>
          <p:cNvPicPr/>
          <p:nvPr/>
        </p:nvPicPr>
        <p:blipFill>
          <a:blip r:embed="rId2"/>
          <a:stretch/>
        </p:blipFill>
        <p:spPr>
          <a:xfrm rot="600000">
            <a:off x="5398560" y="3300120"/>
            <a:ext cx="20512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ett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Definit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 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time and place in which a story occu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Time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= hour of day, the season, and the historical era (including the practices and beliefs common to the perio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Place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= the general location, such as a specific country, city, or village. It also includes specific locations, such as a grocery store, a farm, or a school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7" name="Picture 3" descr="Picture1.jpg"/>
          <p:cNvPicPr/>
          <p:nvPr/>
        </p:nvPicPr>
        <p:blipFill>
          <a:blip r:embed="rId1"/>
          <a:stretch/>
        </p:blipFill>
        <p:spPr>
          <a:xfrm>
            <a:off x="1523880" y="5105520"/>
            <a:ext cx="2133720" cy="1422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Picture4.jpg"/>
          <p:cNvPicPr/>
          <p:nvPr/>
        </p:nvPicPr>
        <p:blipFill>
          <a:blip r:embed="rId2"/>
          <a:stretch/>
        </p:blipFill>
        <p:spPr>
          <a:xfrm>
            <a:off x="5257800" y="4876920"/>
            <a:ext cx="21747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flic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Definition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A struggle or problem characters f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External conflict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Takes place between a character and an outside force, such a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nother charact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ociet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Natu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Internal conflict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A struggle a character experiences between his/her own feelings, desires, or belief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1" name="Picture 3" descr="conflict.jpg"/>
          <p:cNvPicPr/>
          <p:nvPr/>
        </p:nvPicPr>
        <p:blipFill>
          <a:blip r:embed="rId1"/>
          <a:stretch/>
        </p:blipFill>
        <p:spPr>
          <a:xfrm>
            <a:off x="5334120" y="3048120"/>
            <a:ext cx="234468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lot, Structure, and Genr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21333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Perpetua"/>
              </a:rPr>
              <a:t>Plot Definition</a:t>
            </a:r>
            <a:r>
              <a:rPr b="0" lang="en-US" sz="4800" spc="-1" strike="noStrike">
                <a:solidFill>
                  <a:srgbClr val="000000"/>
                </a:solidFill>
                <a:latin typeface="Perpetua"/>
              </a:rPr>
              <a:t>:  The sequence of interrelated events in a story</a:t>
            </a: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2:58:55Z</dcterms:created>
  <dc:creator>setupuser</dc:creator>
  <dc:description/>
  <dc:language>en-US</dc:language>
  <cp:lastModifiedBy>jhammond</cp:lastModifiedBy>
  <dcterms:modified xsi:type="dcterms:W3CDTF">2015-08-28T15:17:10Z</dcterms:modified>
  <cp:revision>67</cp:revision>
  <dc:subject/>
  <dc:title>Characterization</dc:title>
</cp:coreProperties>
</file>