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7CC-CB94-43D9-ABE6-1BF60113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3FA-AAEF-42B1-AED2-B02C2E1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522-24B1-47AF-99AF-EC08C209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1FE-BE71-4B90-8471-36767FEE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E067-FAB3-4846-8C96-7F74CAC5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ACE7-21AB-4720-BC5E-E342752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4ABA-B89D-4876-A732-DD4FA80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4DE4-7412-4519-B200-19B585D6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C83A-3577-42E6-9BD3-4676A58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990-D4A6-4A69-8B52-36812BC2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A925-472D-466B-A431-69A3BCCF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F6E-D3D9-4B91-9AB1-198315FA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C3BD-BBBB-4475-BA73-73D4140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7397-FAB9-4E73-8CAE-8511F78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ECFA-7144-4994-B477-746585A3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BDD5-82E2-4165-B9D4-44DFE750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F092-7D01-42DB-B437-B509C8C8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E821-50E0-4A55-9EA8-DE427040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88D1-0831-495B-B42C-0856DE3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819F-4917-465B-9B15-6D24247A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C1C8-103A-44BC-9FB2-E31560B5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A958-FAE7-4156-8585-6033D913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9C3-F88A-45AE-99AE-2B4E162F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39D4-D889-4498-B5FD-1B9305A8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903A-2298-4D1F-A909-1562085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8DBB-C920-4FAF-A32C-8DF1053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A3CB-D3FA-498E-AB6B-0FB61D6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8103-8CA3-4E55-B5AA-8827026C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EA98-3CD0-4152-83BB-AD23E4C4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660F-3139-4D08-9403-CBEF3AA5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8B46-0A72-4F57-9B5F-3D4ABBCD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62B9-89AF-4875-8F35-554CB463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6D5C-E3AE-45D5-A6EE-34C287FE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0B2-5798-4878-AC22-DB98E8CB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C05A-A8B8-4B26-A08D-3EE2D9C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C829-35C1-4791-AEC8-90A26FE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046F-D4C5-42EE-8E25-C6E41AFD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99AC-5B3B-4EE9-9B71-0BB6A46E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BBC0-3D22-4A16-BC6D-B0D6819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FF2B-61D7-425E-99E9-2EE1282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50C1-42B6-46E9-B3F0-FAEDA1CD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2148-9BBC-4FAC-9467-06C70DE8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A851-C4DB-4409-AE2C-6DA4C71F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5AC4-BD09-4D3D-9C8E-DE795DD6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12F-4DCE-40FE-A5AD-4DE935E4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F66F-7F68-469D-A780-0C744A8C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DBB8-853F-4952-A05A-A78C9828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9F8B-7E63-4018-91CB-AF8339A3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B54B-E546-4DA5-93C3-EED046E7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E848-1FB3-44EC-8445-0DC6A4C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FE94A-C684-41B4-A3CA-FF6F694D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F109-89BE-4F10-ABB1-D33DF8D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5F77-7DC3-44C8-AF8C-018641F7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174D6-0EAE-4B4C-8B92-7FC07228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F4F2-736D-4B5F-AF8B-01C13CB6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A4B-985C-4503-A05E-C19E74A6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8F86-287B-4906-BB81-840E335F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099D-93B5-4558-B20C-E2625A5A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71357-3D24-43C3-B53F-EB78FB65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2FA72-75C6-40C3-BCE4-1ED43B09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6B8C-3458-4D2E-A07F-00995971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5291-2119-4F8E-A62A-C17FB352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91D1E-7191-4F7F-B2B6-128C0EB9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BBBB8-7D49-4EE2-8087-A259CD7B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872B-F7FA-484A-8371-23EC9B5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A11E-F175-4A5C-A107-083641D0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670-4EB9-4F2C-B493-044554D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9D66-2B02-435C-B207-CD5F2481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054E-A5E2-430E-A809-CD57BD07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5C028-F12E-4799-BB2A-DA277565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47506-9BB1-4011-BDE4-9FED99E4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5EEE-F5F1-41BF-A50B-28037D99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ACB0-F340-4370-AABC-ECEA43D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58A4D-ED72-4A32-AFBA-03107BD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474C-8DC2-4567-8FC5-02F5AD18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4353-6A59-4F7A-AC7A-4F76813D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370A9-8937-43A5-A9B7-9D189CB1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0AE-5EC4-4D86-B282-854B990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CFE1-C93D-4B92-B6EF-DCAD5F4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2BB6D-BA72-4E0F-BDAE-CF351AC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268E-4894-4F5D-A157-DD348F9C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E889-787D-4D41-A2CA-2B8842C8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3D607-F4FD-4628-9A69-991AE9B7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FF2-EE95-47A3-86C3-90A54DF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F751-73CE-4027-B85F-0795E78C5F7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018-AD86-4E5C-B3F4-7B55415B79C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D32D-9F70-415F-8C2E-051599B782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2E27-ED54-4A79-8AA3-172763BE9B5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A902-DDEE-4909-BA1F-55684D14E88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740-7A97-46C9-8397-E0C26AAAE47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962-0E23-42A7-9325-D0319DF8E58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nit 4: To what extend does experience determine what we perceive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C:\Users\jhammond\AppData\Local\Microsoft\Windows\Temporary Internet Files\Content.IE5\96OK9KJ0\gif_9_drama_masks[1].gif"/>
          <p:cNvPicPr/>
          <p:nvPr/>
        </p:nvPicPr>
        <p:blipFill>
          <a:blip r:embed="rId2"/>
          <a:stretch/>
        </p:blipFill>
        <p:spPr>
          <a:xfrm>
            <a:off x="3048120" y="762120"/>
            <a:ext cx="3049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a story that is written as a script and intended for performance by acto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other narratives, a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ortray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haracte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aught up i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struggles that characters face in a drama spark a sequence of events, call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plo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hich eventually reache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limax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 point of highest intensity in the action.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esolu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or settling of the conflict, allows the story to wind down and leads to the drama’s conclus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914400" y="1523880"/>
          <a:ext cx="7772400" cy="480708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laywr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th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central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ess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bout life explored by the playwright 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cts and Sc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basic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ivis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 (like chapters in books or stanzas in poet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29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tage Dir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Notes that tell how a play should b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erform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tag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; stage directions may include information such 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ackground about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et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tell how the actors should move or sp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etails abou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cene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lighting,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ostu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914400" y="838080"/>
          <a:ext cx="7772400" cy="4876920"/>
        </p:xfrm>
        <a:graphic>
          <a:graphicData uri="http://schemas.openxmlformats.org/drawingml/2006/table">
            <a:tbl>
              <a:tblPr/>
              <a:tblGrid>
                <a:gridCol w="1447920"/>
                <a:gridCol w="63244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defined area in which the play’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ccurs; the physical elements placed on the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ro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ov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bject used to ad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realis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o the action in a p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traces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ownfa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who is often called th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Usually an important figure (such as a king or general) who 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dmir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is defeated by his/h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mistake or charact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ef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leads to a tragic hero’s downfal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914400" y="380880"/>
          <a:ext cx="7772400" cy="6019920"/>
        </p:xfrm>
        <a:graphic>
          <a:graphicData uri="http://schemas.openxmlformats.org/drawingml/2006/table">
            <a:tbl>
              <a:tblPr/>
              <a:tblGrid>
                <a:gridCol w="1600200"/>
                <a:gridCol w="6172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8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has 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happ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ending for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ialog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words spoken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betwee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aracte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o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group of actors on stage who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bse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nd comment on the action but do not participate in it. In some modern dramas, a singl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narrat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may replace the chor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2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long speech th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character deliver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other charac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oliloq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speech in which a character,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lon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“thinks aloud” and reveals private thoughts and true motiv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remark that a character mak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th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die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th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other characters do not h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miliar 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1760" y="1371240"/>
            <a:ext cx="79246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he following are other essential 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elements of drama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, with which you should already be familiar from our work with other literary genr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Ex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In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Characterization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(direct and indirect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Motivation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Round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Flat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Dynam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Stat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If you are unfamiliar or unsure of any of these terms, please say so now!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9:28Z</dcterms:created>
  <dc:creator>jhammond</dc:creator>
  <dc:description/>
  <dc:language>en-US</dc:language>
  <cp:lastModifiedBy>jhammond</cp:lastModifiedBy>
  <dcterms:modified xsi:type="dcterms:W3CDTF">2015-01-28T13:02:04Z</dcterms:modified>
  <cp:revision>4</cp:revision>
  <dc:subject/>
  <dc:title>Elements of drama</dc:title>
</cp:coreProperties>
</file>