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262-A905-430E-A9E4-756CE62C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521-909F-41AE-B13E-310AAD65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508-D76D-4A2E-A631-7B26BD34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B08-D578-4C1C-9849-E1E13A51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C2EC-78A8-4CFF-B8DD-C31B99C7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847F-0617-458A-A1F7-6E88FD43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FEA1-A8AD-49EC-B3F0-3A053AC5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87EE-2E32-42B2-8FB7-00040B52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EE0C-79EE-4AF8-B3BA-8089E97D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B796-380C-4A55-9428-32C17F9D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18F3-10D8-4834-B814-1D7C592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C42-8D3A-4EC0-8753-53ADF5E2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4B16-4387-4FA1-B171-32E4E2E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F676-06B2-47DB-AAFC-37B758A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480-C0F2-4EE9-9C71-696D9470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22BD-FD50-4FD0-BED1-A4F3B107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8B83-1349-4C91-A25E-050BCADE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21EFB-C1E3-4F1B-BDBB-F82BF47F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1AB5-B731-4BED-BB65-BBA8AAF0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CEF1F-F7E6-4AD1-AA9F-5D8D4F21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53BE-941C-4959-B73E-AB5268B3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F37F-4C0E-45C6-B72A-00D681BA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835-CF0E-43C1-A368-370DF1EB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8C38-A25A-4C38-9965-812A444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644E-35AB-4EF7-9279-CDE9A69E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D1F0-44FF-43D8-A1BD-C27406AE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58C6-D2C7-4834-8B86-40945D2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5C14-DB68-4E52-A275-47F57F8B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FBF4-F580-45E2-9E43-741FDEE3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41E58-71B6-4714-9052-303E1A7C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93A5-B1B4-4AC7-A0C8-9EA4301E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3A026-25AF-4534-876A-D1A51C0C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B64FC-3605-4E71-AF38-07C44EED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B56-CF52-4D70-AE8E-E2F4E1FC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1935-8A27-47B4-B219-2B176239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3F1D-4B69-4EFA-9E09-B80C8176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589B-0F48-4304-940F-043891A8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DD80-8423-4599-AECE-4A2776CE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C4657-67A5-40E5-8837-0F023D9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6404-AE32-4D19-ABFE-C5C571F6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331B-B2C4-4F0F-B3C9-770836D0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7671-F7DB-416E-83F2-7C643755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2620A-29CB-4B46-A7A3-95F936A9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83C9E-F46E-401B-ADC7-CF741AE5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785-1983-488E-AF61-6AED6BE6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FB33-A8D3-4CD1-99BC-3CA83CB7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30913-78B3-4DC9-8717-36A3DCC5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F4C0-B0EF-4BD7-BDB9-FAE654C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90DBB-E20C-4144-BDFC-E415642B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6E7F-3D19-4133-80C0-017325B3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68880-E40C-4B2B-9456-043DA5F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E4C2D-C242-4591-8CF1-090B4969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7565-DB7A-4859-B150-2847980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CEE1D-4F3E-4CA8-AFED-53D24087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DB04-4954-491C-806C-5F81375C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810-7574-47B8-AAFE-B2BC45B8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9307-189D-4EDD-8F1A-90F6FCDA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6B78F-39FA-4A1A-8E73-022614CD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DD2D1-4D84-4648-A64B-0D25A5DF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75F8D-8EBD-4F6C-AC07-031B9779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0AF18-C981-4B91-A367-41371700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925C3-891B-48F6-A22F-3776ABAC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471B-3E5E-4BC1-B2DB-88BAD259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48905-94EA-4AF1-8E83-0459249D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21800-6335-414B-B4A3-7DCCD46F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A9B8-1DC6-4678-9E12-28AF4066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E50-6985-4185-B78E-C827F535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2B0DF-2E7B-4102-B40C-E3E6D77E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FA606-B937-4D1E-A076-2486F69E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B6016-6630-4767-8D61-F020926A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DC1D-A57B-4A96-9339-80D7E1F7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FB9C9-1F29-4537-84D1-B4C3A340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E2A5B-B127-48E4-9EC6-B0FC810C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0E283-E4AF-4CA4-B038-5FC91D80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4F116-F221-424F-B1D1-4770E663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63225-3390-46EB-BDCF-A44467F1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15A8D-A584-451C-BD24-38BBAAD1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2EB-C2A8-401A-B118-76CFCC92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804BF-E79C-475E-B9D1-CC1F7A8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3B80E-EAF3-43C4-A9AA-405D05F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61782-A395-4A17-BDB8-92012BE5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84375-902F-44C8-898E-187B890B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97199-EF6A-4957-8EA4-DABD1571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0F3-68AE-4335-9C61-CFD3231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E507-E37A-4A5B-941D-59100A8F2DF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66E9-CD06-4D0C-A92C-B723D97516E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85FB-0E79-4F14-85FB-B0D55DF2FF1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4A3C-6BB9-4794-88EF-C25BE900DA6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C349-42C5-458C-8D79-8BE4DF0D9A2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D0C-BA09-4AF8-B4E6-C77F1EB3D43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EB76-4876-4F5A-B3C1-DB41E6936F9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nit 4: To what extend does experience determine what we perceive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2" descr="C:\Users\jhammond\AppData\Local\Microsoft\Windows\Temporary Internet Files\Content.IE5\96OK9KJ0\gif_9_drama_masks[1].gif"/>
          <p:cNvPicPr/>
          <p:nvPr/>
        </p:nvPicPr>
        <p:blipFill>
          <a:blip r:embed="rId2"/>
          <a:stretch/>
        </p:blipFill>
        <p:spPr>
          <a:xfrm>
            <a:off x="3048120" y="762120"/>
            <a:ext cx="3049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914400" y="609480"/>
            <a:ext cx="777240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i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a story that is written as a script and intended for performance by acto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ke other narratives, a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ram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ortray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haracte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aught up i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onflic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 The struggles that characters face in a drama spark a sequence of events, called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plo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which eventually reaches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limax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the point of highest intensity in the action.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resoluti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or settling of the conflict, allows the story to wind down and leads to the drama’s conclus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914400" y="1523880"/>
          <a:ext cx="7772400" cy="480708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laywr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th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6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central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ess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bout life explored by the playwright 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82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cts and Sce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basic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ivis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a drama (like chapters in books or stanzas in poet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29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tage Dire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Notes that tell how a play should b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erform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tag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; stage directions may include information such 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Background about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et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Instruc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tell how the actors should move or sp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etails abou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scene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lighting, an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costu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914400" y="838080"/>
          <a:ext cx="7772400" cy="4876920"/>
        </p:xfrm>
        <a:graphic>
          <a:graphicData uri="http://schemas.openxmlformats.org/drawingml/2006/table">
            <a:tbl>
              <a:tblPr/>
              <a:tblGrid>
                <a:gridCol w="1447920"/>
                <a:gridCol w="63244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defined area in which the play’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ccurs; the physical elements placed on the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rop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mov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bject used to add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realis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o the action in a p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traces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ownfa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f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who is often called th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He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Usually an important figure (such as a king or general) who is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dmirab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is defeated by his/h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0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ragic Fla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mistake or character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def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that leads to a tragic hero’s downfal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914400" y="380880"/>
          <a:ext cx="7772400" cy="6019920"/>
        </p:xfrm>
        <a:graphic>
          <a:graphicData uri="http://schemas.openxmlformats.org/drawingml/2006/table">
            <a:tbl>
              <a:tblPr/>
              <a:tblGrid>
                <a:gridCol w="1600200"/>
                <a:gridCol w="6172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er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8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ome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drama that has a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happ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ending for th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protagon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Dialog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he words spoken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betwee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aracter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in a dra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hor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group of actors on stage who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bser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and comment on the action but do not participate in it. In some modern dramas, a single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narrat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may replace the choru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2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Monolog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long speech that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character deliver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other charact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oliloq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speech in which a character,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lon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on stag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, “thinks aloud” and reveals private thoughts and true motiv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8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s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A remark that a character mak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to the </a:t>
                      </a: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audien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 but that th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other characters do not he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miliar Drama Ter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61760" y="1371240"/>
            <a:ext cx="79246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he following are other essential 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elements of drama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, with which you should already be familiar from our work with other literary genr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Ex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Internal conflict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Characterization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(direct and indirect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Motivation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Round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Flat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Dynam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-Static character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If you are unfamiliar or unsure of any of these terms, please say so now! </a:t>
            </a:r>
            <a:r>
              <a:rPr b="0" lang="en-US" sz="23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2:29:28Z</dcterms:created>
  <dc:creator>jhammond</dc:creator>
  <dc:description/>
  <dc:language>en-US</dc:language>
  <cp:lastModifiedBy>jhammond</cp:lastModifiedBy>
  <dcterms:modified xsi:type="dcterms:W3CDTF">2015-01-28T13:02:04Z</dcterms:modified>
  <cp:revision>4</cp:revision>
  <dc:subject/>
  <dc:title>Elements of drama</dc:title>
</cp:coreProperties>
</file>