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D22-7FE3-4C8A-9BB6-DAFFB758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76C-1966-4612-909B-FB56B523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589-C6D6-4243-8AAF-35CA3F97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11A3-DA5A-4A8F-BF7C-595DCC6A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A962-8F99-40E1-9120-6DE8DF09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5CFE-9B4E-44E5-A658-AD2D449D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711E-D5DB-43AC-9630-9742E0F8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F04A-6EAE-482F-B622-3E3D0718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4B34-2D07-4F62-A34A-BD39F30D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D9F7-A62D-41EB-BACA-FB992F7C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D8F3-CDB9-49D8-9D32-C96B6242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907-0AF6-4EB2-B196-4663D6EB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D9BF-B680-4FAB-8B90-F572C573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19CC-C171-4F08-A863-EBAF01AB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C0B2-BD8E-40F6-B90A-04AEEE23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4F2A-C1A5-446E-86C4-F9C6A4FD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BF56-C8D2-45B3-A869-3137BD02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BFECD-2F23-470F-B1FA-78CA5BCD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68B1-D6C8-41ED-9B6C-F9FD6C21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F8FF7-FC4E-4C6B-9707-DE1261E9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E3C6-CF64-4B45-BD1F-BE674ACE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0E599-4824-4CFD-BE8F-4FD33FE2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7BF-19B7-46EA-B528-49D30DB5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E0B1D-7573-4864-A77E-1A10F673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2380-5FC0-454A-B1C7-FC8508C9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BB3A2-6BB0-493B-9956-CBFDBCA3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D76D4-E661-405D-A749-EBFE04AA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A619F-41DE-4F4D-89F5-4970F4CA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C9F9F-6FC3-4083-A9C8-AF1CDEB5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A586E-5D33-4971-A04C-04F28932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BE19D-83A2-4300-B891-E890C4F9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3F960-C41D-422F-A80D-E2E58BEE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40DBC-7FB7-467F-890F-B363CF9D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B37-4CA9-4B75-8F55-BF0BBF9F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A8938-637F-48C4-B480-653BE49E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A6C49-1357-4846-8821-B1BF1E5F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B4D4F-0061-44D3-804B-1292D229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911A2-68D3-43DC-B109-4CFD4E0F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58C48-0FF6-42BD-A021-6E9085B9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D332A-1DEA-4E28-8CEC-A97EAB42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B3740-5D3C-443A-A557-DDF9BCDA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6B09E-68C1-447D-9E9D-BE6DA428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1AFB7-2F05-4470-8FF6-D6733193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A4C79-542E-4AB2-9FDC-EE9E4D66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80A-5454-4BE1-85A8-814B29EA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4BC53-30D5-4B66-8961-2B0CB295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E912E-40FE-44F0-B21E-662AE85B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F750D-118F-48DF-A21A-5269CD50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25199-1E5E-4FD9-A2C4-F4D91F68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5F760-2EA6-4CF8-8BD4-9697D792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B61E0-8D2C-4649-BF5D-0374E0FC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C587A-8E33-45B6-A8FD-7A56045E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BBA2C-CDD4-4AED-96C2-5FB04393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675A9-57A7-47D6-8043-5582A9D1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42EA2-62BF-406C-8682-4FD4CDB1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1EC-2D10-4C2E-9170-407B19FF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322DF-FC5F-4D03-AD38-B66F4D9E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F59FA-3A2D-4069-A794-C8B38FB1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177A2-C891-4F0D-BAD4-5494FEDA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7AA4F-914E-453C-8BB1-FDC1AE66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67450-0621-4030-B4CC-E8D15DB2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63A80-5116-4A06-85B0-A7908390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42279-C72F-4836-93A4-ED9D3EE8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B84BE-36EB-4D99-AE9F-A748E641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D2AC5-0D1A-44F6-BA0C-A2F90E04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F8A25-10BB-444D-B51A-2161494F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C49-D69E-4C84-8E45-5CF1D59E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8E223-DDB5-4AA5-8ED2-54A60A09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5CA9C-F6E3-44D0-8BDD-602003FB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9C5E8-8555-4173-BEB8-2FBA1864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31CFD-6088-4216-9225-D8D365AE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A7140-6648-4E89-9B77-5AEA5E24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B39D1-BBA4-4668-B168-9C685305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3E182-9106-4AD3-AFB1-0BB78E97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921E3-DBE8-4A0B-B422-4D61B91C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11120-D32A-41FF-AC60-66343413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CE98C-5D8B-491D-A874-1F6B9188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004-42F0-447C-86F7-1C919F63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4FC71-FBD6-4D03-B391-EA179257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30BEE-DBF4-411D-A1A7-0827EE7F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976BD-EAB7-4AA9-8BBD-91EF9433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3FF27-4D4A-468F-B124-656726DE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8B0BC-385B-430D-8A9F-98021F27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72D-4B79-4740-9D75-6A1BD0F1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7B6B-1028-441C-85C9-9B5189D39CC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2E4F-472E-42EB-8769-D5AC6219880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FC85-440F-47B4-B5D0-5395DE09142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0B07-A95D-40C3-86A6-3FD4382A539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4020-EC51-47C4-BFD3-A5B0B8BD96F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6C22-21B8-40CA-8BB1-92CAD7A00A3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13D8-A7FF-4EC9-B096-2C24AE1EEE4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Unit 4: To what extend does experience determine what we perceive?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2" descr="C:\Users\jhammond\AppData\Local\Microsoft\Windows\Temporary Internet Files\Content.IE5\96OK9KJ0\gif_9_drama_masks[1].gif"/>
          <p:cNvPicPr/>
          <p:nvPr/>
        </p:nvPicPr>
        <p:blipFill>
          <a:blip r:embed="rId2"/>
          <a:stretch/>
        </p:blipFill>
        <p:spPr>
          <a:xfrm>
            <a:off x="3048120" y="762120"/>
            <a:ext cx="3049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914400" y="609480"/>
            <a:ext cx="7772400" cy="57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rama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i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a story that is written as a script and intended for performance by actor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ke other narratives, a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rama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ortray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haracter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aught up in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onflic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 The struggles that characters face in a drama spark a sequence of events, called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plo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which eventually reaches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limax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the point of highest intensity in the action.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resolutio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or settling of the conflict, allows the story to wind down and leads to the drama’s conclus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ama Ter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914400" y="1523880"/>
          <a:ext cx="7772400" cy="4807080"/>
        </p:xfrm>
        <a:graphic>
          <a:graphicData uri="http://schemas.openxmlformats.org/drawingml/2006/table">
            <a:tbl>
              <a:tblPr/>
              <a:tblGrid>
                <a:gridCol w="1981080"/>
                <a:gridCol w="579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Playwr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uth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6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central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ins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messag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about life explored by the playwright in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82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cts and Sce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basic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ivis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a drama (like chapters in books or stanzas in poet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29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tage Dire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Notes that tell how a play should b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erform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tag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; stage directions may include information such a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Background about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et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Instruc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hat tell how the actors should move or spe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Details abou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cener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lighting, and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costu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914400" y="838080"/>
          <a:ext cx="7772400" cy="4876920"/>
        </p:xfrm>
        <a:graphic>
          <a:graphicData uri="http://schemas.openxmlformats.org/drawingml/2006/table">
            <a:tbl>
              <a:tblPr/>
              <a:tblGrid>
                <a:gridCol w="1447920"/>
                <a:gridCol w="63244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91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e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defined area in which the play’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ccurs; the physical elements placed on the st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Prop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mova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bject used to add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realis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o the action in a pl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e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drama that traces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ownfa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rotagon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who is often called th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h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H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Usually an important figure (such as a king or general) who i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dmira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but is defeated by his/h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f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0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F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mistake or characte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efe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hat leads to a tragic hero’s downfal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914400" y="380880"/>
          <a:ext cx="7772400" cy="6019920"/>
        </p:xfrm>
        <a:graphic>
          <a:graphicData uri="http://schemas.openxmlformats.org/drawingml/2006/table">
            <a:tbl>
              <a:tblPr/>
              <a:tblGrid>
                <a:gridCol w="1600200"/>
                <a:gridCol w="617220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8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ome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drama that has a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happ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ending for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rotagon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8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Dialog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words spoken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between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haracter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in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ho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group of actors on stage who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obser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and comment on the action but do not participate in it. In some modern dramas, a singl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narrat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may replace the choru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02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Monolog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long speech tha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character deliver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o other charact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n st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oliloqu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speech in which a character,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lone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n stag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“thinks aloud” and reveals private thoughts and true motiv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8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s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remark that a character mak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o the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udien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but th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other characters do not h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miliar Drama Ter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61760" y="1371240"/>
            <a:ext cx="79246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The following are other essential 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elements of drama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, with which you should already be familiar from our work with other literary genres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External conflict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Internal conflict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Characterization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(direct and indirect)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Motivation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Round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Flat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Dynamic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Static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If you are unfamiliar or unsure of any of these terms, please say so now!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2:29:28Z</dcterms:created>
  <dc:creator>jhammond</dc:creator>
  <dc:description/>
  <dc:language>en-US</dc:language>
  <cp:lastModifiedBy>jhammond</cp:lastModifiedBy>
  <dcterms:modified xsi:type="dcterms:W3CDTF">2015-01-28T13:02:04Z</dcterms:modified>
  <cp:revision>4</cp:revision>
  <dc:subject/>
  <dc:title>Elements of drama</dc:title>
</cp:coreProperties>
</file>